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955-CCB2-476A-BCAC-9CCBB7A2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D07-55B7-494F-87D9-4C5009D2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3BD-FA5D-4C29-8BA8-CDCB611F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C84-0F1B-4248-BB63-D3A69DE5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A2F-9813-4DA7-8A91-451AD574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924-E667-4A5E-98B6-68189A07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EB8-3B2C-4892-96DE-08DFA15F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87E-803D-427B-8BE1-60628C82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F09-99C0-4198-A960-63FE1D85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20B-AC92-4C24-A1D3-137416F1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CD2-8F14-4F59-9B80-E68BCA8A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6B6-E948-4279-ADA0-5BC39F6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CD9B-71C5-405B-890A-BFD80AA4533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 unife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81080" y="1295280"/>
            <a:ext cx="53341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Università degli Studi di Ferr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Facoltà di Scienze MM.FF.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CdL in Tecnologie Fisich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352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666"/>
                </a:solidFill>
                <a:latin typeface="Arial"/>
              </a:rPr>
              <a:t>Titolo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2767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Studente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Tutor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095880" y="32767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4343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5181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TITOLO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 unife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5248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666"/>
                </a:solidFill>
                <a:latin typeface="Arial"/>
              </a:rPr>
              <a:t>Tit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6553080"/>
            <a:ext cx="71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c0c0c0"/>
                </a:solidFill>
                <a:latin typeface="Tahoma"/>
              </a:rPr>
              <a:t>Corso …………………………………………… – Tecnologie Fisiche Innovative - UN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17:26Z</dcterms:created>
  <dc:creator>Daniela</dc:creator>
  <dc:description/>
  <dc:language>en-US</dc:language>
  <cp:lastModifiedBy>nicola</cp:lastModifiedBy>
  <dcterms:modified xsi:type="dcterms:W3CDTF">2012-01-28T16:25:00Z</dcterms:modified>
  <cp:revision>4</cp:revision>
  <dc:subject/>
  <dc:title>Presentazione di PowerPoint</dc:title>
</cp:coreProperties>
</file>