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B80-7F8E-4441-B3EE-D943BE30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DCFD-CBC3-45C0-BF47-96BDAC12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8996-5CA9-446F-BEB5-2738DFC1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FBD2-DDDE-493D-8634-FBDD23BF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CFE-859C-43B1-8A38-776DE346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369A-F887-4D81-8B30-57168E76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84F-5620-4777-B319-680D300E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4C7E-594F-4D8F-9921-83DBDEF7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BF3E-56C6-41C3-8E73-DB7B8739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AE29-F026-4E9B-B73C-057373F4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64FA-5DE3-4D14-B12A-33666700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3B6-BBCB-4FE4-8DC6-CA96A235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9FAE-46A5-43E9-82D4-286866C7A94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lide unife1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981080" y="1295280"/>
            <a:ext cx="533412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Università degli Studi di Ferr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Facoltà di Scienze MM.FF.N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CdL in Tecnologie Fisich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3520" y="2514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666"/>
                </a:solidFill>
                <a:latin typeface="Arial"/>
              </a:rPr>
              <a:t>Titolo del Co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90720" y="3276720"/>
            <a:ext cx="3809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666"/>
                </a:solidFill>
                <a:latin typeface="Verdana"/>
              </a:rPr>
              <a:t>Studente:</a:t>
            </a: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666"/>
                </a:solidFill>
                <a:latin typeface="Verdana"/>
              </a:rPr>
              <a:t>Tutor:</a:t>
            </a: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095880" y="32767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Prof.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Prof.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28600" y="43434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666"/>
                </a:solidFill>
                <a:latin typeface="Arial"/>
              </a:rPr>
              <a:t>AZ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28600" y="5181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666"/>
                </a:solidFill>
                <a:latin typeface="Arial"/>
              </a:rPr>
              <a:t>TITOLO PROG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lide unife2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752480" y="838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666"/>
                </a:solidFill>
                <a:latin typeface="Arial"/>
              </a:rPr>
              <a:t>Tit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90720" y="6553080"/>
            <a:ext cx="716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c0c0c0"/>
                </a:solidFill>
                <a:latin typeface="Tahoma"/>
              </a:rPr>
              <a:t>Corso …………………………………………… – Tecnologie Fisiche Innovative - UNIF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2:17:26Z</dcterms:created>
  <dc:creator>Daniela</dc:creator>
  <dc:description/>
  <dc:language>en-US</dc:language>
  <cp:lastModifiedBy>nicola</cp:lastModifiedBy>
  <dcterms:modified xsi:type="dcterms:W3CDTF">2012-01-28T16:25:00Z</dcterms:modified>
  <cp:revision>4</cp:revision>
  <dc:subject/>
  <dc:title>Presentazione di PowerPoint</dc:title>
</cp:coreProperties>
</file>