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3FF-9422-42D8-9E3D-B80A9234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7B0-3169-4E54-8A24-0830DF5B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76A-C199-44A4-9251-C1A589F5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AA9C-7DF5-40C8-9035-80A00D00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3F5-7184-4BBC-86FF-95476B71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5B7A-D870-4B90-B308-529C9C10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8D5-D383-4401-A4DB-BD82757B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CEB-9612-4C4A-A545-13B973CC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8A5-DFD4-458C-B635-5A5AF75E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C31-BB33-493B-8ADA-0A0CC2CC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A0D-F498-4059-978D-F4D0B5D3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548-C35B-4956-BCFC-8C3A5A83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AF7E-E6F6-473A-A92B-B0574A4B4A7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lide unife1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81080" y="1295280"/>
            <a:ext cx="533412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Università degli Studi di Ferr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Facoltà di Scienze MM.FF.N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CdL in Tecnologie Fisich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3520" y="2514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666"/>
                </a:solidFill>
                <a:latin typeface="Arial"/>
              </a:rPr>
              <a:t>Titolo del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90720" y="3276720"/>
            <a:ext cx="3809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Studente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Tutor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095880" y="32767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28600" y="4343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AZ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28600" y="5181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TITOLO PROG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lide unife2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75248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666"/>
                </a:solidFill>
                <a:latin typeface="Arial"/>
              </a:rPr>
              <a:t>Tit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90720" y="6553080"/>
            <a:ext cx="716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c0c0c0"/>
                </a:solidFill>
                <a:latin typeface="Tahoma"/>
              </a:rPr>
              <a:t>Corso …………………………………………… – Tecnologie Fisiche Innovative - UN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2:17:26Z</dcterms:created>
  <dc:creator>Daniela</dc:creator>
  <dc:description/>
  <dc:language>en-US</dc:language>
  <cp:lastModifiedBy>nicola</cp:lastModifiedBy>
  <dcterms:modified xsi:type="dcterms:W3CDTF">2012-01-28T16:25:00Z</dcterms:modified>
  <cp:revision>4</cp:revision>
  <dc:subject/>
  <dc:title>Presentazione di PowerPoint</dc:title>
</cp:coreProperties>
</file>