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1C3B-7C84-4D2F-BB7C-AB84ABA2C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E9C3-F395-45DF-8D9F-B6F22623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2F8C-BA45-4BE1-BE27-12F31FD5D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6963-D7EF-425F-97C0-77D0DE462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8CA6-72EE-40F6-8A24-2DB1D999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172A-E2A8-4813-9885-25C5ED7E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68A2-097F-47C1-BD07-32B58C85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E010-5DF8-4EC1-9019-EF38FE32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C7AD-C079-4A75-92FA-7999983D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D473-391A-40B1-9D1E-EE699CDB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8FCE-E70E-4A04-B554-9879FC80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5A44-1AA8-4A32-8958-F9E540D2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6987-EC82-4551-BFD4-3414FC2650A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lide unife1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981080" y="1295280"/>
            <a:ext cx="533412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Università degli Studi di Ferr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Facoltà di Scienze MM.FF.N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CdL in Tecnologie Fisich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33520" y="25146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666"/>
                </a:solidFill>
                <a:latin typeface="Arial"/>
              </a:rPr>
              <a:t>Titolo del Co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990720" y="3276720"/>
            <a:ext cx="38098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666"/>
                </a:solidFill>
                <a:latin typeface="Verdana"/>
              </a:rPr>
              <a:t>Studente:</a:t>
            </a: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 Nome Cog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666"/>
                </a:solidFill>
                <a:latin typeface="Verdana"/>
              </a:rPr>
              <a:t>Tutor:</a:t>
            </a: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 Nome Cog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095880" y="32767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Prof. Nome Cog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Prof. Nome Cog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28600" y="43434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666"/>
                </a:solidFill>
                <a:latin typeface="Arial"/>
              </a:rPr>
              <a:t>AZI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228600" y="51814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666"/>
                </a:solidFill>
                <a:latin typeface="Arial"/>
              </a:rPr>
              <a:t>TITOLO PROGE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lide unife2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752480" y="838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666"/>
                </a:solidFill>
                <a:latin typeface="Arial"/>
              </a:rPr>
              <a:t>Tit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990720" y="6553080"/>
            <a:ext cx="716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c0c0c0"/>
                </a:solidFill>
                <a:latin typeface="Tahoma"/>
              </a:rPr>
              <a:t>Corso …………………………………………… – Tecnologie Fisiche Innovative - UNIF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12:17:26Z</dcterms:created>
  <dc:creator>Daniela</dc:creator>
  <dc:description/>
  <dc:language>en-US</dc:language>
  <cp:lastModifiedBy>nicola</cp:lastModifiedBy>
  <dcterms:modified xsi:type="dcterms:W3CDTF">2012-01-28T16:25:00Z</dcterms:modified>
  <cp:revision>4</cp:revision>
  <dc:subject/>
  <dc:title>Presentazione di PowerPoint</dc:title>
</cp:coreProperties>
</file>