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818438" cy="11058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7766-51C1-40A2-91CA-3A4BCD01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60C-73A5-48E9-8768-6D86CD5B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6FA0-024B-4C69-A4B8-5EE75653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1D67-A77D-4183-A163-C8D87049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359-93A3-4E88-8E7D-C85FB2F2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36F2-1814-417D-B410-B4525C8A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7587-6EFA-4313-85CC-4B54D09A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932-0369-4CB3-8033-A2FE6B15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C934-FAC7-4421-B2B7-48B424FB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AEA6-FD01-46E5-94B0-DA467D8C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82EA-4ACF-491B-BA50-35566D2B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60E1-A189-4C85-8025-E8FC28C4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2EC0-CB52-49D1-91F6-D140EFAFF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roduzione.xls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st su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Campioni Indipendenti 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,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 note – distribuzion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880" y="1695600"/>
            <a:ext cx="531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ahoma"/>
              </a:rPr>
              <a:t>Gradi di libertà.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Se i campioni di dimensioni n1&lt;30, n2&lt;30 provengono da distribuzioni approssimativamente normali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2 non note, la distribuzione t ha i gradi di libertà </a:t>
            </a:r>
            <a:r>
              <a:rPr b="0" i="1" lang="it-IT" sz="1400" spc="-1" strike="noStrike">
                <a:solidFill>
                  <a:srgbClr val="ffffff"/>
                </a:solidFill>
                <a:latin typeface="Tahoma"/>
              </a:rPr>
              <a:t>df.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ove n1 ed n2, s1 ed s2 sono le dimensioni e la deviazione standard dei campioni. Le quantità n1-1 ed n2-1 sono rispettivamente i gradi di libertà del I e e del II campione. Il valore di df si ottiene  per arrotondamento del valore calcolato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880" y="3790800"/>
            <a:ext cx="5327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Deviazione standard di 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1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Poiché le deviazioni standard sono diverse la stima della </a:t>
            </a:r>
            <a:r>
              <a:rPr b="0" lang="it-IT" sz="1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non può essere calcolata dalla deviazione standard campionaria raggruppata, s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p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, e la deviazione standard della differenza fra le medie campionarie s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è data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299280" y="3882960"/>
                <a:ext cx="1914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11120" y="5386320"/>
            <a:ext cx="52405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atistica di test t per 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La statistica di test t è data dalla formula a lato. Nella formula il valore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è sostituito dalla ipotesi nul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987880" y="5405400"/>
                <a:ext cx="2538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978520" y="1859040"/>
                <a:ext cx="25542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760" y="538200"/>
            <a:ext cx="8318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posta alla richiesta di chiar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9120" y="1252440"/>
            <a:ext cx="5970600" cy="23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entilissimo Sig. Zoboli l’operazione di copia incolla fra diapositive successive ha ingenerato la confusione fra le formula per il calcolo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Solo nel caso in cui le deviazioni standard non note siano uguali, è possibile utilizzare la deviazione standard raggruppata, Sp, per la stima della della deviazione standar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Nel caso in cui le deviazioni standard 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ano diverse formula per il calcolo della  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è indicata a lato; formula dove come lei può constatare appaiono le singole varianze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La diapositiva precedente è stata corretta e la frase da sostituire scritta in giallo. La formula di df era errata ed è stata corret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553080" y="1406520"/>
                <a:ext cx="22766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554040" y="3379680"/>
            <a:ext cx="81691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cercare di chiarire la differenza fra campioni provenienti da popolazioni con uguale o diversa deviazione standard le ho preparato un esempio di applicazione sui controlli di qualità sulla produzione industriale che troverà nella diapositiva seguente e nella cartella Excel allegata. Il problema richiede di valutare se due macchine operatrici – denominate A e B -  hanno lo stesso rendimento come numero di pezzi/ora prodotti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 vuole dimostrare che la A ha una produttività più elevata della B,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=0.025, e si pone quale H0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per dimostrare vera l’ipotesi alternativa H1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&gt;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Il test di uguaglianza fra le medie è ad una sola coda (Dx), ed è eseguito supponend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Come avrà modo di di verificare in entrambi i casi H0 è rigettata; tuttavia, questo l’esempio mi permette di mettere a confronto le due condizion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a invito a ripetere il test per diversi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, e la pregherei di distribuire ai suoi colleghi questa no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razie anticipat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75400" y="2655720"/>
            <a:ext cx="2262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  <a:hlinkClick r:id="rId1"/>
              </a:rPr>
              <a:t>Produ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2080"/>
            <a:ext cx="3868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ro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964040" y="654120"/>
          <a:ext cx="3164040" cy="40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4040" y="654120"/>
                    <a:ext cx="316404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rot="16200000">
            <a:off x="7155000" y="299700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-740880" y="2752560"/>
            <a:ext cx="30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=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33360" y="826920"/>
          <a:ext cx="3454560" cy="3846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3360" y="826920"/>
                    <a:ext cx="345456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19200" y="4856040"/>
            <a:ext cx="831852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’analista deve sapere a priori se la deviazione standard è uguale o diversa. Nel caso specifico, se le due macchine operatrici sono state progettate in modo diverso, è opportuno assumer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La diversa deviazione standard comporta un valore minore del numero di libertà, df, un valore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A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inferiore ed, infine, un maggior valore della statistica del te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un numero di gradi di libertà df=16 e df=12 la distribuzione t varia di poco, ed i valori critici di t sono simili (tc=2.120 e tc=2.179). Tuttavia, la differenza fra  St.Test e tc è nettamente maggiore nel cas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rendendo molto più affidabile il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19:21:52Z</dcterms:created>
  <dc:creator>cb</dc:creator>
  <dc:description/>
  <dc:language>en-US</dc:language>
  <cp:lastModifiedBy>Bonifazzi</cp:lastModifiedBy>
  <dcterms:modified xsi:type="dcterms:W3CDTF">2005-03-29T14:55:46Z</dcterms:modified>
  <cp:revision>577</cp:revision>
  <dc:subject/>
  <dc:title>Statistica</dc:title>
</cp:coreProperties>
</file>