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818438" cy="11058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B42286-626E-4495-BD77-9FA4D322A9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B30FF-DE15-4B34-9828-B8124DE5C6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61D59-5613-4AE7-B0DF-CB9AF4D543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B043C-2C87-4E91-A4E5-BA45BEB48D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7C257-18EB-4636-B4F8-9786BE0BBD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16EBC-3F68-4C3C-A384-A10539DEDF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F8954-7A71-4A21-B2B4-D57A16EB1B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23976A-A6B2-4434-B099-4F68D8928F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4F9E9-4F34-4632-B6E3-F48CB6CA54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95F9B-B1C1-4AAB-806A-305DB4E51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2FB5C-CC27-41DE-99A2-A8C6F49CF4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F2439-96B3-4308-AD91-3B69566D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F9F53E-952F-4C8A-8D8A-02E05A083E1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file:///Produzione.xls" TargetMode="External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1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2.wmf"/><Relationship Id="rId5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82072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Test su 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</a:t>
            </a:r>
            <a:r>
              <a:rPr b="0" i="1" lang="en-US" sz="36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36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3600" spc="-1" strike="noStrike">
                <a:solidFill>
                  <a:srgbClr val="ffffff"/>
                </a:solidFill>
                <a:latin typeface="Tahoma"/>
              </a:rPr>
              <a:t> - Campioni Indipendenti </a:t>
            </a:r>
            <a:br>
              <a:rPr sz="3600"/>
            </a:b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, n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&lt;30 –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en-US" sz="28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non note – distribuzione </a:t>
            </a:r>
            <a:r>
              <a:rPr b="0" i="1" lang="en-US" sz="2800" spc="-1" strike="noStrike">
                <a:solidFill>
                  <a:srgbClr val="ffffff"/>
                </a:solidFill>
                <a:latin typeface="Tahoma"/>
              </a:rPr>
              <a:t>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434880" y="1695600"/>
            <a:ext cx="531180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ff"/>
                </a:solidFill>
                <a:latin typeface="Tahoma"/>
              </a:rPr>
              <a:t>Gradi di libertà.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Se i campioni di dimensioni n1&lt;30, n2&lt;30 provengono da distribuzioni approssimativamente normali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1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2 non note, la distribuzione t ha i gradi di libertà </a:t>
            </a:r>
            <a:r>
              <a:rPr b="0" i="1" lang="it-IT" sz="1400" spc="-1" strike="noStrike">
                <a:solidFill>
                  <a:srgbClr val="ffffff"/>
                </a:solidFill>
                <a:latin typeface="Tahoma"/>
              </a:rPr>
              <a:t>df.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Dove n1 ed n2, s1 ed s2 sono le dimensioni e la deviazione standard dei campioni. Le quantità n1-1 ed n2-1 sono rispettivamente i gradi di libertà del I e e del II campione. Il valore di df si ottiene  per arrotondamento del valore calcolato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34880" y="3790800"/>
            <a:ext cx="5327640" cy="136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Deviazione standard di 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1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-</a:t>
            </a:r>
            <a:r>
              <a:rPr b="1" i="1" lang="it-IT" sz="1400" spc="-1" strike="noStrike" u="sng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1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1" lang="it-IT" sz="1400" spc="-1" strike="noStrike">
                <a:solidFill>
                  <a:srgbClr val="ffff00"/>
                </a:solidFill>
                <a:latin typeface="Tahoma"/>
              </a:rPr>
              <a:t>.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Poiché le deviazioni standard sono diverse la stima della </a:t>
            </a:r>
            <a:r>
              <a:rPr b="0" lang="it-IT" sz="1400" spc="-1" strike="noStrike">
                <a:solidFill>
                  <a:srgbClr val="ffff00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non può essere calcolata dalla deviazione standard campionaria raggruppata, s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p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, e la deviazione standard della differenza fra le medie campionarie s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1-</a:t>
            </a:r>
            <a:r>
              <a:rPr b="0" i="1" lang="it-IT" sz="1400" spc="-1" strike="noStrike" u="sng" baseline="-25000">
                <a:solidFill>
                  <a:srgbClr val="ffff00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00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00"/>
                </a:solidFill>
                <a:latin typeface="Tahoma"/>
              </a:rPr>
              <a:t> è data dalla formul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4" name=""/>
              <p:cNvSpPr txBox="1"/>
              <p:nvPr/>
            </p:nvSpPr>
            <p:spPr>
              <a:xfrm>
                <a:off x="6299280" y="3882960"/>
                <a:ext cx="1914480" cy="88596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45" name=""/>
          <p:cNvSpPr/>
          <p:nvPr/>
        </p:nvSpPr>
        <p:spPr>
          <a:xfrm>
            <a:off x="411120" y="5386320"/>
            <a:ext cx="524052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Statistica di test t per 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-</a:t>
            </a:r>
            <a:r>
              <a:rPr b="1" i="1" lang="en-US" sz="1400" spc="-1" strike="noStrike" u="sng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1" lang="en-US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1" lang="en-US" sz="1400" spc="-1" strike="noStrike">
                <a:solidFill>
                  <a:srgbClr val="ffffff"/>
                </a:solidFill>
                <a:latin typeface="Tahoma"/>
              </a:rPr>
              <a:t>.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 La statistica di test t è data dalla formula a lato. Nella formula il valore 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1-</a:t>
            </a:r>
            <a:r>
              <a:rPr b="0" lang="en-US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ffffff"/>
                </a:solidFill>
                <a:latin typeface="Tahoma"/>
              </a:rPr>
              <a:t>2 è sostituito dalla ipotesi null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6" name=""/>
              <p:cNvSpPr txBox="1"/>
              <p:nvPr/>
            </p:nvSpPr>
            <p:spPr>
              <a:xfrm>
                <a:off x="5987880" y="5405400"/>
                <a:ext cx="2538720" cy="800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t</m:t>
                    </m:r>
                    <m:r>
                      <m:t xml:space="preserve">=</m:t>
                    </m:r>
                    <m:f>
                      <m:num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  <m:r>
                          <m:t xml:space="preserve">−</m:t>
                        </m:r>
                        <m:d>
                          <m:dPr>
                            <m:begChr m:val="("/>
                            <m:endChr m:val=")"/>
                          </m:dPr>
                          <m:e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r>
                                  <m:t xml:space="preserve">μ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e>
                        </m:d>
                      </m:num>
                      <m:den>
                        <m:sSub>
                          <m:e>
                            <m:r>
                              <m:t xml:space="preserve">s</m:t>
                            </m:r>
                          </m:e>
                          <m:sub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sSub>
                              <m:e>
                                <m:acc>
                                  <m:accPr>
                                    <m:chr m:val="¯"/>
                                  </m:accPr>
                                  <m:e>
                                    <m:r>
                                      <m:t xml:space="preserve">X</m:t>
                                    </m:r>
                                  </m:e>
                                </m:acc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sub>
                        </m:sSub>
                      </m:den>
                    </m:f>
                  </m:oMath>
                </a14:m>
              </a:p>
            </p:txBody>
          </p:sp>
        </mc:Choice>
        <mc:Fallback/>
      </mc:AlternateContent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5978520" y="1859040"/>
                <a:ext cx="2554200" cy="12938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rPr>
                        <m:lit/>
                        <m:nor/>
                      </m:rPr>
                      <m:t xml:space="preserve">df</m:t>
                    </m:r>
                    <m:r>
                      <m:t xml:space="preserve">=</m:t>
                    </m:r>
                    <m:f>
                      <m:num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  <m:r>
                                  <m:t xml:space="preserve">+</m:t>
                                </m:r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num>
                      <m:den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1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  <m:r>
                          <m:t xml:space="preserve">+</m:t>
                        </m:r>
                        <m:f>
                          <m:num>
                            <m:r>
                              <m:t xml:space="preserve">1</m:t>
                            </m:r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  <m:r>
                              <m:t xml:space="preserve">−</m:t>
                            </m:r>
                            <m:r>
                              <m:t xml:space="preserve">1</m:t>
                            </m:r>
                          </m:den>
                        </m:f>
                        <m:sSup>
                          <m:e>
                            <m:d>
                              <m:dPr>
                                <m:begChr m:val="("/>
                                <m:endChr m:val=")"/>
                              </m:dPr>
                              <m:e>
                                <m:f>
                                  <m:num>
                                    <m:sSubSup>
                                      <m:e>
                                        <m:r>
                                          <m:t xml:space="preserve">s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  <m:sup>
                                        <m:r>
                                          <m:t xml:space="preserve">2</m:t>
                                        </m:r>
                                      </m:sup>
                                    </m:sSubSup>
                                  </m:num>
                                  <m:den>
                                    <m:sSub>
                                      <m:e>
                                        <m:r>
                                          <m:t xml:space="preserve">n</m:t>
                                        </m:r>
                                      </m:e>
                                      <m:sub>
                                        <m:r>
                                          <m:t xml:space="preserve">2</m:t>
                                        </m:r>
                                      </m:sub>
                                    </m:sSub>
                                  </m:den>
                                </m:f>
                              </m:e>
                            </m:d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den>
                    </m:f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18760" y="538200"/>
            <a:ext cx="8318520" cy="65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Risposta alla richiesta di chiarime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519120" y="1252440"/>
            <a:ext cx="5970600" cy="23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entilissimo Sig. Zoboli l’operazione di copia incolla fra diapositive successive ha ingenerato la confusione fra le formula per il calcolo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Solo nel caso in cui le deviazioni standard non note siano uguali, è possibile utilizzare la deviazione standard raggruppata, Sp, per la stima della della deviazione standar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Nel caso in cui le deviazioni standard 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 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ano diverse formula per il calcolo della  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è indicata a lato; formula dove come lei può constatare appaiono le singole varianze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1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ed s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2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. La diapositiva precedente è stata corretta e la frase da sostituire scritta in giallo. La formula di df era errata ed è stata corretta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50" name=""/>
              <p:cNvSpPr txBox="1"/>
              <p:nvPr/>
            </p:nvSpPr>
            <p:spPr>
              <a:xfrm>
                <a:off x="6553080" y="1406520"/>
                <a:ext cx="2276640" cy="105264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s</m:t>
                        </m:r>
                      </m:e>
                      <m:sub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1</m:t>
                            </m:r>
                          </m:sub>
                        </m:sSub>
                        <m:r>
                          <m:t xml:space="preserve">−</m:t>
                        </m:r>
                        <m:sSub>
                          <m:e>
                            <m:acc>
                              <m:accPr>
                                <m:chr m:val="¯"/>
                              </m:accPr>
                              <m:e>
                                <m:r>
                                  <m:t xml:space="preserve">X</m:t>
                                </m:r>
                              </m:e>
                            </m:acc>
                          </m:e>
                          <m:sub>
                            <m:r>
                              <m:t xml:space="preserve">2</m:t>
                            </m:r>
                          </m:sub>
                        </m:sSub>
                      </m:sub>
                    </m:sSub>
                    <m:r>
                      <m:t xml:space="preserve">=</m:t>
                    </m:r>
                    <m:rad>
                      <m:radPr>
                        <m:degHide m:val="1"/>
                      </m:radPr>
                      <m:deg/>
                      <m:e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1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1</m:t>
                                </m:r>
                              </m:sub>
                            </m:sSub>
                          </m:den>
                        </m:f>
                        <m:r>
                          <m:t xml:space="preserve">+</m:t>
                        </m:r>
                        <m:f>
                          <m:num>
                            <m:sSubSup>
                              <m:e>
                                <m:r>
                                  <m:t xml:space="preserve">s</m:t>
                                </m:r>
                              </m:e>
                              <m:sub>
                                <m:sSub>
                                  <m:e/>
                                  <m:sub>
                                    <m:r>
                                      <m:t xml:space="preserve">2</m:t>
                                    </m:r>
                                  </m:sub>
                                </m:sSub>
                              </m:sub>
                              <m:sup>
                                <m:r>
                                  <m:t xml:space="preserve">2</m:t>
                                </m:r>
                              </m:sup>
                            </m:sSubSup>
                          </m:num>
                          <m:den>
                            <m:sSub>
                              <m:e>
                                <m:r>
                                  <m:t xml:space="preserve">n</m:t>
                                </m:r>
                              </m:e>
                              <m:sub>
                                <m:r>
                                  <m:t xml:space="preserve">2</m:t>
                                </m:r>
                              </m:sub>
                            </m:sSub>
                          </m:den>
                        </m:f>
                      </m:e>
                    </m:rad>
                  </m:oMath>
                </a14:m>
              </a:p>
            </p:txBody>
          </p:sp>
        </mc:Choice>
        <mc:Fallback/>
      </mc:AlternateContent>
      <p:sp>
        <p:nvSpPr>
          <p:cNvPr id="51" name=""/>
          <p:cNvSpPr/>
          <p:nvPr/>
        </p:nvSpPr>
        <p:spPr>
          <a:xfrm>
            <a:off x="554040" y="3379680"/>
            <a:ext cx="8169120" cy="319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cercare di chiarire la differenza fra campioni provenienti da popolazioni con uguale o diversa deviazione standard le ho preparato un esempio di applicazione sui controlli di qualità sulla produzione industriale che troverà nella diapositiva seguente e nella cartella Excel allegata. Il problema richiede di valutare se due macchine operatrici – denominate A e B -  hanno lo stesso rendimento come numero di pezzi/ora prodotti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Si vuole dimostrare che la A ha una produttività più elevata della B, con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=0.025, e si pone quale H0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per dimostrare vera l’ipotesi alternativa H1: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&gt;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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Il test di uguaglianza fra le medie è ad una sola coda (Dx), ed è eseguito supponend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=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Come avrà modo di di verificare in entrambi i casi H0 è rigettata; tuttavia, questo l’esempio mi permette di mettere a confronto le due condizioni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a invito a ripetere il test per diversi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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, e la pregherei di distribuire ai suoi colleghi questa nota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Grazie anticipatamente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6575400" y="2655720"/>
            <a:ext cx="2262240" cy="5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ff00"/>
                </a:solidFill>
                <a:uFillTx/>
                <a:latin typeface="Tahoma"/>
                <a:hlinkClick r:id="rId1"/>
              </a:rPr>
              <a:t>Produzio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3399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262080"/>
            <a:ext cx="3868560" cy="44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onfronto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4964040" y="654120"/>
          <a:ext cx="3164040" cy="40194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964040" y="654120"/>
                    <a:ext cx="3164040" cy="40194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 rot="16200000">
            <a:off x="7155000" y="2997000"/>
            <a:ext cx="257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 rot="16200000">
            <a:off x="-740880" y="2752560"/>
            <a:ext cx="30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A = </a:t>
            </a:r>
            <a:r>
              <a:rPr b="0" lang="it-IT" sz="20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2000" spc="-1" strike="noStrike">
                <a:solidFill>
                  <a:srgbClr val="ffffff"/>
                </a:solidFill>
                <a:latin typeface="Tahoma"/>
              </a:rPr>
              <a:t>B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233360" y="826920"/>
          <a:ext cx="3454560" cy="384660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5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33360" y="826920"/>
                    <a:ext cx="3454560" cy="3846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0" name=""/>
          <p:cNvSpPr/>
          <p:nvPr/>
        </p:nvSpPr>
        <p:spPr>
          <a:xfrm>
            <a:off x="619200" y="4856040"/>
            <a:ext cx="8318520" cy="168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L’analista deve sapere a priori se la deviazione standard è uguale o diversa. Nel caso specifico, se le due macchine operatrici sono state progettate in modo diverso, è opportuno assumere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. La diversa deviazione standard comporta un valore minore del numero di libertà, df, un valore della s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A-</a:t>
            </a:r>
            <a:r>
              <a:rPr b="0" lang="it-IT" sz="1400" spc="-1" strike="noStrike" u="sng" baseline="-25000">
                <a:solidFill>
                  <a:srgbClr val="ffffff"/>
                </a:solidFill>
                <a:uFillTx/>
                <a:latin typeface="Tahoma"/>
              </a:rPr>
              <a:t>X</a:t>
            </a:r>
            <a:r>
              <a:rPr b="0" lang="it-IT" sz="1400" spc="-1" strike="noStrike" baseline="-25000">
                <a:solidFill>
                  <a:srgbClr val="ffffff"/>
                </a:solidFill>
                <a:latin typeface="Tahoma"/>
              </a:rPr>
              <a:t>B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inferiore ed, infine, un maggior valore della statistica del test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Per un numero di gradi di libertà df=16 e df=12 la distribuzione t varia di poco, ed i valori critici di t sono simili (tc=2.120 e tc=2.179). Tuttavia, la differenza fra  St.Test e tc è nettamente maggiore nel caso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A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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it-IT" sz="1400" spc="-1" strike="noStrike">
                <a:solidFill>
                  <a:srgbClr val="ffffff"/>
                </a:solidFill>
                <a:latin typeface="Symbol"/>
                <a:ea typeface="Symbol"/>
              </a:rPr>
              <a:t></a:t>
            </a:r>
            <a:r>
              <a:rPr b="0" lang="it-IT" sz="1400" spc="-1" strike="noStrike">
                <a:solidFill>
                  <a:srgbClr val="ffffff"/>
                </a:solidFill>
                <a:latin typeface="Tahoma"/>
              </a:rPr>
              <a:t>B rendendo molto più affidabile il test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8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18T19:21:52Z</dcterms:created>
  <dc:creator>cb</dc:creator>
  <dc:description/>
  <dc:language>en-US</dc:language>
  <cp:lastModifiedBy>Bonifazzi</cp:lastModifiedBy>
  <dcterms:modified xsi:type="dcterms:W3CDTF">2005-03-29T14:55:46Z</dcterms:modified>
  <cp:revision>577</cp:revision>
  <dc:subject/>
  <dc:title>Statistica</dc:title>
</cp:coreProperties>
</file>