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818438" cy="11058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5339-86E2-456B-8E9F-2EBC05E3E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5BFE-BFCE-4D6F-92DF-09762EDCE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BF52-34C4-4D31-BBE1-AA1885B59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FE13-3021-4C46-BEC0-215D3B0B6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ACF9-F308-4378-A221-CF1EEA426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5FB1-2C5E-4FDA-A78E-08AC2D351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91CB-3842-4D7C-80C7-BD7CA8543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0C4E-A21F-447B-9428-134586705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AD33-284F-4F86-81CD-89EB4B162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4D1F-C547-4AE8-9E3B-3C97A0C18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AC3E-4DA1-4941-843C-8D622F210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D2D8-C8CF-45B7-B9CF-CF4B98E1C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C7C9B-F1F6-4E16-92E4-20F6735DEA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Produzione.xls" TargetMode="External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20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est su 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- Campioni Indipendenti </a:t>
            </a:r>
            <a:br>
              <a:rPr sz="36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&lt;30, n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&lt;30 –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2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n note – distribuzione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34880" y="1695600"/>
            <a:ext cx="53118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Tahoma"/>
              </a:rPr>
              <a:t>Gradi di libertà.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 Se i campioni di dimensioni n1&lt;30, n2&lt;30 provengono da distribuzioni approssimativamente normali con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1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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2 non note, la distribuzione t ha i gradi di libertà </a:t>
            </a:r>
            <a:r>
              <a:rPr b="0" i="1" lang="it-IT" sz="1400" spc="-1" strike="noStrike">
                <a:solidFill>
                  <a:srgbClr val="ffffff"/>
                </a:solidFill>
                <a:latin typeface="Tahoma"/>
              </a:rPr>
              <a:t>df. 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ove n1 ed n2, s1 ed s2 sono le dimensioni e la deviazione standard dei campioni. Le quantità n1-1 ed n2-1 sono rispettivamente i gradi di libertà del I e e del II campione. Il valore di df si ottiene  per arrotondamento del valore calcolato dalla formula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34880" y="3790800"/>
            <a:ext cx="532764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00"/>
                </a:solidFill>
                <a:latin typeface="Tahoma"/>
              </a:rPr>
              <a:t>Deviazione standard di </a:t>
            </a:r>
            <a:r>
              <a:rPr b="1" i="1" lang="it-IT" sz="1400" spc="-1" strike="noStrike" u="sng">
                <a:solidFill>
                  <a:srgbClr val="ffff00"/>
                </a:solidFill>
                <a:uFillTx/>
                <a:latin typeface="Tahoma"/>
              </a:rPr>
              <a:t>X</a:t>
            </a:r>
            <a:r>
              <a:rPr b="1" lang="it-IT" sz="1400" spc="-1" strike="noStrike" baseline="-25000">
                <a:solidFill>
                  <a:srgbClr val="ffff00"/>
                </a:solidFill>
                <a:latin typeface="Tahoma"/>
              </a:rPr>
              <a:t>1</a:t>
            </a:r>
            <a:r>
              <a:rPr b="1" lang="it-IT" sz="1400" spc="-1" strike="noStrike">
                <a:solidFill>
                  <a:srgbClr val="ffff00"/>
                </a:solidFill>
                <a:latin typeface="Tahoma"/>
              </a:rPr>
              <a:t>-</a:t>
            </a:r>
            <a:r>
              <a:rPr b="1" i="1" lang="it-IT" sz="1400" spc="-1" strike="noStrike" u="sng">
                <a:solidFill>
                  <a:srgbClr val="ffff00"/>
                </a:solidFill>
                <a:uFillTx/>
                <a:latin typeface="Tahoma"/>
              </a:rPr>
              <a:t>X</a:t>
            </a:r>
            <a:r>
              <a:rPr b="1" lang="it-IT" sz="1400" spc="-1" strike="noStrike" baseline="-25000">
                <a:solidFill>
                  <a:srgbClr val="ffff00"/>
                </a:solidFill>
                <a:latin typeface="Tahoma"/>
              </a:rPr>
              <a:t>2</a:t>
            </a:r>
            <a:r>
              <a:rPr b="1" lang="it-IT" sz="1400" spc="-1" strike="noStrike">
                <a:solidFill>
                  <a:srgbClr val="ffff00"/>
                </a:solidFill>
                <a:latin typeface="Tahoma"/>
              </a:rPr>
              <a:t>.</a:t>
            </a:r>
            <a:r>
              <a:rPr b="0" lang="it-IT" sz="1400" spc="-1" strike="noStrike">
                <a:solidFill>
                  <a:srgbClr val="ffff00"/>
                </a:solidFill>
                <a:latin typeface="Tahoma"/>
              </a:rPr>
              <a:t> Poiché le deviazioni standard sono diverse la stima della </a:t>
            </a:r>
            <a:r>
              <a:rPr b="0" lang="it-IT" sz="14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it-IT" sz="1400" spc="-1" strike="noStrike" baseline="-25000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it-IT" sz="1400" spc="-1" strike="noStrike" baseline="-25000">
                <a:solidFill>
                  <a:srgbClr val="ffff00"/>
                </a:solidFill>
                <a:latin typeface="Tahoma"/>
              </a:rPr>
              <a:t>1-</a:t>
            </a:r>
            <a:r>
              <a:rPr b="0" lang="it-IT" sz="1400" spc="-1" strike="noStrike" baseline="-25000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it-IT" sz="1400" spc="-1" strike="noStrike" baseline="-25000">
                <a:solidFill>
                  <a:srgbClr val="ffff00"/>
                </a:solidFill>
                <a:latin typeface="Tahoma"/>
              </a:rPr>
              <a:t>2</a:t>
            </a:r>
            <a:r>
              <a:rPr b="0" lang="it-IT" sz="1400" spc="-1" strike="noStrike">
                <a:solidFill>
                  <a:srgbClr val="ffff00"/>
                </a:solidFill>
                <a:latin typeface="Tahoma"/>
              </a:rPr>
              <a:t> non può essere calcolata dalla deviazione standard campionaria raggruppata, s</a:t>
            </a:r>
            <a:r>
              <a:rPr b="0" lang="it-IT" sz="1400" spc="-1" strike="noStrike" baseline="-25000">
                <a:solidFill>
                  <a:srgbClr val="ffff00"/>
                </a:solidFill>
                <a:latin typeface="Tahoma"/>
              </a:rPr>
              <a:t>p</a:t>
            </a:r>
            <a:r>
              <a:rPr b="0" lang="it-IT" sz="1400" spc="-1" strike="noStrike">
                <a:solidFill>
                  <a:srgbClr val="ffff00"/>
                </a:solidFill>
                <a:latin typeface="Tahoma"/>
              </a:rPr>
              <a:t>, e la deviazione standard della differenza fra le medie campionarie s</a:t>
            </a:r>
            <a:r>
              <a:rPr b="0" i="1" lang="it-IT" sz="1400" spc="-1" strike="noStrike" u="sng" baseline="-25000">
                <a:solidFill>
                  <a:srgbClr val="ffff00"/>
                </a:solidFill>
                <a:uFillTx/>
                <a:latin typeface="Tahoma"/>
              </a:rPr>
              <a:t>X</a:t>
            </a:r>
            <a:r>
              <a:rPr b="0" lang="it-IT" sz="1400" spc="-1" strike="noStrike" baseline="-25000">
                <a:solidFill>
                  <a:srgbClr val="ffff00"/>
                </a:solidFill>
                <a:latin typeface="Tahoma"/>
              </a:rPr>
              <a:t>1-</a:t>
            </a:r>
            <a:r>
              <a:rPr b="0" i="1" lang="it-IT" sz="1400" spc="-1" strike="noStrike" u="sng" baseline="-25000">
                <a:solidFill>
                  <a:srgbClr val="ffff00"/>
                </a:solidFill>
                <a:uFillTx/>
                <a:latin typeface="Tahoma"/>
              </a:rPr>
              <a:t>X</a:t>
            </a:r>
            <a:r>
              <a:rPr b="0" lang="it-IT" sz="1400" spc="-1" strike="noStrike" baseline="-25000">
                <a:solidFill>
                  <a:srgbClr val="ffff00"/>
                </a:solidFill>
                <a:latin typeface="Tahoma"/>
              </a:rPr>
              <a:t>2</a:t>
            </a:r>
            <a:r>
              <a:rPr b="0" lang="it-IT" sz="1400" spc="-1" strike="noStrike">
                <a:solidFill>
                  <a:srgbClr val="ffff00"/>
                </a:solidFill>
                <a:latin typeface="Tahoma"/>
              </a:rPr>
              <a:t> è data dalla formula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6299280" y="3882960"/>
                <a:ext cx="191448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Sup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sSub>
                                  <m:e/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Sup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sSub>
                                  <m:e/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5" name=""/>
          <p:cNvSpPr/>
          <p:nvPr/>
        </p:nvSpPr>
        <p:spPr>
          <a:xfrm>
            <a:off x="411120" y="5386320"/>
            <a:ext cx="5240520" cy="8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Statistica di test t per </a:t>
            </a:r>
            <a:r>
              <a:rPr b="1" i="1" lang="en-US" sz="1400" spc="-1" strike="noStrike" u="sng">
                <a:solidFill>
                  <a:srgbClr val="ffffff"/>
                </a:solidFill>
                <a:uFillTx/>
                <a:latin typeface="Tahoma"/>
              </a:rPr>
              <a:t>X</a:t>
            </a:r>
            <a:r>
              <a:rPr b="1" lang="en-US" sz="14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1" i="1" lang="en-US" sz="1400" spc="-1" strike="noStrike" u="sng">
                <a:solidFill>
                  <a:srgbClr val="ffffff"/>
                </a:solidFill>
                <a:uFillTx/>
                <a:latin typeface="Tahoma"/>
              </a:rPr>
              <a:t>X</a:t>
            </a:r>
            <a:r>
              <a:rPr b="1" lang="en-US" sz="1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La statistica di test t è data dalla formula a lato. Nella formula il valore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1-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2 è sostituito dalla ipotesi null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5987880" y="5405400"/>
                <a:ext cx="253872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5978520" y="1859040"/>
                <a:ext cx="2554200" cy="12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f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den>
                                </m:f>
                                <m:r>
                                  <m:t xml:space="preserve">+</m:t>
                                </m:r>
                                <m:f>
                                  <m:num>
                                    <m:sSub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18760" y="538200"/>
            <a:ext cx="831852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isposta alla richiesta di chiarim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19120" y="1252440"/>
            <a:ext cx="5970600" cy="23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Gentilissimo Sig. Zoboli l’operazione di copia incolla fra diapositive successive ha ingenerato la confusione fra le formula per il calcolo della s</a:t>
            </a:r>
            <a:r>
              <a:rPr b="0" lang="it-IT" sz="1400" spc="-1" strike="noStrike" u="sng" baseline="-25000">
                <a:solidFill>
                  <a:srgbClr val="ffffff"/>
                </a:solidFill>
                <a:uFillTx/>
                <a:latin typeface="Tahoma"/>
              </a:rPr>
              <a:t>X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Tahoma"/>
              </a:rPr>
              <a:t>1-</a:t>
            </a:r>
            <a:r>
              <a:rPr b="0" lang="it-IT" sz="1400" spc="-1" strike="noStrike" u="sng" baseline="-25000">
                <a:solidFill>
                  <a:srgbClr val="ffffff"/>
                </a:solidFill>
                <a:uFillTx/>
                <a:latin typeface="Tahoma"/>
              </a:rPr>
              <a:t>X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. Solo nel caso in cui le deviazioni standard non note siano uguali, è possibile utilizzare la deviazione standard raggruppata, Sp, per la stima della della deviazione standard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Tahoma"/>
              </a:rPr>
              <a:t>1-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. Nel caso in cui le deviazioni standard 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 ed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it-IT" sz="1400" spc="-1" strike="noStrike" u="sng" baseline="-25000">
                <a:solidFill>
                  <a:srgbClr val="ffffff"/>
                </a:solidFill>
                <a:uFillTx/>
                <a:latin typeface="Tahoma"/>
              </a:rPr>
              <a:t>X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Tahoma"/>
              </a:rPr>
              <a:t>2 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ano diverse formula per il calcolo della   s</a:t>
            </a:r>
            <a:r>
              <a:rPr b="0" lang="it-IT" sz="1400" spc="-1" strike="noStrike" u="sng" baseline="-25000">
                <a:solidFill>
                  <a:srgbClr val="ffffff"/>
                </a:solidFill>
                <a:uFillTx/>
                <a:latin typeface="Tahoma"/>
              </a:rPr>
              <a:t>X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Tahoma"/>
              </a:rPr>
              <a:t>1-</a:t>
            </a:r>
            <a:r>
              <a:rPr b="0" lang="it-IT" sz="1400" spc="-1" strike="noStrike" u="sng" baseline="-25000">
                <a:solidFill>
                  <a:srgbClr val="ffffff"/>
                </a:solidFill>
                <a:uFillTx/>
                <a:latin typeface="Tahoma"/>
              </a:rPr>
              <a:t>X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 è indicata a lato; formula dove come lei può constatare appaiono le singole varianze s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 ed s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. La diapositiva precedente è stata corretta e la frase da sostituire scritta in giallo. La formula di df era errata ed è stata corretta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6553080" y="1406520"/>
                <a:ext cx="2276640" cy="105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Sup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sSub>
                                  <m:e/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Sup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sSub>
                                  <m:e/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51" name=""/>
          <p:cNvSpPr/>
          <p:nvPr/>
        </p:nvSpPr>
        <p:spPr>
          <a:xfrm>
            <a:off x="554040" y="3379680"/>
            <a:ext cx="8169120" cy="31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Per cercare di chiarire la differenza fra campioni provenienti da popolazioni con uguale o diversa deviazione standard le ho preparato un esempio di applicazione sui controlli di qualità sulla produzione industriale che troverà nella diapositiva seguente e nella cartella Excel allegata. Il problema richiede di valutare se due macchine operatrici – denominate A e B -  hanno lo stesso rendimento come numero di pezzi/ora prodotti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 vuole dimostrare che la A ha una produttività più elevata della B, con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=0.025, e si pone quale H0: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A=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B per dimostrare vera l’ipotesi alternativa H1: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A&gt;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B. Il test di uguaglianza fra le medie è ad una sola coda (Dx), ed è eseguito supponendo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A=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B e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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B. Come avrà modo di di verificare in entrambi i casi H0 è rigettata; tuttavia, questo l’esempio mi permette di mettere a confronto le due condizioni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La invito a ripetere il test per diversi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, e la pregherei di distribuire ai suoi colleghi questa not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Grazie anticipatament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575400" y="2655720"/>
            <a:ext cx="22622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00"/>
                </a:solidFill>
                <a:uFillTx/>
                <a:latin typeface="Tahoma"/>
                <a:hlinkClick r:id="rId1"/>
              </a:rPr>
              <a:t>Produz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62080"/>
            <a:ext cx="3868560" cy="4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fro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4964040" y="654120"/>
          <a:ext cx="3164040" cy="4019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64040" y="654120"/>
                    <a:ext cx="3164040" cy="40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 rot="16200000">
            <a:off x="7155000" y="2997000"/>
            <a:ext cx="257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it-IT" sz="2000" spc="-1" strike="noStrike">
                <a:solidFill>
                  <a:srgbClr val="ffffff"/>
                </a:solidFill>
                <a:latin typeface="Tahoma"/>
              </a:rPr>
              <a:t>A </a:t>
            </a:r>
            <a:r>
              <a:rPr b="0" lang="it-IT" sz="2000" spc="-1" strike="noStrike">
                <a:solidFill>
                  <a:srgbClr val="ffffff"/>
                </a:solidFill>
                <a:latin typeface="Symbol"/>
                <a:ea typeface="Symbol"/>
              </a:rPr>
              <a:t></a:t>
            </a:r>
            <a:r>
              <a:rPr b="0" lang="it-IT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it-IT" sz="2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it-IT" sz="20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16200000">
            <a:off x="-740880" y="2752560"/>
            <a:ext cx="30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it-IT" sz="2000" spc="-1" strike="noStrike">
                <a:solidFill>
                  <a:srgbClr val="ffffff"/>
                </a:solidFill>
                <a:latin typeface="Tahoma"/>
              </a:rPr>
              <a:t>A = </a:t>
            </a:r>
            <a:r>
              <a:rPr b="0" lang="it-IT" sz="2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it-IT" sz="20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1233360" y="826920"/>
          <a:ext cx="3454560" cy="38466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33360" y="826920"/>
                    <a:ext cx="3454560" cy="384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619200" y="4856040"/>
            <a:ext cx="8318520" cy="16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L’analista deve sapere a priori se la deviazione standard è uguale o diversa. Nel caso specifico, se le due macchine operatrici sono state progettate in modo diverso, è opportuno assumere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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B. La diversa deviazione standard comporta un valore minore del numero di libertà, df, un valore della s</a:t>
            </a:r>
            <a:r>
              <a:rPr b="0" lang="it-IT" sz="1400" spc="-1" strike="noStrike" u="sng" baseline="-25000">
                <a:solidFill>
                  <a:srgbClr val="ffffff"/>
                </a:solidFill>
                <a:uFillTx/>
                <a:latin typeface="Tahoma"/>
              </a:rPr>
              <a:t>X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Tahoma"/>
              </a:rPr>
              <a:t>A-</a:t>
            </a:r>
            <a:r>
              <a:rPr b="0" lang="it-IT" sz="1400" spc="-1" strike="noStrike" u="sng" baseline="-25000">
                <a:solidFill>
                  <a:srgbClr val="ffffff"/>
                </a:solidFill>
                <a:uFillTx/>
                <a:latin typeface="Tahoma"/>
              </a:rPr>
              <a:t>X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Tahoma"/>
              </a:rPr>
              <a:t>B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 inferiore ed, infine, un maggior valore della statistica del test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Per un numero di gradi di libertà df=16 e df=12 la distribuzione t varia di poco, ed i valori critici di t sono simili (tc=2.120 e tc=2.179). Tuttavia, la differenza fra  St.Test e tc è nettamente maggiore nel caso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A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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B rendendo molto più affidabile il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8T19:21:52Z</dcterms:created>
  <dc:creator>cb</dc:creator>
  <dc:description/>
  <dc:language>en-US</dc:language>
  <cp:lastModifiedBy>Bonifazzi</cp:lastModifiedBy>
  <dcterms:modified xsi:type="dcterms:W3CDTF">2005-03-29T14:55:46Z</dcterms:modified>
  <cp:revision>577</cp:revision>
  <dc:subject/>
  <dc:title>Statistica</dc:title>
</cp:coreProperties>
</file>