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818438" cy="11058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6B4AD-041D-4671-B63C-792B8062A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7E649-52A9-4909-AED7-79E90F89C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F9AA3-E5FF-4016-B6E2-EA8578F0B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8969A-1925-41A8-A372-D549DD757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6892B-B832-49FA-B506-0AE399B08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EB55D-AA87-4B5A-AADF-35D9034CB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0684F-0E9E-4E62-A348-36575AF8D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91D85-1937-4987-91BA-828BD288A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C38D1-DA16-45B9-B845-15D4A85CE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4F442-8AD1-43F2-ADF9-BE1FE4BB4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0B337-1724-40B2-B904-8C00DAA63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F5516-76AB-4B22-9D0F-626A53D9B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21F78-BE86-4532-9BEF-08508C1D11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Produzione.xls" TargetMode="External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20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est su </a:t>
            </a:r>
            <a:r>
              <a:rPr b="0" i="1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i="1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- Campioni Indipendenti </a:t>
            </a:r>
            <a:br>
              <a:rPr sz="36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&lt;30, n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&lt;30 –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ahoma"/>
              </a:rPr>
              <a:t>2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n note – distribuzione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34880" y="1695600"/>
            <a:ext cx="531180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Tahoma"/>
              </a:rPr>
              <a:t>Gradi di libertà.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 Se i campioni di dimensioni n1&lt;30, n2&lt;30 provengono da distribuzioni approssimativamente normali con </a:t>
            </a:r>
            <a:r>
              <a:rPr b="0" lang="it-IT" sz="1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1 </a:t>
            </a:r>
            <a:r>
              <a:rPr b="0" lang="it-IT" sz="1400" spc="-1" strike="noStrike">
                <a:solidFill>
                  <a:srgbClr val="ffffff"/>
                </a:solidFill>
                <a:latin typeface="Symbol"/>
                <a:ea typeface="Symbol"/>
              </a:rPr>
              <a:t>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it-IT" sz="1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2 non note, la distribuzione t ha i gradi di libertà </a:t>
            </a:r>
            <a:r>
              <a:rPr b="0" i="1" lang="it-IT" sz="1400" spc="-1" strike="noStrike">
                <a:solidFill>
                  <a:srgbClr val="ffffff"/>
                </a:solidFill>
                <a:latin typeface="Tahoma"/>
              </a:rPr>
              <a:t>df. 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ove n1 ed n2, s1 ed s2 sono le dimensioni e la deviazione standard dei campioni. Le quantità n1-1 ed n2-1 sono rispettivamente i gradi di libertà del I e e del II campione. Il valore di df si ottiene  per arrotondamento del valore calcolato dalla formula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34880" y="3790800"/>
            <a:ext cx="5327640" cy="13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00"/>
                </a:solidFill>
                <a:latin typeface="Tahoma"/>
              </a:rPr>
              <a:t>Deviazione standard di </a:t>
            </a:r>
            <a:r>
              <a:rPr b="1" i="1" lang="it-IT" sz="1400" spc="-1" strike="noStrike" u="sng">
                <a:solidFill>
                  <a:srgbClr val="ffff00"/>
                </a:solidFill>
                <a:uFillTx/>
                <a:latin typeface="Tahoma"/>
              </a:rPr>
              <a:t>X</a:t>
            </a:r>
            <a:r>
              <a:rPr b="1" lang="it-IT" sz="1400" spc="-1" strike="noStrike" baseline="-25000">
                <a:solidFill>
                  <a:srgbClr val="ffff00"/>
                </a:solidFill>
                <a:latin typeface="Tahoma"/>
              </a:rPr>
              <a:t>1</a:t>
            </a:r>
            <a:r>
              <a:rPr b="1" lang="it-IT" sz="1400" spc="-1" strike="noStrike">
                <a:solidFill>
                  <a:srgbClr val="ffff00"/>
                </a:solidFill>
                <a:latin typeface="Tahoma"/>
              </a:rPr>
              <a:t>-</a:t>
            </a:r>
            <a:r>
              <a:rPr b="1" i="1" lang="it-IT" sz="1400" spc="-1" strike="noStrike" u="sng">
                <a:solidFill>
                  <a:srgbClr val="ffff00"/>
                </a:solidFill>
                <a:uFillTx/>
                <a:latin typeface="Tahoma"/>
              </a:rPr>
              <a:t>X</a:t>
            </a:r>
            <a:r>
              <a:rPr b="1" lang="it-IT" sz="1400" spc="-1" strike="noStrike" baseline="-25000">
                <a:solidFill>
                  <a:srgbClr val="ffff00"/>
                </a:solidFill>
                <a:latin typeface="Tahoma"/>
              </a:rPr>
              <a:t>2</a:t>
            </a:r>
            <a:r>
              <a:rPr b="1" lang="it-IT" sz="1400" spc="-1" strike="noStrike">
                <a:solidFill>
                  <a:srgbClr val="ffff00"/>
                </a:solidFill>
                <a:latin typeface="Tahoma"/>
              </a:rPr>
              <a:t>.</a:t>
            </a:r>
            <a:r>
              <a:rPr b="0" lang="it-IT" sz="1400" spc="-1" strike="noStrike">
                <a:solidFill>
                  <a:srgbClr val="ffff00"/>
                </a:solidFill>
                <a:latin typeface="Tahoma"/>
              </a:rPr>
              <a:t> Poiché le deviazioni standard sono diverse la stima della </a:t>
            </a:r>
            <a:r>
              <a:rPr b="0" lang="it-IT" sz="14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it-IT" sz="1400" spc="-1" strike="noStrike" baseline="-25000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it-IT" sz="1400" spc="-1" strike="noStrike" baseline="-25000">
                <a:solidFill>
                  <a:srgbClr val="ffff00"/>
                </a:solidFill>
                <a:latin typeface="Tahoma"/>
              </a:rPr>
              <a:t>1-</a:t>
            </a:r>
            <a:r>
              <a:rPr b="0" lang="it-IT" sz="1400" spc="-1" strike="noStrike" baseline="-25000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it-IT" sz="1400" spc="-1" strike="noStrike" baseline="-25000">
                <a:solidFill>
                  <a:srgbClr val="ffff00"/>
                </a:solidFill>
                <a:latin typeface="Tahoma"/>
              </a:rPr>
              <a:t>2</a:t>
            </a:r>
            <a:r>
              <a:rPr b="0" lang="it-IT" sz="1400" spc="-1" strike="noStrike">
                <a:solidFill>
                  <a:srgbClr val="ffff00"/>
                </a:solidFill>
                <a:latin typeface="Tahoma"/>
              </a:rPr>
              <a:t> non può essere calcolata dalla deviazione standard campionaria raggruppata, s</a:t>
            </a:r>
            <a:r>
              <a:rPr b="0" lang="it-IT" sz="1400" spc="-1" strike="noStrike" baseline="-25000">
                <a:solidFill>
                  <a:srgbClr val="ffff00"/>
                </a:solidFill>
                <a:latin typeface="Tahoma"/>
              </a:rPr>
              <a:t>p</a:t>
            </a:r>
            <a:r>
              <a:rPr b="0" lang="it-IT" sz="1400" spc="-1" strike="noStrike">
                <a:solidFill>
                  <a:srgbClr val="ffff00"/>
                </a:solidFill>
                <a:latin typeface="Tahoma"/>
              </a:rPr>
              <a:t>, e la deviazione standard della differenza fra le medie campionarie s</a:t>
            </a:r>
            <a:r>
              <a:rPr b="0" i="1" lang="it-IT" sz="1400" spc="-1" strike="noStrike" u="sng" baseline="-25000">
                <a:solidFill>
                  <a:srgbClr val="ffff00"/>
                </a:solidFill>
                <a:uFillTx/>
                <a:latin typeface="Tahoma"/>
              </a:rPr>
              <a:t>X</a:t>
            </a:r>
            <a:r>
              <a:rPr b="0" lang="it-IT" sz="1400" spc="-1" strike="noStrike" baseline="-25000">
                <a:solidFill>
                  <a:srgbClr val="ffff00"/>
                </a:solidFill>
                <a:latin typeface="Tahoma"/>
              </a:rPr>
              <a:t>1-</a:t>
            </a:r>
            <a:r>
              <a:rPr b="0" i="1" lang="it-IT" sz="1400" spc="-1" strike="noStrike" u="sng" baseline="-25000">
                <a:solidFill>
                  <a:srgbClr val="ffff00"/>
                </a:solidFill>
                <a:uFillTx/>
                <a:latin typeface="Tahoma"/>
              </a:rPr>
              <a:t>X</a:t>
            </a:r>
            <a:r>
              <a:rPr b="0" lang="it-IT" sz="1400" spc="-1" strike="noStrike" baseline="-25000">
                <a:solidFill>
                  <a:srgbClr val="ffff00"/>
                </a:solidFill>
                <a:latin typeface="Tahoma"/>
              </a:rPr>
              <a:t>2</a:t>
            </a:r>
            <a:r>
              <a:rPr b="0" lang="it-IT" sz="1400" spc="-1" strike="noStrike">
                <a:solidFill>
                  <a:srgbClr val="ffff00"/>
                </a:solidFill>
                <a:latin typeface="Tahoma"/>
              </a:rPr>
              <a:t> è data dalla formula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" name=""/>
              <p:cNvSpPr txBox="1"/>
              <p:nvPr/>
            </p:nvSpPr>
            <p:spPr>
              <a:xfrm>
                <a:off x="6299280" y="3882960"/>
                <a:ext cx="1914480" cy="88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sSubSup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sSub>
                                  <m:e/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Sup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sSub>
                                  <m:e/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45" name=""/>
          <p:cNvSpPr/>
          <p:nvPr/>
        </p:nvSpPr>
        <p:spPr>
          <a:xfrm>
            <a:off x="411120" y="5386320"/>
            <a:ext cx="5240520" cy="8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Statistica di test t per </a:t>
            </a:r>
            <a:r>
              <a:rPr b="1" i="1" lang="en-US" sz="1400" spc="-1" strike="noStrike" u="sng">
                <a:solidFill>
                  <a:srgbClr val="ffffff"/>
                </a:solidFill>
                <a:uFillTx/>
                <a:latin typeface="Tahoma"/>
              </a:rPr>
              <a:t>X</a:t>
            </a:r>
            <a:r>
              <a:rPr b="1" lang="en-US" sz="14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1" i="1" lang="en-US" sz="1400" spc="-1" strike="noStrike" u="sng">
                <a:solidFill>
                  <a:srgbClr val="ffffff"/>
                </a:solidFill>
                <a:uFillTx/>
                <a:latin typeface="Tahoma"/>
              </a:rPr>
              <a:t>X</a:t>
            </a:r>
            <a:r>
              <a:rPr b="1" lang="en-US" sz="14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La statistica di test t è data dalla formula a lato. Nella formula il valore 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1-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2 è sostituito dalla ipotesi null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5987880" y="5405400"/>
                <a:ext cx="2538720" cy="80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</m:num>
                      <m:den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5978520" y="1859040"/>
                <a:ext cx="2554200" cy="12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f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sSub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bSup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n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den>
                                </m:f>
                                <m:r>
                                  <m:t xml:space="preserve">+</m:t>
                                </m:r>
                                <m:f>
                                  <m:num>
                                    <m:sSub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bSup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n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sSub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bSup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n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sSub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bSup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n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18760" y="538200"/>
            <a:ext cx="831852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isposta alla richiesta di chiarime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19120" y="1252440"/>
            <a:ext cx="5970600" cy="237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Gentilissimo Sig. Zoboli l’operazione di copia incolla fra diapositive successive ha ingenerato la confusione fra le formula per il calcolo della s</a:t>
            </a:r>
            <a:r>
              <a:rPr b="0" lang="it-IT" sz="1400" spc="-1" strike="noStrike" u="sng" baseline="-25000">
                <a:solidFill>
                  <a:srgbClr val="ffffff"/>
                </a:solidFill>
                <a:uFillTx/>
                <a:latin typeface="Tahoma"/>
              </a:rPr>
              <a:t>X</a:t>
            </a:r>
            <a:r>
              <a:rPr b="0" lang="it-IT" sz="1400" spc="-1" strike="noStrike" baseline="-25000">
                <a:solidFill>
                  <a:srgbClr val="ffffff"/>
                </a:solidFill>
                <a:latin typeface="Tahoma"/>
              </a:rPr>
              <a:t>1-</a:t>
            </a:r>
            <a:r>
              <a:rPr b="0" lang="it-IT" sz="1400" spc="-1" strike="noStrike" u="sng" baseline="-25000">
                <a:solidFill>
                  <a:srgbClr val="ffffff"/>
                </a:solidFill>
                <a:uFillTx/>
                <a:latin typeface="Tahoma"/>
              </a:rPr>
              <a:t>X</a:t>
            </a:r>
            <a:r>
              <a:rPr b="0" lang="it-IT" sz="14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. Solo nel caso in cui le deviazioni standard non note siano uguali, è possibile utilizzare la deviazione standard raggruppata, Sp, per la stima della della deviazione standard </a:t>
            </a:r>
            <a:r>
              <a:rPr b="0" lang="it-IT" sz="1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it-IT" sz="1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it-IT" sz="1400" spc="-1" strike="noStrike" baseline="-25000">
                <a:solidFill>
                  <a:srgbClr val="ffffff"/>
                </a:solidFill>
                <a:latin typeface="Tahoma"/>
              </a:rPr>
              <a:t>1-</a:t>
            </a:r>
            <a:r>
              <a:rPr b="0" lang="it-IT" sz="1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it-IT" sz="14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. Nel caso in cui le deviazioni standard  </a:t>
            </a:r>
            <a:r>
              <a:rPr b="0" lang="it-IT" sz="1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it-IT" sz="1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it-IT" sz="14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 ed </a:t>
            </a:r>
            <a:r>
              <a:rPr b="0" lang="it-IT" sz="1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it-IT" sz="1400" spc="-1" strike="noStrike" u="sng" baseline="-25000">
                <a:solidFill>
                  <a:srgbClr val="ffffff"/>
                </a:solidFill>
                <a:uFillTx/>
                <a:latin typeface="Tahoma"/>
              </a:rPr>
              <a:t>X</a:t>
            </a:r>
            <a:r>
              <a:rPr b="0" lang="it-IT" sz="1400" spc="-1" strike="noStrike" baseline="-25000">
                <a:solidFill>
                  <a:srgbClr val="ffffff"/>
                </a:solidFill>
                <a:latin typeface="Tahoma"/>
              </a:rPr>
              <a:t>2 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siano diverse formula per il calcolo della   s</a:t>
            </a:r>
            <a:r>
              <a:rPr b="0" lang="it-IT" sz="1400" spc="-1" strike="noStrike" u="sng" baseline="-25000">
                <a:solidFill>
                  <a:srgbClr val="ffffff"/>
                </a:solidFill>
                <a:uFillTx/>
                <a:latin typeface="Tahoma"/>
              </a:rPr>
              <a:t>X</a:t>
            </a:r>
            <a:r>
              <a:rPr b="0" lang="it-IT" sz="1400" spc="-1" strike="noStrike" baseline="-25000">
                <a:solidFill>
                  <a:srgbClr val="ffffff"/>
                </a:solidFill>
                <a:latin typeface="Tahoma"/>
              </a:rPr>
              <a:t>1-</a:t>
            </a:r>
            <a:r>
              <a:rPr b="0" lang="it-IT" sz="1400" spc="-1" strike="noStrike" u="sng" baseline="-25000">
                <a:solidFill>
                  <a:srgbClr val="ffffff"/>
                </a:solidFill>
                <a:uFillTx/>
                <a:latin typeface="Tahoma"/>
              </a:rPr>
              <a:t>X</a:t>
            </a:r>
            <a:r>
              <a:rPr b="0" lang="it-IT" sz="14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 è indicata a lato; formula dove come lei può constatare appaiono le singole varianze s</a:t>
            </a:r>
            <a:r>
              <a:rPr b="0" lang="it-IT" sz="14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 ed s</a:t>
            </a:r>
            <a:r>
              <a:rPr b="0" lang="it-IT" sz="14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. La diapositiva precedente è stata corretta e la frase da sostituire scritta in giallo. La formula di df era errata ed è stata corretta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" name=""/>
              <p:cNvSpPr txBox="1"/>
              <p:nvPr/>
            </p:nvSpPr>
            <p:spPr>
              <a:xfrm>
                <a:off x="6553080" y="1406520"/>
                <a:ext cx="2276640" cy="105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sSubSup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sSub>
                                  <m:e/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Sup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sSub>
                                  <m:e/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51" name=""/>
          <p:cNvSpPr/>
          <p:nvPr/>
        </p:nvSpPr>
        <p:spPr>
          <a:xfrm>
            <a:off x="554040" y="3379680"/>
            <a:ext cx="8169120" cy="31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Per cercare di chiarire la differenza fra campioni provenienti da popolazioni con uguale o diversa deviazione standard le ho preparato un esempio di applicazione sui controlli di qualità sulla produzione industriale che troverà nella diapositiva seguente e nella cartella Excel allegata. Il problema richiede di valutare se due macchine operatrici – denominate A e B -  hanno lo stesso rendimento come numero di pezzi/ora prodotti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Si vuole dimostrare che la A ha una produttività più elevata della B, con </a:t>
            </a:r>
            <a:r>
              <a:rPr b="0" lang="it-IT" sz="1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=0.025, e si pone quale H0: </a:t>
            </a:r>
            <a:r>
              <a:rPr b="0" lang="it-IT" sz="1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A=</a:t>
            </a:r>
            <a:r>
              <a:rPr b="0" lang="it-IT" sz="1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B per dimostrare vera l’ipotesi alternativa H1: </a:t>
            </a:r>
            <a:r>
              <a:rPr b="0" lang="it-IT" sz="1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A&gt;</a:t>
            </a:r>
            <a:r>
              <a:rPr b="0" lang="it-IT" sz="1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B. Il test di uguaglianza fra le medie è ad una sola coda (Dx), ed è eseguito supponendo </a:t>
            </a:r>
            <a:r>
              <a:rPr b="0" lang="it-IT" sz="1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A=</a:t>
            </a:r>
            <a:r>
              <a:rPr b="0" lang="it-IT" sz="1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B e </a:t>
            </a:r>
            <a:r>
              <a:rPr b="0" lang="it-IT" sz="1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it-IT" sz="1400" spc="-1" strike="noStrike">
                <a:solidFill>
                  <a:srgbClr val="ffffff"/>
                </a:solidFill>
                <a:latin typeface="Symbol"/>
                <a:ea typeface="Symbol"/>
              </a:rPr>
              <a:t>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B. Come avrà modo di di verificare in entrambi i casi H0 è rigettata; tuttavia, questo l’esempio mi permette di mettere a confronto le due condizioni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La invito a ripetere il test per diversi </a:t>
            </a:r>
            <a:r>
              <a:rPr b="0" lang="it-IT" sz="1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, e la pregherei di distribuire ai suoi colleghi questa not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Grazie anticipatament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575400" y="2655720"/>
            <a:ext cx="226224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00"/>
                </a:solidFill>
                <a:uFillTx/>
                <a:latin typeface="Tahoma"/>
                <a:hlinkClick r:id="rId1"/>
              </a:rPr>
              <a:t>Produzi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62080"/>
            <a:ext cx="3868560" cy="4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fro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4964040" y="654120"/>
          <a:ext cx="3164040" cy="4019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64040" y="654120"/>
                    <a:ext cx="3164040" cy="401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"/>
          <p:cNvSpPr/>
          <p:nvPr/>
        </p:nvSpPr>
        <p:spPr>
          <a:xfrm rot="16200000">
            <a:off x="7155000" y="2997000"/>
            <a:ext cx="257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it-IT" sz="2000" spc="-1" strike="noStrike">
                <a:solidFill>
                  <a:srgbClr val="ffffff"/>
                </a:solidFill>
                <a:latin typeface="Tahoma"/>
              </a:rPr>
              <a:t>A </a:t>
            </a:r>
            <a:r>
              <a:rPr b="0" lang="it-IT" sz="2000" spc="-1" strike="noStrike">
                <a:solidFill>
                  <a:srgbClr val="ffffff"/>
                </a:solidFill>
                <a:latin typeface="Symbol"/>
                <a:ea typeface="Symbol"/>
              </a:rPr>
              <a:t></a:t>
            </a:r>
            <a:r>
              <a:rPr b="0" lang="it-IT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it-IT" sz="20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it-IT" sz="20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16200000">
            <a:off x="-740880" y="2752560"/>
            <a:ext cx="306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it-IT" sz="2000" spc="-1" strike="noStrike">
                <a:solidFill>
                  <a:srgbClr val="ffffff"/>
                </a:solidFill>
                <a:latin typeface="Tahoma"/>
              </a:rPr>
              <a:t>A = </a:t>
            </a:r>
            <a:r>
              <a:rPr b="0" lang="it-IT" sz="20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it-IT" sz="20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1233360" y="826920"/>
          <a:ext cx="3454560" cy="38466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33360" y="826920"/>
                    <a:ext cx="3454560" cy="384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"/>
          <p:cNvSpPr/>
          <p:nvPr/>
        </p:nvSpPr>
        <p:spPr>
          <a:xfrm>
            <a:off x="619200" y="4856040"/>
            <a:ext cx="8318520" cy="16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L’analista deve sapere a priori se la deviazione standard è uguale o diversa. Nel caso specifico, se le due macchine operatrici sono state progettate in modo diverso, è opportuno assumere </a:t>
            </a:r>
            <a:r>
              <a:rPr b="0" lang="it-IT" sz="1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it-IT" sz="1400" spc="-1" strike="noStrike">
                <a:solidFill>
                  <a:srgbClr val="ffffff"/>
                </a:solidFill>
                <a:latin typeface="Symbol"/>
                <a:ea typeface="Symbol"/>
              </a:rPr>
              <a:t>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B. La diversa deviazione standard comporta un valore minore del numero di libertà, df, un valore della s</a:t>
            </a:r>
            <a:r>
              <a:rPr b="0" lang="it-IT" sz="1400" spc="-1" strike="noStrike" u="sng" baseline="-25000">
                <a:solidFill>
                  <a:srgbClr val="ffffff"/>
                </a:solidFill>
                <a:uFillTx/>
                <a:latin typeface="Tahoma"/>
              </a:rPr>
              <a:t>X</a:t>
            </a:r>
            <a:r>
              <a:rPr b="0" lang="it-IT" sz="1400" spc="-1" strike="noStrike" baseline="-25000">
                <a:solidFill>
                  <a:srgbClr val="ffffff"/>
                </a:solidFill>
                <a:latin typeface="Tahoma"/>
              </a:rPr>
              <a:t>A-</a:t>
            </a:r>
            <a:r>
              <a:rPr b="0" lang="it-IT" sz="1400" spc="-1" strike="noStrike" u="sng" baseline="-25000">
                <a:solidFill>
                  <a:srgbClr val="ffffff"/>
                </a:solidFill>
                <a:uFillTx/>
                <a:latin typeface="Tahoma"/>
              </a:rPr>
              <a:t>X</a:t>
            </a:r>
            <a:r>
              <a:rPr b="0" lang="it-IT" sz="1400" spc="-1" strike="noStrike" baseline="-25000">
                <a:solidFill>
                  <a:srgbClr val="ffffff"/>
                </a:solidFill>
                <a:latin typeface="Tahoma"/>
              </a:rPr>
              <a:t>B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 inferiore ed, infine, un maggior valore della statistica del test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Per un numero di gradi di libertà df=16 e df=12 la distribuzione t varia di poco, ed i valori critici di t sono simili (tc=2.120 e tc=2.179). Tuttavia, la differenza fra  St.Test e tc è nettamente maggiore nel caso </a:t>
            </a:r>
            <a:r>
              <a:rPr b="0" lang="it-IT" sz="1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A </a:t>
            </a:r>
            <a:r>
              <a:rPr b="0" lang="it-IT" sz="1400" spc="-1" strike="noStrike">
                <a:solidFill>
                  <a:srgbClr val="ffffff"/>
                </a:solidFill>
                <a:latin typeface="Symbol"/>
                <a:ea typeface="Symbol"/>
              </a:rPr>
              <a:t>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it-IT" sz="1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B rendendo molto più affidabile il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8T19:21:52Z</dcterms:created>
  <dc:creator>cb</dc:creator>
  <dc:description/>
  <dc:language>en-US</dc:language>
  <cp:lastModifiedBy>Bonifazzi</cp:lastModifiedBy>
  <dcterms:modified xsi:type="dcterms:W3CDTF">2005-03-29T14:55:46Z</dcterms:modified>
  <cp:revision>577</cp:revision>
  <dc:subject/>
  <dc:title>Statistica</dc:title>
</cp:coreProperties>
</file>