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E248C-F718-4A07-A6EE-A6BD6BB44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52789-C15D-4D88-A1CE-6F19069A2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EE83A-7C35-4CE6-A357-08F1CB6FB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D01E6-586C-4CDA-A8A8-FD4DA6E8C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91B42-E475-4C46-9AEC-DB2BA6D5A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D99FC-3FF2-4489-9134-30AE63D68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A53FE-E17F-4081-B99C-82B39C94C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3CACF-DC9B-43DB-BCB3-318D38E1D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14720-E2CE-4FF9-9E40-5F6867A3E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C8D67-1356-4793-AFA5-4BE28FC56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FD08F-59F9-45A4-89A5-987B56058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A27F8-674F-43D6-B79C-B2D205DE8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94E4F-8584-4783-8948-E46FC74C6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A399F-C492-4257-95B6-05B27A94B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74CA6-7786-4BD2-8053-C775DF0DE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6E370-8F9B-456A-9409-526F0FC09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C2760-4280-4A3C-BD51-7C525C2DA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7065C5-4ECD-4F01-9A24-337B4D310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FB3E73-A730-4738-B608-037946346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7695FB-0034-43C8-8FC5-A7D92C557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A1199F-99EC-441D-AA5B-AE4B9EC3C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4FFC1C-670E-49FE-A0F2-FDF0D8C0D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BA6E7-3DEB-4A42-BAE2-A850E5BCB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1C27AE-CE48-46C2-88F7-B973C1FE4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FA05B0-7AD9-41D2-AEF8-F56952AE2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448FE5-5723-4BDD-A4B5-20F93A8C6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51AAC6-8357-4250-8697-47F44D897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65214E-5254-4EDF-9045-0CF50F507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8B340F-3111-496F-A260-11DFEE376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3536C4-41D8-43DD-886F-FD12E2B45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8FC66E-1C8A-485A-ADAA-7F159CE32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324DDB-87B7-4929-A1AB-1422F5037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E19D44-BBF0-42F9-98FC-A56404F39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B4EDC-70B2-4592-8D42-9FDECA898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98B9F0-3CEE-4947-B0CA-4B8BF0C80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EBE843-DBB6-4F83-AA41-2A43BBE0F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61606A-9CBD-4A62-B007-C743B82C2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BD4BD8-7E62-4648-8DB4-1C9218168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2332F8-B337-4870-85A5-A7E108579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22AE59-7C03-4DFE-84F7-034C587FF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1CD696-8FD2-42A9-B00F-90C409ECE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89920D-DC4A-4269-A3D5-EDA142B47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8CA464-1F6F-489A-8145-E0E83817E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C37D54-97CE-4E34-8A0C-17D435238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8AE52-144E-4EA5-B6D5-81A1DB997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CF6BB3-110A-4E44-B662-8FCEC47D6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4784EC-97DC-41DD-9083-CDA6C173C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6F28AB-0AD2-4200-A3EB-89C734306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EE8802-D83C-430A-BC7A-EC7E7CFD2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19BBC0-39AD-4C90-AB33-DCBC60827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2DC9FF-2418-449A-956A-A67D7E494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CC88D3-8AB5-4ADB-8224-6CC66F5F5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82B7E5-636C-43AA-81A8-EBD1E58BC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69E8BB-F244-492A-AAAF-09AAA4688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FA8B80-C249-4818-AD00-2F1E5D5EC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14ABA-00B6-4C43-B8D6-B006386AC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22F4D9-392A-4A09-865C-7E44258F7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53A63-0F1C-436B-A6B1-E70673C0F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928E5-DE1B-4AD3-AAD2-60FC59570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1F397-B8B6-46FE-90BB-C00FA2F75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t-IT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D9DFCC-14A6-4407-8EE5-D727EC862506}" type="slidenum">
              <a:rPr b="1" lang="it-IT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5" name="Straight Connector 7"/>
          <p:cNvSpPr/>
          <p:nvPr/>
        </p:nvSpPr>
        <p:spPr>
          <a:xfrm>
            <a:off x="685800" y="3398760"/>
            <a:ext cx="7848720" cy="1800"/>
          </a:xfrm>
          <a:prstGeom prst="line">
            <a:avLst/>
          </a:prstGeom>
          <a:ln w="19080">
            <a:solidFill>
              <a:srgbClr val="d25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t-IT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F662981-071D-494A-831E-55DFFCB3C7B6}" type="slidenum">
              <a:rPr b="1" lang="it-IT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53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9" name="Straight Connector 6"/>
          <p:cNvSpPr/>
          <p:nvPr/>
        </p:nvSpPr>
        <p:spPr>
          <a:xfrm>
            <a:off x="731880" y="4599000"/>
            <a:ext cx="7848720" cy="1440"/>
          </a:xfrm>
          <a:prstGeom prst="line">
            <a:avLst/>
          </a:prstGeom>
          <a:ln w="19080">
            <a:solidFill>
              <a:srgbClr val="f3f2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3f2d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3f2d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t-IT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49D609E-E968-4342-A2AC-98EC77CD406F}" type="slidenum">
              <a:rPr b="1" lang="it-IT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2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3" name="Straight Connector 10"/>
          <p:cNvSpPr/>
          <p:nvPr/>
        </p:nvSpPr>
        <p:spPr>
          <a:xfrm flipH="1">
            <a:off x="4572000" y="1692360"/>
            <a:ext cx="1440" cy="4708440"/>
          </a:xfrm>
          <a:prstGeom prst="line">
            <a:avLst/>
          </a:prstGeom>
          <a:ln w="19080">
            <a:solidFill>
              <a:srgbClr val="d25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t-IT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94A73A-F037-4310-A939-FEAD8984DE1E}" type="slidenum">
              <a:rPr b="1" lang="it-IT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6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7" name="Straight Connector 8"/>
          <p:cNvSpPr/>
          <p:nvPr/>
        </p:nvSpPr>
        <p:spPr>
          <a:xfrm flipH="1">
            <a:off x="2774520" y="792000"/>
            <a:ext cx="1800" cy="5578560"/>
          </a:xfrm>
          <a:prstGeom prst="line">
            <a:avLst/>
          </a:prstGeom>
          <a:ln w="19080">
            <a:solidFill>
              <a:srgbClr val="d25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t-IT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37AF79-FEC8-4C3D-917C-943D5FDFF351}" type="slidenum">
              <a:rPr b="1" lang="it-IT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848720" cy="1927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2533c"/>
                </a:solidFill>
                <a:latin typeface="Arial"/>
              </a:rPr>
              <a:t>Corso di Laurea magistrale</a:t>
            </a:r>
            <a:endParaRPr b="0" lang="en-US" sz="54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685800" y="3505320"/>
            <a:ext cx="7709040" cy="25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7576e"/>
                </a:solidFill>
                <a:latin typeface="Arial"/>
              </a:rPr>
              <a:t>SCIENZE INFERMIERISTICHE E OSTETRICHE </a:t>
            </a:r>
            <a:endParaRPr b="0" lang="en-US" sz="2200" spc="-1" strike="noStrike">
              <a:solidFill>
                <a:srgbClr val="292934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34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7576e"/>
                </a:solidFill>
                <a:latin typeface="Arial"/>
              </a:rPr>
              <a:t>SCIENZE RIABILITATIVE DELLE PROFESSIONI SANITARIE </a:t>
            </a:r>
            <a:endParaRPr b="0" lang="en-US" sz="2200" spc="-1" strike="noStrike">
              <a:solidFill>
                <a:srgbClr val="292934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34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7576e"/>
                </a:solidFill>
                <a:latin typeface="Arial"/>
              </a:rPr>
              <a:t>SCIENZE DELLE PROFESSIONI SANITARIE TECNICHE DIAGNOSTICHE </a:t>
            </a:r>
            <a:endParaRPr b="0" lang="en-US" sz="2200" spc="-1" strike="noStrike">
              <a:solidFill>
                <a:srgbClr val="292934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2533c"/>
                </a:solidFill>
                <a:latin typeface="Arial"/>
              </a:rPr>
              <a:t>Moduli</a:t>
            </a:r>
            <a:endParaRPr b="0" lang="en-US" sz="48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294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7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34"/>
                </a:solidFill>
                <a:latin typeface="Arial"/>
              </a:rPr>
              <a:t>Metodi e tecnologie per la elaborazione delle informazioni</a:t>
            </a:r>
            <a:endParaRPr b="0" lang="en-US" sz="32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7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34"/>
                </a:solidFill>
                <a:latin typeface="Arial"/>
              </a:rPr>
              <a:t>Metodi statistici per lo studio dei fenomeni sociali e sanitari</a:t>
            </a:r>
            <a:endParaRPr b="0" lang="en-US" sz="32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7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orso di Studi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292934"/>
                </a:solidFill>
                <a:latin typeface="Arial"/>
              </a:rPr>
              <a:t>Lezioni frontali in aula Canani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292934"/>
                </a:solidFill>
                <a:latin typeface="Arial"/>
              </a:rPr>
              <a:t>Diapositive messe a disposizione dal docente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292934"/>
                </a:solidFill>
                <a:latin typeface="Arial"/>
              </a:rPr>
              <a:t>Libro di testo disponibile presso Biblioteca di Santa Maria delle Grazie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292934"/>
                </a:solidFill>
                <a:latin typeface="Arial"/>
              </a:rPr>
              <a:t>Esercitazioni in Aula Informatica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292934"/>
                </a:solidFill>
                <a:latin typeface="Arial"/>
              </a:rPr>
              <a:t>Software MINITAB V15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292934"/>
                </a:solidFill>
                <a:latin typeface="Arial"/>
              </a:rPr>
              <a:t>Disponibile per gli studenti in aula e sul PC personale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292934"/>
                </a:solidFill>
                <a:latin typeface="Arial"/>
              </a:rPr>
              <a:t>Lezioni e Esercitazioni aggiornate sul sito in preparazione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292934"/>
                </a:solidFill>
                <a:latin typeface="Arial"/>
              </a:rPr>
              <a:t>Test di Ingresso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292934"/>
                </a:solidFill>
                <a:latin typeface="Arial"/>
              </a:rPr>
              <a:t>Verifica delle conoscenze di base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292934"/>
                </a:solidFill>
                <a:latin typeface="Arial"/>
              </a:rPr>
              <a:t>Creazione di un Data Set per le esercitazioni     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MINITAB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pic>
        <p:nvPicPr>
          <p:cNvPr id="226" name="Immagine 2" descr=""/>
          <p:cNvPicPr/>
          <p:nvPr/>
        </p:nvPicPr>
        <p:blipFill>
          <a:blip r:embed="rId1"/>
          <a:stretch/>
        </p:blipFill>
        <p:spPr>
          <a:xfrm>
            <a:off x="457200" y="1774800"/>
            <a:ext cx="822960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MINITAB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pic>
        <p:nvPicPr>
          <p:cNvPr id="228" name="Immagine 2" descr=""/>
          <p:cNvPicPr/>
          <p:nvPr/>
        </p:nvPicPr>
        <p:blipFill>
          <a:blip r:embed="rId1"/>
          <a:stretch/>
        </p:blipFill>
        <p:spPr>
          <a:xfrm>
            <a:off x="457200" y="1735200"/>
            <a:ext cx="822960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1T14:41:05Z</dcterms:created>
  <dc:creator>claudio bonifazzi</dc:creator>
  <dc:description/>
  <dc:language>en-US</dc:language>
  <cp:lastModifiedBy>claudio bonifazzi</cp:lastModifiedBy>
  <dcterms:modified xsi:type="dcterms:W3CDTF">2013-12-10T15:41:33Z</dcterms:modified>
  <cp:revision>3</cp:revision>
  <dc:subject/>
  <dc:title>Corso di Laurea magistrale</dc:title>
</cp:coreProperties>
</file>