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870-76F5-4852-B089-6DD64244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8F9-2C53-419C-AB75-8F3C7DB9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87C-21AA-4EA3-9254-1FE07291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85B-555F-4F42-B98D-BAFB8888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A8C8-2E72-4BAF-8F40-8C2D1A43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C743-59F9-43EC-A0CE-5D63EA1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0CBD-DB3F-4884-9C20-FD07AB1C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054D-F1E2-442C-B9B9-5D2E95D2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BA46-5374-4BC3-9B5C-358C998A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2201-F5C3-4A63-9797-8611F3C8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B487-4F19-4F05-8D5F-88023C09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712-606A-4B48-AA7A-59E4EA44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CDDA-B96A-4BF7-82B2-13A86227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F006-4B94-4D59-8942-4268D5E2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3C91-3F80-42A5-ABC6-0BB92FBC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DE2C-F3F6-431B-ABD0-25AD925C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8DD0-31D2-40CA-B477-74A84FB8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F61E-0BDF-440F-B11E-659C4669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ACF06-8023-493B-8953-1B7D6715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716E-E4D3-4AFF-842F-743F8D32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CBC2-66B2-49B5-A88F-8FB0BDA2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A43E-814C-4D3B-A5AF-F75092C7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6FE-68FD-4DA0-A0EB-397F9264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E927-F94C-41EA-AB4A-CE2F6B3D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1C172-ABBC-4985-A97E-9D256CAB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F9E5-417D-4816-82B4-DD0E241F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737CA-54D5-47E3-B085-BF5CF114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8A32-BB0B-4C2D-B6E5-6C9B4580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EE3AC-343B-4A78-9D04-E36298E6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6EAA-8D95-4570-9EA6-A8028CE0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60A6-DFC5-495A-BC13-1BF6373F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9BE5-B712-4FBE-BCAE-C1BB5B21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1615-020E-4C0D-B509-8CDCC60F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127-494B-4946-8F34-2C50D328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C3521-B239-4DD7-A171-2F3AC3AC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B10C-6C75-4647-9D48-42A9CAB4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EDC96-8ACE-4D2C-8CD5-D98197FA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D626C-7577-4C32-ADF7-64E3E1A5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F718-A9B6-4CA0-B0A2-70EC974F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FBBFB-B181-44E1-AC31-93986E89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DA9F2-2FBB-4BE9-8816-5ABE1A34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C8743-980A-439D-8DB8-60A016DA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129BE-BB51-488C-9846-65DE7E46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8261D-6E4B-4B90-ACA3-579C187E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66C-DE9A-4B30-9C3E-3A020DD7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AA0F3-AD49-4549-94D1-E0CEEE44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AEDC1-83BD-4EE2-92C0-EA77D51D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5F8AF-E669-4AFC-A7ED-CBCFDB44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CDD4A-B936-498D-B618-15990336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61CA4-9542-40F1-A8A0-6192117A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B7202-D212-4757-9F49-CB6DB76F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63023-0541-40AD-A019-45D9A893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E5269-9D41-49C9-90D3-45971773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CE8AF-810B-44FC-B6FD-1BBE1B66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B0920-7AED-4AB6-A7C3-2F492856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7AA-64CF-4408-B341-A2AA5344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A9258-02AD-49AE-92E4-DB9B259A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BB4-A448-4C04-A4DE-BD42E3AD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129-63C3-4095-93E4-72A8FD2D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BFF-F0AE-4894-9B3E-979423A3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1B510-4FD1-4BDA-AC36-C4BAF0D9F07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851EA-6A84-46F9-ADAC-1D2D10F75EA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C633D-7352-41A8-B692-6DA84E75808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60D7B-EBF2-4F7E-8C45-CD25E2CD32A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3C026-B3E9-4580-B45A-69CC846A742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Corso di Laurea magistrale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7090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INFERMIERISTICHE E OSTETR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RIABILITATIVE DELLE PROFESSIONI SANITARI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DELLE PROFESSIONI SANITARIE TECNICHE DIAGNOST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533c"/>
                </a:solidFill>
                <a:latin typeface="Arial"/>
              </a:rPr>
              <a:t>Moduli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e tecnologie per la elaborazione delle informazion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statistici per lo studio dei fenomeni sociali e sanitar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rso di Stud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ezioni frontali in aula Canani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apositive messe a disposizione dal docent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ibro di testo disponibile presso Biblioteca di Santa Maria delle Grazi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Esercitazioni in Aula Informati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Software MINITAB V15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sponibile per gli studenti in aula e sul PC person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ezioni e Esercitazioni aggiornate sul sito in preparazion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Test di Ingress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Verifica delle conoscenze di bas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Creazione di un Data Set per le esercitazioni    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6" name="Immagine 2" descr=""/>
          <p:cNvPicPr/>
          <p:nvPr/>
        </p:nvPicPr>
        <p:blipFill>
          <a:blip r:embed="rId1"/>
          <a:stretch/>
        </p:blipFill>
        <p:spPr>
          <a:xfrm>
            <a:off x="457200" y="17748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Immagine 2" descr=""/>
          <p:cNvPicPr/>
          <p:nvPr/>
        </p:nvPicPr>
        <p:blipFill>
          <a:blip r:embed="rId1"/>
          <a:stretch/>
        </p:blipFill>
        <p:spPr>
          <a:xfrm>
            <a:off x="457200" y="17352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4:41:05Z</dcterms:created>
  <dc:creator>claudio bonifazzi</dc:creator>
  <dc:description/>
  <dc:language>en-US</dc:language>
  <cp:lastModifiedBy>claudio bonifazzi</cp:lastModifiedBy>
  <dcterms:modified xsi:type="dcterms:W3CDTF">2013-12-10T15:41:33Z</dcterms:modified>
  <cp:revision>3</cp:revision>
  <dc:subject/>
  <dc:title>Corso di Laurea magistrale</dc:title>
</cp:coreProperties>
</file>