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AD1-1849-4033-8221-6255105E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EA8-A1AC-4697-9FB8-332BC50D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DBB3-E346-4EC4-B0D0-70BF1F47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62A-3638-4543-960C-1E46F54A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3CC-1BE4-4124-84D3-B9E0C676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31E9-F6EF-4E71-AA05-056FA66C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CB81-A53D-42DC-8827-0F348C81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46E4-DBEE-41F8-AE30-0EA0C78F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12EB-4630-45C3-9514-32411EE8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05F-FCB2-42BF-8C84-5C3C3961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D4C4-D8FB-4846-95C5-EBE8BA7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4EF-B920-4E77-8254-FFA88EB8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0BB4-AE1B-4DE9-84A4-64179DD7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0B90-5071-42FF-A4B9-84093B1C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6525-92E7-42B0-8274-D77A798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DAF5-1C44-42A7-85DA-F4CD1320A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F12-9E56-470B-B7DC-C72CB252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1384-5DD5-4E33-9134-BFF31D37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B9F8-2202-49FD-8D2B-BF71C6BA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F9FEA-439F-4056-9534-AEED92F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7642-8E3A-46C6-82DB-736BCF3B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E11A-871A-4D99-ADFD-202976D3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1A5-9111-4CA8-8697-F145B272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D8BE-BC64-485C-B1CC-FFF137C1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40FE-A600-4A83-8F2B-D3C6A076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7BABF-6265-4CF4-9481-7244905D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DC270-0B07-462F-B542-3DB7986F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5530-F547-415A-BF7F-4BD817A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7D693-B386-4BC9-BA3F-ECA2989E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379B3-EB93-47CC-8916-410E81C2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BE25-7D2C-4717-9D35-0061AF5E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A236A-2CA4-411D-98EF-D327121A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46C22-4DBE-4F99-B929-F9685F6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306-5B37-4CDF-8BF4-5FFB92A1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7345D-B54A-43F8-A695-57177591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C17F-C9C7-4C39-A88B-015A90CE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96B3-AA5C-4C8A-8BEE-0D11060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87093-9A4D-451A-9264-AB29A1F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7837-124E-4E08-B1EB-0F0D258D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9E9E6-3C1C-43E7-AD39-AF960001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78E1-3199-463D-A1C4-D34ACE48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DEAC3-0B2D-4E0D-9F3A-9C78010A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D458F-38AB-4083-BC60-3A85DC9A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38E89-30E0-4F61-913C-9F7801A5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84A-1255-4A56-8ABF-132ACF3DF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9BB5A-55AA-41AA-82BE-9993F09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B1B54-C451-4AF4-9020-8C4784DD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E14B4-893A-49A4-900E-451A8D6C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36127-01CE-4F69-AE39-43FE1C73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E44F-710F-49E5-A7EB-1D68E2F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2DB9-1C87-4D52-9295-B4A9F4C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907D4-CEFD-463B-B5C6-FFFBA168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1881-65A7-42FE-886E-BA73399C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06B3-0CD2-4096-81AD-52B336AA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BA329-D441-46DA-BF8A-2DDEF2EE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032F-E3A8-42A0-A793-F9D47D4A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12EEF-6110-4268-B0D6-C27FFBFD4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2B54-FCCE-4BD8-958A-0D2F62B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75E7-EA30-46C7-A9F1-F0CFC764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8DA-5F7A-4A0A-873F-EED785C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C0FD8-84E8-45CB-BD97-340C7D4B9A3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2B618-F113-47B7-B677-DD944BFD988F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4E3CE-3115-4E7F-9A3D-909B5846E43A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DD008A-32B6-445D-A00C-E3AE99311365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1DC4B-719E-49FF-99DE-DE00E575D144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2533c"/>
                </a:solidFill>
                <a:latin typeface="Arial"/>
              </a:rPr>
              <a:t>Corso di Laurea magistral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7090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INFERMIERISTICHE E OSTETR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RIABILITATIVE DELLE PROFESSIONI SANITARI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7576e"/>
                </a:solidFill>
                <a:latin typeface="Arial"/>
              </a:rPr>
              <a:t>SCIENZE DELLE PROFESSIONI SANITARIE TECNICHE DIAGNOSTICHE </a:t>
            </a: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2533c"/>
                </a:solidFill>
                <a:latin typeface="Arial"/>
              </a:rPr>
              <a:t>Moduli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29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e tecnologie per la elaborazione delle informazion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34"/>
                </a:solidFill>
                <a:latin typeface="Arial"/>
              </a:rPr>
              <a:t>Metodi statistici per lo studio dei fenomeni sociali e sanitari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orso di Studi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Lezioni frontali in aula Canani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apositive messe a disposizione dal docent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ibro di testo disponibile presso Biblioteca di Santa Maria delle Grazi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Esercitazioni in Aula Informatica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Software MINITAB V15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Disponibile per gli studenti in aula e sul PC personal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Lezioni e Esercitazioni aggiornate sul sito in preparazion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292934"/>
                </a:solidFill>
                <a:latin typeface="Arial"/>
              </a:rPr>
              <a:t>Test di Ingresso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Verifica delle conoscenze di base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92934"/>
                </a:solidFill>
                <a:latin typeface="Arial"/>
              </a:rPr>
              <a:t>Creazione di un Data Set per le esercitazioni     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6" name="Immagine 2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MINITAB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8" name="Immagine 2" descr=""/>
          <p:cNvPicPr/>
          <p:nvPr/>
        </p:nvPicPr>
        <p:blipFill>
          <a:blip r:embed="rId1"/>
          <a:stretch/>
        </p:blipFill>
        <p:spPr>
          <a:xfrm>
            <a:off x="457200" y="1735200"/>
            <a:ext cx="8229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1T14:41:05Z</dcterms:created>
  <dc:creator>claudio bonifazzi</dc:creator>
  <dc:description/>
  <dc:language>en-US</dc:language>
  <cp:lastModifiedBy>claudio bonifazzi</cp:lastModifiedBy>
  <dcterms:modified xsi:type="dcterms:W3CDTF">2013-12-10T15:41:33Z</dcterms:modified>
  <cp:revision>3</cp:revision>
  <dc:subject/>
  <dc:title>Corso di Laurea magistrale</dc:title>
</cp:coreProperties>
</file>