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E7C-11D9-46AB-9CE7-0A77DCD4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68C-376B-4E79-8C1E-A7E27A43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03B-AE41-4547-9D10-568DE723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E25-3A2C-4735-9E77-E2AC59D1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3726-5797-4B44-9699-29DAD4D1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2C53-F4FE-404E-A916-7A035FC9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D819-D7D5-4AD8-813B-07544071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07FF-AF4C-4DEA-A053-2D24D5FE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670C-C93F-4F4D-92E6-773188F8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FC9B-A453-497C-90E3-28656CEA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DBBA-B5D9-48F9-8D92-0579B478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816-7700-44E9-AF09-5D13C189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90FA-FC1B-4039-A879-3DC51398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EDD8-66DC-4063-B744-7F200C5F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1812-5865-4FDA-8E25-5706C973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551B-C531-4571-B441-F3C4BCB6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74A6-16B1-4289-99B1-EFF9796B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9698-648D-4561-A9BC-68EEABA1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50CA-B2FA-4388-8AB7-54034857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CC31-74F9-4CF0-8428-25406FC1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ACED-C580-4AEA-ADBD-F82B1D56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62D0-20F8-41D3-A5F9-438D34F8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8B8-5332-4BEF-8BE2-E28C8914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FDF9-F253-46A5-87BD-8040BA49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F7E4-6E5F-4904-B6BF-F196913A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9E10-4C56-4805-BB3C-CF14D8A4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860CB-1FD3-41B1-846C-85F2E9B0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8FD5-8DB9-4715-A4DC-6F05652D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E76F3-76B3-4948-BCA4-2D535D5B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5301-E226-4FC4-BA6C-50520542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3A92D-EC88-48D7-9B39-006147B9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FEC41-1AD3-4B89-ACCE-4C2D2794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1D65-B9D6-4FF2-8E9A-60F1B780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D07-A347-477B-BC70-42DBF368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74B8-C457-48D8-BAFD-A90E9BBB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1DD37-38B4-40BC-973E-E616927A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8DFE3-E5E0-4D81-B38D-9B0CC41B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D41B9-DB0B-4D8A-8D7A-64033D3F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1D35-D64F-45E9-8A83-AB3D6332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2DC45-239E-4838-9B7D-150816C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8C83-9558-4798-8FBE-649637E5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7931-DF5D-41AE-8DBD-3C13CE02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19A31-721E-4FBE-9ECE-DC2DD22B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6ABA-6619-45E5-8F93-6B1FD293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14F-5AC1-472E-B883-63E0C4A5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832AF-E490-47CA-B047-125D66A3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E63D9-95A6-4A0A-9679-F44A5795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779F6-BBFD-42A4-96B4-B0441CCB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1B0F0-1B49-4867-B0E7-4328081B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16169-5A52-4FFA-A150-D140CFC2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76F1-9DB0-4663-BB54-87B8B200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0503C-BD55-4671-822A-3FC68CF2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6BD3-CB1D-44AB-A008-8E34C929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66337-F452-47CC-B802-D4498702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7FF7-D15C-49C3-AC85-CB8C581A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89A-136A-49C6-801A-939DDCB4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F40E-7FEF-4828-95A7-1D2E8DCC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F47-8BE3-4318-956B-B23642F4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DFC-1A06-41B5-A30B-6C771F49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7DB-AB58-40FF-BFDE-E25F5C9C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07C9C-B613-4BFB-83EB-51C11CF1F8A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B6ED5-A52E-401D-9F35-F06E1E9F7A68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68C06-CECB-435B-9317-CF4DED8F320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A5BCF-8E64-4E84-9DD8-A414612FAD1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EA0F7-3FBB-4C15-B5D4-5B329B0AB3B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Corso di Laurea magistrale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7090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INFERMIERISTICHE E OSTETR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RIABILITATIVE DELLE PROFESSIONI SANITARI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DELLE PROFESSIONI SANITARIE TECNICHE DIAGNOST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533c"/>
                </a:solidFill>
                <a:latin typeface="Arial"/>
              </a:rPr>
              <a:t>Moduli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e tecnologie per la elaborazione delle informazion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statistici per lo studio dei fenomeni sociali e sanitar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rso di Stud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ezioni frontali in aula Canani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apositive messe a disposizione dal docent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ibro di testo disponibile presso Biblioteca di Santa Maria delle Grazi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Esercitazioni in Aula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Software MINITAB V15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sponibile per gli studenti in aula e sul PC person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ezioni e Esercitazioni aggiornate sul sito in preparazion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Test di Ingress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Verifica delle conoscenze di bas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Creazione di un Data Set per le esercitazioni    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6" name="Immagine 2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Immagine 2" descr=""/>
          <p:cNvPicPr/>
          <p:nvPr/>
        </p:nvPicPr>
        <p:blipFill>
          <a:blip r:embed="rId1"/>
          <a:stretch/>
        </p:blipFill>
        <p:spPr>
          <a:xfrm>
            <a:off x="457200" y="17352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4:41:05Z</dcterms:created>
  <dc:creator>claudio bonifazzi</dc:creator>
  <dc:description/>
  <dc:language>en-US</dc:language>
  <cp:lastModifiedBy>claudio bonifazzi</cp:lastModifiedBy>
  <dcterms:modified xsi:type="dcterms:W3CDTF">2013-12-10T15:41:33Z</dcterms:modified>
  <cp:revision>3</cp:revision>
  <dc:subject/>
  <dc:title>Corso di Laurea magistrale</dc:title>
</cp:coreProperties>
</file>