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0AC-595F-4008-B098-020DBDB8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CC9-3DE6-4EB7-9445-0B128935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6B3-1058-4E54-A850-E855503D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A98-CB45-45C7-8EC4-DB5E9EAF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2362-527E-43E3-9AFD-9C5230AB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554C-A598-4C93-8DCA-2F1229C1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9CD5-1C1D-46CE-9951-2B9054D6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6B92-E19F-4A02-BD32-BAD94DB3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4E30-9664-4A15-AF63-FC0509CF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B83B-2535-43E1-91CA-698D76B3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B850-84B8-49C8-91F2-480EB996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EB4-6DC5-40D2-85B5-C3A9EBB8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8974-1F5A-42C3-ADF6-5C9DB5B0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FFDA-0062-4445-8AF7-741E153B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6017-063D-45E6-8561-3B800DE0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2FCB-30E1-4BBE-8B08-CFDFEA5C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A091-D66D-4902-939B-C9736415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9026A-F288-447B-817E-8EBA53E3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A380-B1D5-4138-9D99-3E7D21C5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ECE7-853E-4785-9936-BF01701F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A096-1582-42DF-AF91-444FABBD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7505-36C7-46BD-BA76-19F07D8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728-34EC-4BAA-805B-047BA946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FE8E-33D0-4590-9EC7-8E00716A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2B20-B04F-4B32-8DDC-FFA18757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2E63-7CA8-4FFB-9218-2E0B4A39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C916-858F-45B7-8832-7C743F74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CFF7-43B0-4580-B1E4-E80D90B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FDB3-3875-4AE2-83BE-455077C9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E29C-1E58-47DC-83DB-1151F64D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FD9B8-EE7A-445A-A383-1C11C065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4D7DB-53EB-44D8-BC62-FF3086A4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C7F82-324A-495F-9A0E-43AC774B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7CC-23C4-4831-9A86-2C217CFD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7EC4-624B-4D8C-88DD-43003ED5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F4068-B53A-4C2C-9D17-29F18A8C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3FCD-E484-4B1C-8D30-EC3B5050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02B8-8656-4A36-BF59-7C02EB8E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C825-55E9-49F9-9543-E1898E55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BD78-6B75-457D-91A6-224E9800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8DA1-F44F-44A7-B65D-9F4F22C6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062AB-B7A8-49DC-88CF-9E3222C3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C1862-6E61-44DD-9A82-87BD941C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AA81B-764F-4899-A580-C4301071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97B-810B-4332-86DC-09207161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0E84D-B663-4A7B-8CD9-D0571DCD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94B59-2E0F-4240-B6E0-6E805126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DFBB-EF9F-43BA-88F2-DC09A0BE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EF4A5-F2BC-4CED-BD92-3649DB5A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108AF-C2D6-487F-BEED-D12BB613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D1CD6-4392-495A-9A6C-575CD9F4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B20C8-2A97-4F1C-BA55-1B261F03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4EC11-1F70-4EAE-B8D0-12020E14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2515C-4E3E-4F27-A841-ACAE2E02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F6419-438E-42F6-BD28-18CC458F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D6D-6E51-448B-8BF9-83653C80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17A3-FE45-4680-B3BF-F65FF099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ED9-4319-4064-9AC6-162B5AB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307-9EDA-4E57-9EAE-10BB275D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DF0-F3A5-4849-B2F3-05D5C35F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A8134-B31D-4B33-BDFE-AB1C20C8776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4D0D1-4BB3-45F5-B223-BF8CF482D68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D64B1-54F6-4CE3-8E45-0480C8FFBA5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002FF-1479-45E1-8C7B-65A82588F55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116DC-658D-4A7D-A219-DC51622B4AA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Corso di Laurea magistrale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7090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INFERMIERISTICHE E OSTETR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RIABILITATIVE DELLE PROFESSIONI SANITARI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DELLE PROFESSIONI SANITARIE TECNICHE DIAGNOST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533c"/>
                </a:solidFill>
                <a:latin typeface="Arial"/>
              </a:rPr>
              <a:t>Moduli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e tecnologie per la elaborazione delle informazion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statistici per lo studio dei fenomeni sociali e sanitar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rso di Stud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ezioni frontali in aula Canani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apositive messe a disposizione dal docent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ibro di testo disponibile presso Biblioteca di Santa Maria delle Grazi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Esercitazioni in Aula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Software MINITAB V15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sponibile per gli studenti in aula e sul PC person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ezioni e Esercitazioni aggiornate sul sito in preparazion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Test di Ingress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Verifica delle conoscenze di bas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Creazione di un Data Set per le esercitazioni    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6" name="Immagine 2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Immagine 2" descr=""/>
          <p:cNvPicPr/>
          <p:nvPr/>
        </p:nvPicPr>
        <p:blipFill>
          <a:blip r:embed="rId1"/>
          <a:stretch/>
        </p:blipFill>
        <p:spPr>
          <a:xfrm>
            <a:off x="457200" y="17352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4:41:05Z</dcterms:created>
  <dc:creator>claudio bonifazzi</dc:creator>
  <dc:description/>
  <dc:language>en-US</dc:language>
  <cp:lastModifiedBy>claudio bonifazzi</cp:lastModifiedBy>
  <dcterms:modified xsi:type="dcterms:W3CDTF">2013-12-10T15:41:33Z</dcterms:modified>
  <cp:revision>3</cp:revision>
  <dc:subject/>
  <dc:title>Corso di Laurea magistrale</dc:title>
</cp:coreProperties>
</file>