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399-8B1E-4478-91E2-0634BFE9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98B-B8D0-4F94-863C-010045B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C7A-591B-400E-95FD-984A43A6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EBB-5E96-4C20-96C5-43F18B71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B70A-B38E-45D0-8968-747953E1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8C6-BB96-4B10-975D-760A1AE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C2B4-2FFC-491D-A054-8EAEE1EE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3F58-1668-4F2E-B418-5BBEAC8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F795-3833-4BD4-9302-F1AC50A9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7ADA-D504-452E-B4BC-E68B12B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F20A-8B41-4B60-B107-44F5EBD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490-ABF1-418A-ABF8-ADA95815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3C3C-A560-4AFC-9BF0-85EBF7B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4306-6728-461A-8464-ECFA586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78F9-43CD-401E-A96B-A288221E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E286-AEBB-45E1-87E2-BCF348D5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7C0B-A043-4AD6-B116-9ED9D98A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22BE-C752-4F96-B31B-F48511E8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650E-0C29-48CD-B2B2-EE37E6E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8A9A-F681-4A29-AECF-6A8C8B4C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1CE3-45B0-48FD-BECE-F51019CE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0580-8844-4E44-9312-73FC8E8C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E68-7444-4713-94A4-B637531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EFB5-07BC-4389-8C37-1BF24BCF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E6C0-F6EB-43B9-B956-13AA820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A1B9-B4B2-42F1-8777-A7F524F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6807-DD81-4811-9594-E5809F3F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3245-90D4-45F5-9DA7-0F069A70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87BE-DF43-4C62-BA77-29E2DD3A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7C1D-E91E-4F28-B79C-B6429279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B703-8860-429D-8F27-FA06FDEE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3F6A-C8AA-4FD6-9E5F-FD34B688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BD6E-7A4D-42CB-A15A-C237917F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1F7-D68B-41FB-A80E-F532B55B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1849-0D69-4157-8E67-99425AFD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1330-B276-4A51-B933-08F7C40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6F0C-E0AA-4E47-910F-F36EC8BF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7C74-638C-4A36-92CE-1566CE2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86D1-6A0E-4CC1-B8A7-36FF88B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9AC1-64C7-468A-A881-1E775CF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436E-59A9-44D9-834B-A24F0B66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1ACC-4E6F-47E5-8495-D760EBF3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BB24-58C8-41A3-9F46-A9837F3C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EAC1-9847-460B-8736-DB3E52E1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B49-C29C-49C7-A549-D77605EF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8DFB-0153-4037-BE59-4A9C5C5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F93C-6AEB-4FEA-AA4D-29208BE3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4310A-8574-4C94-A9CC-D34A7B1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8BDB-680E-4CB7-B918-904159D5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83C55-3914-4B3C-84FD-8E169ED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31C9-61EB-4E1B-91A4-9DC673BE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7111-120F-498A-AA21-EBF1D27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1DA35-8AFB-453C-AC0A-6AD2714E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101F-835B-4382-8F89-FDBB9D1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D3474-B910-4F3F-92E0-B35157C5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669-F657-4E15-A6A0-EAFD02F3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602C4-FAC4-4DAB-95BB-61711867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7CA-63AC-4FDC-8883-1C70D12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EBD-14CF-4EF3-9ED0-05DE1B0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54E-D7EB-41AA-BE75-27F9F86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38388-FCD0-4492-AEA5-CCDA1DEFB42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25C03-74EC-4893-9BEA-2C8DA0786B2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EAC77-CEB0-4010-9F6A-99EC1302B38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075FD-0B86-4D8B-B33B-6FBC53788C5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61C8A-DE67-4C00-96B2-1DBD4EBADD6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orso di Laurea magistral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709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INFERMIERISTICHE E OSTETR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RIABILITATIVE DELLE PROFESSIONI SANITARI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DELLE PROFESSIONI SANITARIE TECNICHE DIAGNOST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Moduli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e tecnologie per la elaborazione delle informazion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statistici per lo studio dei fenomeni sociali e sanitar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rso di Stud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ezioni frontali in aula Canani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apositive messe a disposizione dal docen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ibro di testo disponibile presso Biblioteca di Santa Maria delle Grazi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Esercitazioni in Aula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Software MINITAB V15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sponibile per gli studenti in aula e sul PC person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zioni e Esercitazioni aggiornate sul sito in preparazi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est di Ingress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Verifica delle conoscenze di b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Creazione di un Data Set per le esercitazioni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Immagine 2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Immagin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41:05Z</dcterms:created>
  <dc:creator>claudio bonifazzi</dc:creator>
  <dc:description/>
  <dc:language>en-US</dc:language>
  <cp:lastModifiedBy>claudio bonifazzi</cp:lastModifiedBy>
  <dcterms:modified xsi:type="dcterms:W3CDTF">2013-12-10T15:41:33Z</dcterms:modified>
  <cp:revision>3</cp:revision>
  <dc:subject/>
  <dc:title>Corso di Laurea magistrale</dc:title>
</cp:coreProperties>
</file>