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7138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3880"/>
              <a:gd name="textAreaBottom" fmla="*/ 9713520 h 9713880"/>
            </a:gdLst>
            <a:ahLst/>
            <a:rect l="textAreaLeft" t="textAreaTop" r="textAreaRight" b="textAreaBottom"/>
            <a:pathLst>
              <a:path w="21600" h="30594">
                <a:moveTo>
                  <a:pt x="5" y="0"/>
                </a:moveTo>
                <a:arcTo wR="5" hR="5" stAng="16200000" swAng="-5400000"/>
                <a:lnTo>
                  <a:pt x="0" y="30589"/>
                </a:lnTo>
                <a:arcTo wR="5" hR="5" stAng="10800000" swAng="-5400000"/>
                <a:lnTo>
                  <a:pt x="21595" y="3059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3"/>
          </p:nvPr>
        </p:nvSpPr>
        <p:spPr>
          <a:xfrm>
            <a:off x="3886200" y="-360"/>
            <a:ext cx="2946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998280" y="728640"/>
            <a:ext cx="4833720" cy="3619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036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4"/>
          </p:nvPr>
        </p:nvSpPr>
        <p:spPr>
          <a:xfrm>
            <a:off x="0" y="9224640"/>
            <a:ext cx="2946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5"/>
          </p:nvPr>
        </p:nvSpPr>
        <p:spPr>
          <a:xfrm>
            <a:off x="3886200" y="9224640"/>
            <a:ext cx="2946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E4F7D-56C4-4464-9FEC-EFFCCF974B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09800" y="728640"/>
            <a:ext cx="4836960" cy="364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00080" y="728640"/>
            <a:ext cx="48592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614840"/>
            <a:ext cx="49975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5022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8800" y="728640"/>
            <a:ext cx="500040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040" y="4603680"/>
            <a:ext cx="5010120" cy="440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7B89-6942-42E7-ADDA-136B9DF8E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4864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5208840"/>
            <a:ext cx="774864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2282-2DAC-4723-BB15-EFD7BB13C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520884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6240" y="520884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058D-0999-4ACE-B1C9-A33BADE26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05880" y="175248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25600" y="175248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520884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05880" y="520884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25600" y="520884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2487-C287-4EA5-BDCA-A503A92D0B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4864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F179-EBE6-4FE1-84E1-C78272788F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4864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42CD-E1F4-4E61-B235-8C3794981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1B13-9763-45F1-8841-C32A69106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A062-AD34-4AFD-BE33-350DFF7CC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6160"/>
            <a:ext cx="774864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CA7F-7838-4758-9EE9-5AB01D5DC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520884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EF3F-FDA1-46BF-A96E-36E40DAEE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6240" y="520884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C241-C83E-4D65-A8DB-ADD827506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5208840"/>
            <a:ext cx="774864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D3D9-3462-4C22-A62E-C05271184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4864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7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46240" y="6248520"/>
            <a:ext cx="11966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5E297-4333-43D4-9C9E-93C22FCBC2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1981080"/>
            <a:ext cx="74674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43200" y="2919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219320"/>
            <a:ext cx="7696080" cy="75960"/>
          </a:xfrm>
          <a:prstGeom prst="rect">
            <a:avLst/>
          </a:prstGeom>
          <a:solidFill>
            <a:srgbClr val="000000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0160" y="29336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391520" y="5867280"/>
            <a:ext cx="1295280" cy="744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76212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0256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07640" y="5202000"/>
            <a:ext cx="34196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Lucida Sans Unicode"/>
              </a:rPr>
              <a:t>Bernd Faa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946160"/>
            <a:ext cx="3962520" cy="2320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ECK-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ER L’EST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819520" cy="2400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QUALIFICA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0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mprovata da formazio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mprovata da mansioni svolt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dealmente almeno 2 anni di esperienz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Supportata da referenz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Presentata secondo gli standard del mercato ester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3273-5373-4D59-A81C-2812FECAB3E9}" type="slidenum">
              <a:t>10</a:t>
            </a:fld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Età - Sess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619280"/>
            <a:ext cx="7770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Stage: durante o dopo la formazio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Lavoro non qualificato: fino a 30 anni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Lavoro qualificato: fino a 40 anni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Emigrazione extra: da 30 anni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Donne: soglia dei 30 anni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7348680" y="-301680"/>
            <a:ext cx="45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6920" y="3311640"/>
            <a:ext cx="19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7DA2-72CC-4FB8-91C0-5A1E61A07D33}" type="slidenum">
              <a:t>11</a:t>
            </a:fld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493560"/>
            <a:ext cx="8280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OSCENZA DEL MONDO DEL LAVOR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6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nformarsi su elementi del diritto del lavoro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retribuzione, benefit, contratti ecc.)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6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noscere le modalità d’accesso al mercat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6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Padroneggiare le modalità di candidatura e di colloqui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4552-DD12-46E3-A38D-539FC60BBE19}" type="slidenum">
              <a:t>12</a:t>
            </a:fld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384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NETWORKING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774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tre 50% dei lavori (e di stage) si trova tramite conttati. Oggi si deve sfruttare le comunità virtuali di social / business network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facebook.co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xing.co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linkedin.co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Siti e forum di “Italiani a .....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1006-29FC-4B4F-A181-405CB47D8B33}" type="slidenum">
              <a:t>13</a:t>
            </a:fld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DISPONIBILITA’ ECONOMICA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19200"/>
            <a:ext cx="77709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77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Spesa da programmare per il 1. mese in una grande città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131920"/>
            <a:ext cx="532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aggio (volo e treno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se di trasporto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se per la ricerca del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se per abbigliament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revi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752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ot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1771560"/>
            <a:ext cx="316692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€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,00-300,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00,00-8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1.350,00 -2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5408640"/>
            <a:ext cx="8424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18960">
              <a:lnSpc>
                <a:spcPct val="77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+ eventuale cauzione + eventuale commissione agenzia immobiliar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3EFD-E14C-42EC-AEAB-D5D9496F68F7}" type="slidenum">
              <a:t>14</a:t>
            </a:fld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90440"/>
            <a:ext cx="7767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EMPI DI ATTUAZIONE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767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ge Organizazioni Int.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3-6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ge ONG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3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ge grande azienda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3-6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ge azienda media/piccola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-3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avoro artigianal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2-4 settima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avoro nei servizi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2-4 settima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avoro in uffici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-3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avoro da laureat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3-6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14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363680" y="5526000"/>
            <a:ext cx="976320" cy="486000"/>
          </a:xfrm>
          <a:prstGeom prst="rightArrow">
            <a:avLst>
              <a:gd name="adj1" fmla="val 28204"/>
              <a:gd name="adj2" fmla="val 41545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295960"/>
            <a:ext cx="39592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iù alta la qual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iù tempo serve per inseri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399E-D510-45BB-8CE8-8EE729E359EC}" type="slidenum">
              <a:t>15</a:t>
            </a:fld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PREPARAZIONE INTERCULTURAL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Usi e costumi del paese in questio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mportamento e abitudine delle persone locali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Relazioni nell’ambito di lavor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2076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2076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integrarsi senza rischiare gaffe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876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9680-20C9-431F-8274-5302C54E1358}" type="slidenum">
              <a:t>16</a:t>
            </a:fld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CANDIDATURA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/ 1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160" y="1341360"/>
            <a:ext cx="852156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ts val="6163"/>
              </a:lnSpc>
              <a:spcBef>
                <a:spcPts val="1225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V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secondo lo standard del paese / CV europe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6163"/>
              </a:lnSpc>
              <a:spcBef>
                <a:spcPts val="1225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LLOQUIO SUL POSTO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6163"/>
              </a:lnSpc>
              <a:spcBef>
                <a:spcPts val="1225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CONOSCIMENTO DEL TITOLO DI STUDIO ED ABILITAZIONE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p.e. sanità, scuola, ingegneria)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0760" indent="0">
              <a:lnSpc>
                <a:spcPct val="150000"/>
              </a:lnSpc>
              <a:spcBef>
                <a:spcPts val="1225"/>
              </a:spcBef>
              <a:spcAft>
                <a:spcPts val="850"/>
              </a:spcAft>
              <a:buNone/>
              <a:tabLst>
                <a:tab algn="l" pos="0"/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8D2F-1546-4F08-B394-417F0600795C}" type="slidenum">
              <a:t>17</a:t>
            </a:fld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CANDIDATURA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/ 2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0360" y="1692360"/>
            <a:ext cx="8521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Dall’Italia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istema EURES -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fficio di collocamento europe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l’agenzia di reclutamento priv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l’azienda su annunci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Bitstream Vera Sans"/>
              </a:rPr>
              <a:t>successo limita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ul posto: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rvizi nazionali per l’impieg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l’agenzia di reclutamento priv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l’azienda su annuncio oppure spontane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Bitstream Vera Sans"/>
              </a:rPr>
              <a:t>successo maggior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260360" y="3294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5634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F801-7891-4B14-9F5E-3CE36E5D30C4}" type="slidenum">
              <a:t>18</a:t>
            </a:fld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QUADRO LEGAL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523880"/>
            <a:ext cx="84247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arta d’identità o passaporto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validi almeno 6 mes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Iscrizione all’anagrafe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arta di soggiorno dopo 3 mesi (UK 6 mesi)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essera sanitaria europe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U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asse e contributi secondo paese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Riconoscimento dei contributi pensionistici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4B08-A7AF-46DB-8456-DFD62E4C3C74}" type="slidenum">
              <a:t>19</a:t>
            </a:fld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BENEFICI GENERALI  /1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6776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90000"/>
              </a:lnSpc>
              <a:spcBef>
                <a:spcPts val="1451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LINGUA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llau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90000"/>
              </a:lnSpc>
              <a:spcBef>
                <a:spcPts val="1451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RESCITA PERSONALE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(autonomia, proattività, flessibilità, adattabilità)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90000"/>
              </a:lnSpc>
              <a:spcBef>
                <a:spcPts val="1451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OMPETENZA INTERCULTURAL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C810-8CCD-457E-ABB6-D1DEEC3F6C31}" type="slidenum">
              <a:t>2</a:t>
            </a:fld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DIFFICOLTA’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2105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aspettative eccessive o inadegua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arco di tempo sbaglia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nostalgi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straniero = maggiore impegno e dediz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preparazione insufficien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grande concorrenz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D829-83C0-437E-B97C-D8841413CDA0}" type="slidenum">
              <a:t>20</a:t>
            </a:fld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ALTERNATIV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250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70000"/>
              </a:lnSpc>
              <a:spcBef>
                <a:spcPts val="15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Lavoro qualificato non è sempre la soluzione adeguata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70000"/>
              </a:lnSpc>
              <a:spcBef>
                <a:spcPts val="15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Verificare le alternativ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680">
              <a:lnSpc>
                <a:spcPct val="170000"/>
              </a:lnSpc>
              <a:spcBef>
                <a:spcPts val="850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680">
              <a:lnSpc>
                <a:spcPct val="170000"/>
              </a:lnSpc>
              <a:spcBef>
                <a:spcPts val="850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volontariat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680">
              <a:lnSpc>
                <a:spcPct val="170000"/>
              </a:lnSpc>
              <a:spcBef>
                <a:spcPts val="850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formazio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1A31-F8CF-4ED3-8720-3D481A069529}" type="slidenum">
              <a:t>21</a:t>
            </a:fld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94920"/>
            <a:ext cx="7767720" cy="8874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"/>
          <p:cNvSpPr/>
          <p:nvPr/>
        </p:nvSpPr>
        <p:spPr>
          <a:xfrm>
            <a:off x="804960" y="2486160"/>
            <a:ext cx="204768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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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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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2560" y="2486160"/>
            <a:ext cx="292572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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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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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84360" y="1542960"/>
            <a:ext cx="6335640" cy="5144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’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0" y="2486160"/>
            <a:ext cx="202716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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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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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3160" y="5746680"/>
            <a:ext cx="429552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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5600" y="4873680"/>
            <a:ext cx="237168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80000" y="4859280"/>
            <a:ext cx="1832040" cy="7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AE2D-4994-41F5-A758-94AE5113B01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Bitstream Vera Sans"/>
              </a:rPr>
              <a:t>Grazie per l’attenzione.</a:t>
            </a:r>
            <a:endParaRPr b="1" lang="en-US" sz="37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Bernd Faa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a Mercato Nuovo 44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6100 Vicenz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. 0444-96477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@eurocultura.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eurocultura.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2952720"/>
            <a:ext cx="411480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8840-9586-400C-B742-6BEAEA5FF025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9246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BENEFICI GENERALI /2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720" y="16192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ts val="5888"/>
              </a:lnSpc>
              <a:spcBef>
                <a:spcPts val="1162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RRIERA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iù chiarezza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5888"/>
              </a:lnSpc>
              <a:spcBef>
                <a:spcPts val="1162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RESCITA PROFESSIONAL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iù competenz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5888"/>
              </a:lnSpc>
              <a:spcBef>
                <a:spcPts val="1162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RRICHIMENTO CV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5888"/>
              </a:lnSpc>
              <a:spcBef>
                <a:spcPts val="1162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IPENDI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iù eleva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47D7-782E-4172-B14D-1AE1CE9FBE17}" type="slidenum">
              <a:t>3</a:t>
            </a:fld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CHECK-UP per L'ESTER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05840" cy="44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ingu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Qualif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tà - Sess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oscenza del mondo del lavor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isponibilità econom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empi di attuaz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eparazione intercultur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EF4B-DD0F-46B2-BE70-9CBAD7603D90}" type="slidenum">
              <a:t>4</a:t>
            </a:fld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LINGUA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Regola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5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sufficiente per svolgere la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5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mansione prevista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C94B-F00D-42EB-A800-525800AADB79}" type="slidenum">
              <a:t>5</a:t>
            </a:fld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6600" indent="0" algn="ctr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Quadro europeo delle lingu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ivello B1 = sogli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876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È in grado di comprendere i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unti essenzial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di messaggi chiari in lingua standard su argomenti familiari che affronta normalmente al lavoro, a scuola, nel tempo libero, ecc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876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 la cava in molte situazion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che si possono presentare viaggiando in una regione dove si parla la lingua in questione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876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rodurre testi semplici e coerent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su argomenti che gli siano familiari o siano di suo interesse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876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È in grado di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descrivere esperienze e avveniment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, sogni, speranze, ambizioni, di esporre brevemente ragioni e dare spiegazioni su opinioni e progetti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B50F-4EB7-406E-A69E-9F92B095964A}" type="slidenum">
              <a:t>6</a:t>
            </a:fld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Esempio: livello B1 nel posto di lavoro</a:t>
            </a: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1054080"/>
            <a:ext cx="5616720" cy="107964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elaborare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/ </a:t>
            </a:r>
            <a:r>
              <a:rPr b="0" i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trattare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informazioni est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- utente indipendente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2349360"/>
            <a:ext cx="2087640" cy="4320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ASCOL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1000" y="2349360"/>
            <a:ext cx="2087640" cy="4320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EGG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349360"/>
            <a:ext cx="2087640" cy="4320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PARL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88320" y="2349360"/>
            <a:ext cx="2003400" cy="4320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CRIV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2400" y="2819520"/>
            <a:ext cx="2087280" cy="27432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Raccogli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informa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tand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all’amb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avorativ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21000" y="2819520"/>
            <a:ext cx="2087640" cy="289548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Capire 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ettere standar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raccogliere i tes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tandard (informazi-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oni sui proces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avorativi  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escri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i prodotto)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2819520"/>
            <a:ext cx="2089440" cy="325116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are informa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ull’attività/uffici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azienda/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e le procedur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colloqui pers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o al telefono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Raggiung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ecisioni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accordi sull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i strut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inguis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familiar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2819520"/>
            <a:ext cx="1984320" cy="29718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Redigere richiest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offerte standar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crivere testi pi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brevi su te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familiari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eventualmente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commenti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grafici semp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4A24-A506-4590-9F72-5954B2197E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Lingua per personale qualificat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lnSpc>
                <a:spcPct val="13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ivello C1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 (Effective Operational Mastery)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1125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È in grado di comprendere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un'ampia gamma di testi compless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 e piuttosto lunghi e ne sa ricavare anche il significato implicito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1125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Si esprime in modo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scorrevole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 e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spontaneo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, senza un eccessivo sforzo per cercare le parole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1125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Usa la lingua in modo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flessibile ed efficace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 per scopi sociali, accademici e professionali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1125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Sa produrre testi chiar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, ben strutturati e articolati su argomenti complessi, mostrando di saper controllare le strutture discorsive, I connettivi e i meccanismi di coesione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0968-DC77-4366-87AF-1888CB67AC07}" type="slidenum">
              <a:t>8</a:t>
            </a:fld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SAMI RICONOSCIUTI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generali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MBRIDGE – IELTS - TOEF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OETHE  - TestDa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E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ELF – DA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3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specifici</a:t>
            </a:r>
            <a:r>
              <a:rPr b="1" i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7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BEC – CCIP - Wirtschaftsdeuts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E409-5E76-490F-A37F-C7A55E4FEABD}" type="slidenum">
              <a:t>9</a:t>
            </a:fld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rnd Faas</dc:creator>
  <dc:description/>
  <dc:language>en-US</dc:language>
  <cp:lastModifiedBy>Faas Bernd</cp:lastModifiedBy>
  <cp:lastPrinted>2013-01-20T01:15:50Z</cp:lastPrinted>
  <cp:revision>0</cp:revision>
  <dc:subject/>
  <dc:title>Fare carriera all´estero</dc:title>
</cp:coreProperties>
</file>