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712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715680" cy="68565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715680" cy="68565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734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3"/>
          </p:nvPr>
        </p:nvSpPr>
        <p:spPr>
          <a:xfrm>
            <a:off x="5503680" y="0"/>
            <a:ext cx="4174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39912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0884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4"/>
          </p:nvPr>
        </p:nvSpPr>
        <p:spPr>
          <a:xfrm>
            <a:off x="-360" y="6512040"/>
            <a:ext cx="41734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5"/>
          </p:nvPr>
        </p:nvSpPr>
        <p:spPr>
          <a:xfrm>
            <a:off x="5503680" y="6512040"/>
            <a:ext cx="4174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17CD-C72B-4DD0-BF35-F1BCF9A1ADC8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113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3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113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7791-D91B-494F-91D3-4902514D8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455940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0D5B-7634-451D-A960-801216B37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20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5EBA-8D8C-4AFC-B5F6-9C83D6BAA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192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840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192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840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49F6-A570-4899-BBE4-AEFCDD2B2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F51C-8DFA-44C0-B319-5915EAFCA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5A7A-7708-4618-96E1-5FEF39888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3514-94A1-4277-9F82-C673422F3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9547-5105-4F5E-ABA1-E61ED132C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108000"/>
            <a:ext cx="77389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488B-9370-4039-95D7-46A9404C9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FAA6-D1A8-489C-BC8B-2074AE9F3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20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F583-58F9-45D8-A005-D554AD383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1CAD-EFDD-4951-80CC-012BE46B4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8160" y="6248160"/>
            <a:ext cx="5554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5541C-4FBE-4F75-A8D3-4B290583CF56}" type="slidenum"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1981080"/>
            <a:ext cx="74674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58120" y="5940360"/>
            <a:ext cx="1181160" cy="585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1295280"/>
            <a:ext cx="777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360360" y="360360"/>
          <a:ext cx="9000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360360"/>
                    <a:ext cx="900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1920"/>
            <a:ext cx="77691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752480"/>
            <a:ext cx="7416720" cy="1981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La domanda di lavoro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in lingua inglese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140360"/>
            <a:ext cx="4168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relato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5720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erminologia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37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9250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3880"/>
            <a:ext cx="3886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Ingles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urriculum Vita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ver Lett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089680" y="2570040"/>
            <a:ext cx="2377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523880"/>
            <a:ext cx="3505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American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su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vering Lett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881520"/>
            <a:ext cx="853452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breve e conciso senza tralasciare dettagli importanti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ssimo 20 parole per fras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ont di scrittura: commerciale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Arial, Courier, Times New Roma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uguale per CV e Cover Letter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BAD6-A12B-4053-9BCC-D68B2211120B}" type="slidenum">
              <a:t>10</a:t>
            </a:fld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6992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ver letter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1512720"/>
            <a:ext cx="783540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ndirizzata a persona specifica (telefonare prima)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ggetto dopo “Dear Sir or Madam, Dear Mr Smith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fermare i dettagli dell’annuncio con competenze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reare attenzione per il CV senza fare ripetizioni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i dare informazioni negativ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cludere con “Yours faithfully, Yours sincerely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sotto la firma ENC: (allegati)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E99C-1468-413B-B362-ACBE2CF8C3F6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3720" y="31284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nnuncio e rispost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1763640"/>
            <a:ext cx="3780000" cy="41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specialistic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esperienza di lavoro e mansion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conferenz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prem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dicare budge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programmi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800360"/>
            <a:ext cx="3961080" cy="41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t">
            <a:normAutofit/>
          </a:bodyPr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raduat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t least 1 year marketing  experienc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fident communicator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reativ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ood with figure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ood level of PC literacy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0803-9CEF-411B-ABD5-BD3E1E1E4171}" type="slidenum">
              <a:t>12</a:t>
            </a:fld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120" y="307440"/>
            <a:ext cx="776916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Versioni CV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0360" y="1618920"/>
            <a:ext cx="77691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onologic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inizio con formazione o esperienza professi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ematic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in rilievo formazione e/o esperienze attinenti al posto vaca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18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Mis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2404800" y="2625840"/>
            <a:ext cx="5155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na carriera mirata senza buch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4319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572000"/>
            <a:ext cx="5715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88960" y="4319640"/>
            <a:ext cx="3862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na carriera non line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B9C4-E870-4E12-9D09-B9DB03C68EAF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ruttura CV cronologic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36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sonal Det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ob Objective / Career Objective / Job Tar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ork Experience / Employment History (ev. come Profile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hievements / Accomplishme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ducation / Qualif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kills / Additional Skil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obbies / Intere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E82C-B25B-4A1A-A253-C873E80CFBC1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ruttura CV tematic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036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rsonal Detai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ob Objective / Career Objective / Job Targ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. Top Skill (fondamenta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. Top Skill (fondamenta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. Top Skill (uti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other Skill (uti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ea of Proficienc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hievements / Accomplishme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ork History (solo durata, mansione, azien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ducation / Qualification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obbies / Interes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923F-7AAB-48D6-80F2-EB656DDF609D}" type="slidenum">
              <a:t>15</a:t>
            </a:fld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" y="61920"/>
            <a:ext cx="8094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reer Objective / Job Targe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012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assumere in 1-2 righe l´obbiettivo professionale collegato strettamente con la posizione annunci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ts val="5125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 customer service position in the leisure industr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73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anaging the network and computer development of a large progessive organizaz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22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o obtain a position as a coordinator in Rehabilitation Services at Hospit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22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o obtain an internship within the marketing department of a  financial organisation to enhance my education as a marketing profession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3839-D4D8-4079-9A5F-3B9DB472B422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Profi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079640"/>
            <a:ext cx="80582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piega il carattere della persona e le sue qualifiche e competenz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fficient and organised Team Secretary with a wealth of skills gained in a variety of organisations. Very good at working under pressure within a hectic environment with changing prioriti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experienced and conscientious Manager with excellent organisational skills. Very resourceful when dealing with problem-solving. Good negotiation and teamworking skills. Successfully ran a busy office environment gaining valuable knowledge of improving departmental efficiency. Excellent word-processing and database management skill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patient, perceptive and thorough research assistant, with a specific interest in education and development, especially as applied to adult learning, and practical experience of eliciting, collecting and analysing psychological data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953E-F071-4786-9D8B-57EF6697FC2E}" type="slidenum">
              <a:t>17</a:t>
            </a:fld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ork history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0582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vori elencati in modo cronologico invers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olo della mansione, denominazione azienda, cit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scrivere mansioni princip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nzionare “achievements”= riportare i risultati raggiunti mirando sulla futura aziend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lencare mansioni collegate con la posi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40E4-B268-4CDD-A9B5-D0E154B38D26}" type="slidenum">
              <a:t>18</a:t>
            </a:fld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Power word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5824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ratteristiche positiv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, ambitious, analytical, calm, communicative, compet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ed, contributed, created, determined, executed, facilita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tteristiche ricercat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, punctual, trustworthy, friendly, willing to learn, enthusiastic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: competitive advantage, appearance and marketability, organisation, information flow, staff performance, teamwork and relationship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D2A2-D99E-4AE9-BA39-9E23826EE070}" type="slidenum">
              <a:t>19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BUONO A SAPERS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40976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minuti / secondi per la prima scrematu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candidature per annunci su Inter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lavori trovati tramite network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lavori tramite annunci su Inter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selezionatori verificano su Facebook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posti di lavoro non pubblicizza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Non Panda ma .....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ts val="4363"/>
              </a:lnSpc>
              <a:spcBef>
                <a:spcPts val="601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C9EF-F4D8-4676-9BF2-B064F846F9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Referenz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6360" y="1150560"/>
            <a:ext cx="830736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gnome e indirizzo-telefono di almeno due “referees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ondo accademico -  ambiente di lavo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vita scolastica – privata da evitare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iederne il permesso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vailable upon request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C4FB-7DB3-4439-83D8-D72EB14DC5A4}" type="slidenum">
              <a:t>20</a:t>
            </a:fld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itolo di studi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3720" y="126036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University of Turin, “Laurea specialistica in architettura” (equivalent MA in archite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468440" indent="-55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A: Major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Minor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thesi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stituto tecnico “G.Garibaldi”, Turin, Italian “diploma di maturità” (British equivalent A-Level, American equivalent High School Exam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056D-3B60-470A-B63B-460E15784F42}" type="slidenum">
              <a:t>21</a:t>
            </a:fld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Vot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720" y="1800000"/>
            <a:ext cx="776592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rst class Honours degree in... (1.1 = 110/110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pper second class (2.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cond class ecc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Grade Point Average GPA: A (110/110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41148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4114800" indent="-43812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 (failed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BC1E-6316-41B3-9E45-3B2769F88BD0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a evita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161928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 stipendio, razza, religione, stato familiare, scuola elementare, luogo di nascita (USA: data di nascita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igle e abbreviazion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lingua parl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giustificazioni (durata breve di un lavoro, bucchi, candidarsi all'estero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irma nel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8DB3-2FD6-4508-95F2-AA7FAFED3CE0}" type="slidenum">
              <a:t>23</a:t>
            </a:fld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pplication form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400" y="1439640"/>
            <a:ext cx="8382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olto utilizzato da amministrazioni pubbliche, agenzie di reclutamento e organizzazioni internazion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mette di confrontare velocemente candidati diver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mpre chiedersi: perchè fanno questa domanda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chiede grande attenzione nella compilazione perché non segue la logica del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4E81-867E-4374-8068-3F3B939843C7}" type="slidenum">
              <a:t>24</a:t>
            </a:fld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omande specifich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7400" y="1186920"/>
            <a:ext cx="83822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an example of a problem requiring analysis. What methods did you use and what conclusions did you reach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plain why you have applied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details of your main extra-curricular activities and interests. What have you contributed and what have you got out of them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an example of when you set yourself a demanding goal and overcame obstacles to achieve it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7456-B03A-45B4-B8AD-9818333C1A16}" type="slidenum">
              <a:t>25</a:t>
            </a:fld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</a:rPr>
              <a:t>Organizzazione internazionale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136520"/>
            <a:ext cx="86756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stitutions in Higher education and titles of degree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iversity scholarship, publication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nowledge of languages: Read -  Write – Speak – Understan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mputer skills : Basic – Good -  Excellen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ployment: Any previous practical experience giving details of duti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reas of interest for the internship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37E2-02A0-48D7-B2D3-3954431BD30F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Modulo on lin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0120" y="1798200"/>
            <a:ext cx="7769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die e grandi aziende e organizzazioni internazion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gido nella compila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mpilare prima off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rematura auto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renning per parole chiav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F073-6AB6-4BF4-B61A-5D85F8B985D9}" type="slidenum">
              <a:t>27</a:t>
            </a:fld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60000"/>
            <a:ext cx="77691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V europe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7691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cora poco conosciu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gido nella struttu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 amministrazioni pubblich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on adatto alle aziend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85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http://europass.cedefop.europa.e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A06A-8193-438B-B99F-C0144A3EB318}" type="slidenum">
              <a:t>28</a:t>
            </a:fld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192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Errori frequent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0120" y="161928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duzione letterale della domanda italia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ruttura poco chia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enominazione professionale sbagli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dicazione incompleta delle compet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ssun adattamento delle particolarità itali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ssun controllo di grammatica e stil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mpa dimenticata prima della spedizione (e-mail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C267-2BEB-4CD9-8F46-191EF3C31291}" type="slidenum">
              <a:t>29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didatura all’estero - cosa serve?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71320"/>
            <a:ext cx="84963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14544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ettera     CV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to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iplomi      Referenz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ermani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ranci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x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   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rland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no Unito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pagn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ti Uniti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ADA0-D35C-4AF1-BAE4-F133E654EA5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06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a ricordars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0360" y="1332000"/>
            <a:ext cx="809928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sciarlo “riposare” e spedirlo dopo la rilettur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ileggere a voce alta la lettera di motivazione e parti liberi dell'application form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farlo controllare da un'altra person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ntrollare l'esattezza dei dati personali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enere una copia con l'annuncio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A57A-9571-4C91-84CD-90A777B1AA7F}" type="slidenum">
              <a:t>30</a:t>
            </a:fld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Homepag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199880"/>
            <a:ext cx="82864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lietto da visita mondi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formazioni multipli su se stesso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cile da aggiorna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cile da personalizza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ccompagna nella carriera profession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6FC4-449F-4AFF-B0A0-09BE0ED41843}" type="slidenum">
              <a:t>31</a:t>
            </a:fld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Blog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3720" y="162720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STRUMENTO DI RICERCA INDIRETT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 abbiamo qualcosa da di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 questo può interessare qualcun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olo contesto professi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origi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assunto di tend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opionine si ma fond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curata con regolari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ar conoscere il blog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1942-C5FF-45A6-9F2C-32031F58167D}" type="slidenum">
              <a:t>32</a:t>
            </a:fld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3720" y="36036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Video CV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720" y="146520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rumento del futur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utile in particolare all'inizio carrier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arsi conoscere velocemente a tan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nglese ottim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rve personalità comunicativ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preparazione accurata con supervis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schio: non mirato su singola aziend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4558-AC59-47E3-BED0-7A1066D1F997}" type="slidenum">
              <a:t>33</a:t>
            </a:fld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3720" y="36036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ocial/business networ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mpre più utilizzato da reclutatori sia per cercare sia per verific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permette far rete con colleghi e accedere ai loro contat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chiede forte impegno di tempo e costa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schi dovuti ai commenti e ai amici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ATT.: la rete non cancella nient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2DA1-A587-4EFD-8949-47928A997B21}" type="slidenum">
              <a:t>34</a:t>
            </a:fld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4120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Risorse su Interne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31256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www.monster.co.uk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prospects.ac.uk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kent.ac.uk/careers/cv/cvexamples.ht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http://jobsearch.about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cvtips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cambiolavoro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0EAF-4EBB-41BA-9ED9-3879608CAD6E}" type="slidenum">
              <a:t>35</a:t>
            </a:fld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enza orienta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erto in li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si di lingu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m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zione, formazione e consulenza sull’este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ers Abro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U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Flas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zi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0" name=""/>
          <p:cNvSpPr/>
          <p:nvPr/>
        </p:nvSpPr>
        <p:spPr>
          <a:xfrm>
            <a:off x="3254400" y="5746680"/>
            <a:ext cx="29286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ww.eurocultura.i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949F-0248-4D2E-9B3B-906CC9A6A6B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7C15-6FA0-4A10-B71C-9E29CCA46378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ANDIDATURA – COME FARE?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137960"/>
            <a:ext cx="82868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tramite pos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tramite e-mail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pplication for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on-li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-------------------------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omepage – Video CV – Blog – social/business network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ts val="5125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AF7D-6973-4961-AB0E-1542DA99DF7E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Iter di selezion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5160" y="1727280"/>
            <a:ext cx="3967200" cy="448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Annuncio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Prima screma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Verifica approfondi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lezione candidat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Verifica (Skype, colloquio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lezione 3-4 candidat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Colloqu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celta defini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Definizione contrat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Inizio 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7920000"/>
            <a:ext cx="1260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5904000" y="1739880"/>
            <a:ext cx="1619280" cy="4471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2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5/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332000"/>
            <a:ext cx="1619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ttima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2016000" y="1332000"/>
            <a:ext cx="1619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7CBD-B9D0-4C9F-88DA-CE1DCF37B4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REPARAZIONE ALLA CANDIDATU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627200"/>
            <a:ext cx="828036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99880">
              <a:lnSpc>
                <a:spcPct val="98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oscere azienda, cultura aziendale, prodott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spondere esattamente alle richieste dell'annunc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atto diretto nell'ufficio pers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lezionare azienda o agenzia con cur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egliere numero consistente di azien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opo la spedizione ricontattare l'aziend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3D97-85D1-4C41-B445-5BC9E529B941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60000"/>
            <a:ext cx="77691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tteggiamento del selezionato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7800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iona anche decine di CV al giorno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 capire entro pochi secondi che il candidato è interessante  = ok, passa al 2. rou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l 2. round approfondisce secondo i requisiti del posto in questione = CV indirizzato ad una posizione specific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094360"/>
            <a:ext cx="1079640" cy="485640"/>
          </a:xfrm>
          <a:prstGeom prst="rightArrow">
            <a:avLst>
              <a:gd name="adj1" fmla="val 50000"/>
              <a:gd name="adj2" fmla="val 5557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2222640" y="5146560"/>
            <a:ext cx="5697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ttersi nei panni della contropar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4ACE-3E2C-477A-860D-BF2BA6C57021}" type="slidenum">
              <a:t>7</a:t>
            </a:fld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0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itstream Vera Sans"/>
              </a:rPr>
              <a:t>Formula</a:t>
            </a: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 A.I.D.A.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08240"/>
            <a:ext cx="8215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attirare l’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ttenzion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tramite una presentazione apparisce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 = suscitare 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interess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per la perso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far nascere il 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desiderio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di conoscerla (telefona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provocare l’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zion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“invito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37AA-4660-41D0-95DA-03172DBEED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7520" y="351000"/>
            <a:ext cx="79628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xtended Truth = verità allargat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04520" y="150192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ts val="5125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Vendere bene se stesso e le proprie competenz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185760" indent="-157320">
              <a:lnSpc>
                <a:spcPct val="195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é modestia né bugi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185760" indent="-157320">
              <a:lnSpc>
                <a:spcPct val="195000"/>
              </a:lnSpc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ccentuare in modo calcolato per far aderire al posto in questione le proprie compet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91000"/>
              </a:lnSpc>
              <a:spcBef>
                <a:spcPts val="3263"/>
              </a:spcBef>
              <a:buClr>
                <a:srgbClr val="000000"/>
              </a:buClr>
              <a:buFont typeface="Bitstream Vera Sans"/>
              <a:buChar char="–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negli Usa il venditore di gelato è manager     nel settore aliment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859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4701-E157-43B6-9429-4630744BC829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Bernd Faas</cp:lastModifiedBy>
  <cp:lastPrinted>2013-01-11T01:54:08Z</cp:lastPrinted>
  <cp:revision>0</cp:revision>
  <dc:subject/>
  <dc:title>CV in lingua inglese lunga</dc:title>
</cp:coreProperties>
</file>