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6856560" cy="971388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713880"/>
              <a:gd name="textAreaBottom" fmla="*/ 9713520 h 9713880"/>
            </a:gdLst>
            <a:ahLst/>
            <a:rect l="textAreaLeft" t="textAreaTop" r="textAreaRight" b="textAreaBottom"/>
            <a:pathLst>
              <a:path w="21600" h="30601">
                <a:moveTo>
                  <a:pt x="5" y="0"/>
                </a:moveTo>
                <a:arcTo wR="5" hR="5" stAng="16200000" swAng="-5400000"/>
                <a:lnTo>
                  <a:pt x="0" y="30596"/>
                </a:lnTo>
                <a:arcTo wR="5" hR="5" stAng="10800000" swAng="-5400000"/>
                <a:lnTo>
                  <a:pt x="21595" y="3060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6856560" cy="971388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713880"/>
              <a:gd name="textAreaBottom" fmla="*/ 9713520 h 9713880"/>
            </a:gdLst>
            <a:ahLst/>
            <a:rect l="textAreaLeft" t="textAreaTop" r="textAreaRight" b="textAreaBottom"/>
            <a:pathLst>
              <a:path w="21600" h="30601">
                <a:moveTo>
                  <a:pt x="5" y="0"/>
                </a:moveTo>
                <a:arcTo wR="5" hR="5" stAng="16200000" swAng="-5400000"/>
                <a:lnTo>
                  <a:pt x="0" y="30596"/>
                </a:lnTo>
                <a:arcTo wR="5" hR="5" stAng="10800000" swAng="-5400000"/>
                <a:lnTo>
                  <a:pt x="21595" y="3060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6854760" cy="971568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715680"/>
              <a:gd name="textAreaBottom" fmla="*/ 9715320 h 9715680"/>
            </a:gdLst>
            <a:ahLst/>
            <a:rect l="textAreaLeft" t="textAreaTop" r="textAreaRight" b="textAreaBottom"/>
            <a:pathLst>
              <a:path w="21600" h="30615">
                <a:moveTo>
                  <a:pt x="5" y="0"/>
                </a:moveTo>
                <a:arcTo wR="5" hR="5" stAng="16200000" swAng="-5400000"/>
                <a:lnTo>
                  <a:pt x="0" y="30610"/>
                </a:lnTo>
                <a:arcTo wR="5" hR="5" stAng="10800000" swAng="-5400000"/>
                <a:lnTo>
                  <a:pt x="21595" y="3061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6854760" cy="971568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715680"/>
              <a:gd name="textAreaBottom" fmla="*/ 9715320 h 9715680"/>
            </a:gdLst>
            <a:ahLst/>
            <a:rect l="textAreaLeft" t="textAreaTop" r="textAreaRight" b="textAreaBottom"/>
            <a:pathLst>
              <a:path w="21600" h="30615">
                <a:moveTo>
                  <a:pt x="5" y="0"/>
                </a:moveTo>
                <a:arcTo wR="5" hR="5" stAng="16200000" swAng="-5400000"/>
                <a:lnTo>
                  <a:pt x="0" y="30610"/>
                </a:lnTo>
                <a:arcTo wR="5" hR="5" stAng="10800000" swAng="-5400000"/>
                <a:lnTo>
                  <a:pt x="21595" y="3061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853320" cy="9718560"/>
          </a:xfrm>
          <a:custGeom>
            <a:avLst/>
            <a:gdLst>
              <a:gd name="textAreaLeft" fmla="*/ 360 w 6853320"/>
              <a:gd name="textAreaRight" fmla="*/ 6852960 w 6853320"/>
              <a:gd name="textAreaTop" fmla="*/ 360 h 9718560"/>
              <a:gd name="textAreaBottom" fmla="*/ 9718200 h 9718560"/>
            </a:gdLst>
            <a:ahLst/>
            <a:rect l="textAreaLeft" t="textAreaTop" r="textAreaRight" b="textAreaBottom"/>
            <a:pathLst>
              <a:path w="21600" h="30630">
                <a:moveTo>
                  <a:pt x="5" y="0"/>
                </a:moveTo>
                <a:arcTo wR="5" hR="5" stAng="16200000" swAng="-5400000"/>
                <a:lnTo>
                  <a:pt x="0" y="30625"/>
                </a:lnTo>
                <a:arcTo wR="5" hR="5" stAng="10800000" swAng="-5400000"/>
                <a:lnTo>
                  <a:pt x="21595" y="3063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853320" cy="9718560"/>
          </a:xfrm>
          <a:custGeom>
            <a:avLst/>
            <a:gdLst>
              <a:gd name="textAreaLeft" fmla="*/ 360 w 6853320"/>
              <a:gd name="textAreaRight" fmla="*/ 6852960 w 6853320"/>
              <a:gd name="textAreaTop" fmla="*/ 360 h 9718560"/>
              <a:gd name="textAreaBottom" fmla="*/ 9718200 h 9718560"/>
            </a:gdLst>
            <a:ahLst/>
            <a:rect l="textAreaLeft" t="textAreaTop" r="textAreaRight" b="textAreaBottom"/>
            <a:pathLst>
              <a:path w="21600" h="30630">
                <a:moveTo>
                  <a:pt x="5" y="0"/>
                </a:moveTo>
                <a:arcTo wR="5" hR="5" stAng="16200000" swAng="-5400000"/>
                <a:lnTo>
                  <a:pt x="0" y="30625"/>
                </a:lnTo>
                <a:arcTo wR="5" hR="5" stAng="10800000" swAng="-5400000"/>
                <a:lnTo>
                  <a:pt x="21595" y="3063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879720" y="0"/>
            <a:ext cx="29196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6840" y="728280"/>
            <a:ext cx="480384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040" y="4614840"/>
            <a:ext cx="497052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-360" y="9232920"/>
            <a:ext cx="29192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879720" y="9232920"/>
            <a:ext cx="29196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B9F2D-3A02-416B-838B-E852BA1D89EF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98640" y="728640"/>
            <a:ext cx="48546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98640" y="728640"/>
            <a:ext cx="48546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98640" y="728640"/>
            <a:ext cx="4849560" cy="3640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98640" y="728640"/>
            <a:ext cx="48546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98640" y="728640"/>
            <a:ext cx="48546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98640" y="728640"/>
            <a:ext cx="4849560" cy="3640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98640" y="728640"/>
            <a:ext cx="4849560" cy="3640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98640" y="728640"/>
            <a:ext cx="48546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98640" y="728640"/>
            <a:ext cx="48546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98640" y="728640"/>
            <a:ext cx="48546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98640" y="728640"/>
            <a:ext cx="48546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98640" y="728640"/>
            <a:ext cx="48546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00080" y="728640"/>
            <a:ext cx="48592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400" y="4614840"/>
            <a:ext cx="49975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98640" y="728640"/>
            <a:ext cx="48574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400" y="4614840"/>
            <a:ext cx="49975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AA930-1108-4FC8-9426-083AC4D50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20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2440"/>
            <a:ext cx="77198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594600"/>
            <a:ext cx="77198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5EF1E-C9CB-4DEC-A8D7-C3BF1F0F4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20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2440"/>
            <a:ext cx="37670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1480" y="1522440"/>
            <a:ext cx="37670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594600"/>
            <a:ext cx="37670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1480" y="3594600"/>
            <a:ext cx="37670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3E368-249A-475A-B064-5DD1B1932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20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522440"/>
            <a:ext cx="24854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5800" y="1522440"/>
            <a:ext cx="24854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160" y="1522440"/>
            <a:ext cx="24854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594600"/>
            <a:ext cx="24854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5800" y="3594600"/>
            <a:ext cx="24854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160" y="3594600"/>
            <a:ext cx="24854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BC672-4B0F-4352-8F11-C1A9C6C4CD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20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522440"/>
            <a:ext cx="77198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37EE4-2353-4266-894B-D928028F18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20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2440"/>
            <a:ext cx="77198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B752C-0CA3-40ED-9D86-D8E8505E4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20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2440"/>
            <a:ext cx="37670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1480" y="1522440"/>
            <a:ext cx="37670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71965-36B9-4388-AAFE-13B3530FE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20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DAD62-20C3-49FB-8C5F-3A3EA6092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304560"/>
            <a:ext cx="772020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E17BD-EDAB-4360-B734-06A25A8BA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20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2440"/>
            <a:ext cx="37670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1480" y="1522440"/>
            <a:ext cx="37670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594600"/>
            <a:ext cx="37670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6DB7D-A87D-41A3-85B7-F9341E726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20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2440"/>
            <a:ext cx="37670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1480" y="1522440"/>
            <a:ext cx="37670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1480" y="3594600"/>
            <a:ext cx="37670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66F62-1F9D-4768-A364-2083DB67B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20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2440"/>
            <a:ext cx="37670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1480" y="1522440"/>
            <a:ext cx="37670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94600"/>
            <a:ext cx="77198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7ABE0-8F60-46EB-AF07-B993F46A0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20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2440"/>
            <a:ext cx="77198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12120" indent="-31212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12120" indent="-31212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12120" indent="-31212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12120" indent="-31212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12120" indent="-31212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12120" indent="-31212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43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79280" y="6300360"/>
            <a:ext cx="6573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F5782-C72D-4701-96A7-5CE9CD115D9F}" type="slidenum"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1676520"/>
            <a:ext cx="7696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676520"/>
            <a:ext cx="7696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1295280"/>
            <a:ext cx="7925040" cy="1800"/>
          </a:xfrm>
          <a:prstGeom prst="line">
            <a:avLst/>
          </a:prstGeom>
          <a:ln cap="sq"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"/>
          <p:cNvSpPr/>
          <p:nvPr/>
        </p:nvSpPr>
        <p:spPr>
          <a:xfrm>
            <a:off x="3643200" y="29192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9334" t="0" r="0" b="7820"/>
          <a:stretch/>
        </p:blipFill>
        <p:spPr>
          <a:xfrm>
            <a:off x="7948440" y="5943600"/>
            <a:ext cx="1067040" cy="6555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685800" cy="49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38040"/>
            <a:ext cx="5257800" cy="57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Trovare lavoro nel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4000" spc="-1" strike="noStrike">
                <a:solidFill>
                  <a:srgbClr val="ff0000"/>
                </a:solidFill>
                <a:latin typeface="Bitstream Vera Sans"/>
              </a:rPr>
              <a:t>RE</a:t>
            </a:r>
            <a:r>
              <a:rPr b="1" lang="en-GB" sz="4000" spc="-1" strike="noStrike">
                <a:solidFill>
                  <a:srgbClr val="3333cc"/>
                </a:solidFill>
                <a:latin typeface="Bitstream Vera Sans"/>
              </a:rPr>
              <a:t>GN</a:t>
            </a:r>
            <a:r>
              <a:rPr b="1" lang="en-GB" sz="4000" spc="-1" strike="noStrike">
                <a:solidFill>
                  <a:srgbClr val="ff0000"/>
                </a:solidFill>
                <a:latin typeface="Bitstream Vera Sans"/>
              </a:rPr>
              <a:t>O</a:t>
            </a:r>
            <a:r>
              <a:rPr b="1" lang="en-GB" sz="4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4000" spc="-1" strike="noStrike">
                <a:solidFill>
                  <a:srgbClr val="ff0000"/>
                </a:solidFill>
                <a:latin typeface="Bitstream Vera Sans"/>
              </a:rPr>
              <a:t>U</a:t>
            </a:r>
            <a:r>
              <a:rPr b="1" lang="en-GB" sz="4000" spc="-1" strike="noStrike">
                <a:solidFill>
                  <a:srgbClr val="3333cc"/>
                </a:solidFill>
                <a:latin typeface="Bitstream Vera Sans"/>
              </a:rPr>
              <a:t>NI</a:t>
            </a:r>
            <a:r>
              <a:rPr b="1" lang="en-GB" sz="4000" spc="-1" strike="noStrike">
                <a:solidFill>
                  <a:srgbClr val="000000"/>
                </a:solidFill>
                <a:latin typeface="Bitstream Vera Sans"/>
              </a:rPr>
              <a:t>TO</a:t>
            </a: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Bernd Faa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areer Counsellor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519640" cy="3314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4028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AGENZIE DI COLLOCAMENTO PRIVATE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10800"/>
            <a:ext cx="7772400" cy="771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igliaia di agenzie di lavoro interinale e a tempo indeterminat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esenti a livello internazionale come Adecco, Randstad oppure solo a livello nazionale o local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genzie per tutte le professioni oppure specializzate  per settore (alberghiero, sanità, artigianato, informatica ecc)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pesso è possibile candidarsi on-li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È necessario un colloquio in loc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ervizio gratuito per il lavorator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80BD2-DF9E-4A79-8684-A15AD5022B36}" type="slidenum">
              <a:t>10</a:t>
            </a:fld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4028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AGENZIE DI COLLOCAMENTO PRIVATE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2080"/>
            <a:ext cx="777240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lenco delle</a:t>
            </a:r>
            <a:r>
              <a:rPr b="0" lang="en-GB" sz="4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genzie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rec.uk.com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just">
              <a:lnSpc>
                <a:spcPct val="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otore di ricerca per individuare l’agenzia giust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Nella località desiderat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-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er la propria professio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just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jobseekers-uk.com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F0E12-950C-417E-AFF2-C748256F9119}" type="slidenum">
              <a:t>11</a:t>
            </a:fld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PUBBLICO IMPIEG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5080" y="1523880"/>
            <a:ext cx="8134200" cy="69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2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Solo settori come sicurezza interna ed esercito richiedono la cittadinanza britannica.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www.careers.civil-service.gov.uk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E061B-C595-48E3-BB3C-0742F106054F}" type="slidenum">
              <a:t>12</a:t>
            </a:fld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SETTORE SOCIALE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67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In passato numerose opportunità per operatori stranieri con esperienza. I tagli previsti dal governo attuale possono comportare forti riduzioni.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socialworkcareers.co.uk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BA6A3-9A94-47B8-8A9A-932C1647B80C}" type="slidenum">
              <a:t>13</a:t>
            </a:fld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SETTORE DELL’ISTRUZIONE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74800"/>
            <a:ext cx="7772400" cy="56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sia scuola pubblica che privata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mancanza di docenti di materie professional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incertezza sui tagli previsti dal governo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www.gtce.org.uk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89205-2202-4119-97BA-6472A9711DBA}" type="slidenum">
              <a:t>14</a:t>
            </a:fld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LAVORARE CON ITALIAN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7240" y="1465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L’italiano serve in vari contesti: azienda, scuola, call centre, negozi, agenzia di reclutamento. 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www.toplanguagejobs.co.uk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www.bilingualpeople.co.uk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69654-1DE9-4AFB-8708-3C5D6DEB502A}" type="slidenum">
              <a:t>15</a:t>
            </a:fld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SETTORE DELLA CULTUR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2440"/>
            <a:ext cx="7772400" cy="79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7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ultura è business: esiste una forte richiesta da parte dei cittadini e porta più turisti stranieri. Complessivamente impiega circa 1 milioni di persone. 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ccskills.org.uk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artscouncil.org.uk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2024F-3947-4D2A-951F-180184F5FBB8}" type="slidenum">
              <a:t>16</a:t>
            </a:fld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itstream Vera Sans"/>
              </a:rPr>
              <a:t>SETTORE DELLA SANITA’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2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Buone opportunita´nel National Health Service per personale qualificato straniero.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Bitstream Vera Sans"/>
              </a:rPr>
              <a:t>www.bma.co.uk (medici)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Bitstream Vera Sans"/>
              </a:rPr>
              <a:t>ww</a:t>
            </a: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w.bna.co.uk (infermieri)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57907-1476-4629-84E6-908C234D5192}" type="slidenum">
              <a:t>17</a:t>
            </a:fld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INGEGNERIA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1000"/>
            <a:ext cx="7772400" cy="82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ttime prospettive per gli ingegneri nei settori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7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dilizi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7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ccanic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7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sig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7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imic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7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c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7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ttronic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7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icerca e Innovazio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just">
              <a:lnSpc>
                <a:spcPct val="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scenta.co.uk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5558-D2CA-4171-B7D4-281615E77AA9}" type="slidenum">
              <a:t>18</a:t>
            </a:fld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MONDO ACCADEMICO - RICERC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7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Università e enti di ricerca inglesi sono tra i migliori del mondo.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Offrono borse di studio e posti di lavoro per ricercatori da tutto il mondo.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5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tes.co.uk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http://ec.europa.eu/euraxess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978BB-7C71-48A4-B209-249EA5A13BB1}" type="slidenum">
              <a:t>19</a:t>
            </a:fld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402840"/>
            <a:ext cx="80010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DATI GENERAL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1280" y="1491840"/>
            <a:ext cx="4930920" cy="86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Popolazione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Lond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Stranier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Italiani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rescita del PI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sso di disoccupazio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sso di occupazione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0" name=""/>
          <p:cNvSpPr/>
          <p:nvPr/>
        </p:nvSpPr>
        <p:spPr>
          <a:xfrm>
            <a:off x="4967280" y="1568520"/>
            <a:ext cx="3943440" cy="443700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63,2 mio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8,3 mi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7,2% (2011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196.000 (2010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2,5%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(stima 2014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6,0%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(08/2014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74,9%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(12/2013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6A0A2-456F-4DEA-9C0C-450D65A29C51}" type="slidenum">
              <a:t>2</a:t>
            </a:fld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TURISMO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82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Il Regno Unito aumenta il numero dei turisti del 5-10% all’anno. Gli inglesi sono tra coloro che viaggiano di più all’estero. L’Italia è tra le mete più importanti.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tourismsociety.org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people1st.co.uk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D2196-D1EE-453A-8C40-3BB6A45E75A4}" type="slidenum">
              <a:t>20</a:t>
            </a:fld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SETTORE ALBERGHIER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80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lberghi e ristoranti sono sempre in cerca di personale qualificato, da cuochi a receptionist, da pasticieri e F&amp;B.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genzie specializzate cercano personale per il Regno Unito, tutto il mondo e le navi da crociera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www.caterer.com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BD56F-2811-4320-A49F-3B7109623E1E}" type="slidenum">
              <a:t>21</a:t>
            </a:fld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6952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LAVORO STAGIONAL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270080"/>
            <a:ext cx="7769160" cy="937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Settori principali: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0480" indent="-233280" algn="just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ommerci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0480" indent="-233280" algn="just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atering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0480" indent="-233280" algn="just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Alberghier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0480" indent="-233280" algn="just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Parchi di divertiment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0480" indent="-233280" algn="just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Agricoltur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7C35-1F34-4006-A12F-3C2F2395EA3F}" type="slidenum">
              <a:t>22</a:t>
            </a:fld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INTERNET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/ 1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61892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Informazioni e offerte di lavoro senza fi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2340000"/>
            <a:ext cx="485928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ww.fish4.co.uk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5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ww.totaljobs.com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5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ww.gumtree.com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5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ww.monster.com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5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ww.topjobs.co.uk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5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ww.londonjobs.co.uk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5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ww.cityjobs.com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8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www.clickajob.co.uk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62086-9514-4176-B349-B3BC47C9EBD3}" type="slidenum">
              <a:t>23</a:t>
            </a:fld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INTERNET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/ 2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1523880"/>
            <a:ext cx="53341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  <a:ea typeface="Arial"/>
              </a:rPr>
              <a:t>www.reed.co.uk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0" name=""/>
          <p:cNvSpPr/>
          <p:nvPr/>
        </p:nvSpPr>
        <p:spPr>
          <a:xfrm>
            <a:off x="1260360" y="2590920"/>
            <a:ext cx="7350120" cy="31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CV career builde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Salary calcolato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Self assessment tool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Skills deman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DDCE4-CDA2-4197-A3D4-D100B92DB90A}" type="slidenum">
              <a:t>24</a:t>
            </a:fld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ORIENTAMENTO PER LAUREATI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82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Career center on-line per laureati c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Mercato del lavoro per ogni tipo di laurea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Tendenze future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Casi modello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Opportunità di training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Consulenza sul CV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Link per la ricerca di lavoro</a:t>
            </a: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ts val="3813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www.prospects.ac.uk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E76F-1E4D-44C0-BE4F-E72C7B4397A3}" type="slidenum">
              <a:t>25</a:t>
            </a:fld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74400"/>
            <a:ext cx="79581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Bitstream Vera Sans"/>
              </a:rPr>
              <a:t>ORIENTAMENTO PER NON-LAUREATI</a:t>
            </a:r>
            <a:endParaRPr b="1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Bitstream Vera Sans"/>
              </a:rPr>
              <a:t>Career center on-line per tutte le professioni: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ercato del lavoro per ogni tipo di professio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endenze futur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pportunità di training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sulenza sul CV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ink per la ricerca di lavor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https://nationalcareersservice.direct.gov.uk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7D69B-7C0C-4D2F-8C8C-4C970FD2E039}" type="slidenum">
              <a:t>26</a:t>
            </a:fld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itstream Vera Sans"/>
              </a:rPr>
              <a:t>FIERE DEL LAVOR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01280" y="1798560"/>
            <a:ext cx="4157640" cy="88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www.careersfairs.or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www.gradjobs.co.u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ttp://londongradfair.co.u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www.engineerjobs.co.u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www.thejobfairs.co.u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7" name=""/>
          <p:cNvSpPr/>
          <p:nvPr/>
        </p:nvSpPr>
        <p:spPr>
          <a:xfrm>
            <a:off x="4954680" y="2274840"/>
            <a:ext cx="3504960" cy="31240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Bitstream Vera Sans"/>
              </a:rPr>
              <a:t>Molte altre fiere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Bitstream Vera Sans"/>
              </a:rPr>
              <a:t>si svolgono al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Bitstream Vera Sans"/>
              </a:rPr>
              <a:t>livello del comune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Bitstream Vera Sans"/>
              </a:rPr>
              <a:t>dell´università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Bitstream Vera Sans"/>
              </a:rPr>
              <a:t>e della facoltà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1E33F-A2F4-4C85-AE1F-CD717031C2BC}" type="slidenum">
              <a:t>27</a:t>
            </a:fld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MONDO DELLE AZIENDE ITALIA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8040" y="1595160"/>
            <a:ext cx="7772400" cy="76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Panorama molto variegato con sedi di:</a:t>
            </a:r>
            <a:endParaRPr b="1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Produzione;</a:t>
            </a:r>
            <a:endParaRPr b="1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Distribuzione;</a:t>
            </a:r>
            <a:endParaRPr b="1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Rappresentanza.</a:t>
            </a:r>
            <a:endParaRPr b="1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Principali: Barilla, Ferrero, Menarini, Finmeccanica, Fiat, Unicredit, Generali, Agip.</a:t>
            </a:r>
            <a:endParaRPr b="1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Folta presenza di altre aziende italiane.</a:t>
            </a:r>
            <a:endParaRPr b="1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4D784-E853-4D09-A9FE-580A245BFC71}" type="slidenum">
              <a:t>28</a:t>
            </a:fld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7240"/>
            <a:ext cx="777240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AMERE DI COMMERCIO ITALIANA -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ISTITUTO DI COMMERCIO ESTERO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824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e camere di commercio italiane e gli Istituti di commercio estero (ICE) sono presenti nel Regno Unito e rappresentano gli interessi delle aziende italiane.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Dispongono di informazioni sull’andamento economico e indirizzi utili per la ricerca di lavoro e di stage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6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italchamind.co.uk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ice.gov.it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39246-04D6-492F-8474-D49D490FD616}" type="slidenum">
              <a:t>29</a:t>
            </a:fld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402840"/>
            <a:ext cx="80010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DATI GENERAL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1280" y="1491840"/>
            <a:ext cx="4930920" cy="86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Popolazione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Lond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Stranier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Italiani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rescita del PI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sso di disoccupazio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sso di occupazione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3" name=""/>
          <p:cNvSpPr/>
          <p:nvPr/>
        </p:nvSpPr>
        <p:spPr>
          <a:xfrm>
            <a:off x="4967280" y="1568520"/>
            <a:ext cx="3943440" cy="443700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63,2 mio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8,3 mi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7,2% (2011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196.000 (2010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2,5%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(stima 2015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5,8%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(11/2014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73,0%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(11/2014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6BE36-40FB-43DD-AC53-813C851ADBF7}" type="slidenum">
              <a:t>3</a:t>
            </a:fld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44568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AMERA DI COMMERCIO BRITANNICA 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00000"/>
              </a:lnSpc>
              <a:spcBef>
                <a:spcPts val="1162"/>
              </a:spcBef>
              <a:spcAft>
                <a:spcPts val="1162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La camera di commercio britannica offre per le aziende soci un servizio di ricerca online di personale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6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www.britchamitaly.com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B4886-073A-421B-B85E-54C4F7968099}" type="slidenum">
              <a:t>30</a:t>
            </a:fld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INDIRIZZARI DELLE AZIEND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22440"/>
            <a:ext cx="7772400" cy="896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Bitstream Vera Sans"/>
              </a:rPr>
              <a:t>The Times 100</a:t>
            </a:r>
            <a:r>
              <a:rPr b="1" i="1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www.top100graduateemployers.co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i="1" lang="en-GB" sz="2400" spc="-1" strike="noStrike">
                <a:solidFill>
                  <a:srgbClr val="000000"/>
                </a:solidFill>
                <a:latin typeface="Bitstream Vera Sans"/>
              </a:rPr>
              <a:t>ey British Enterprise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Bitstream Vera Sans"/>
              </a:rPr>
              <a:t>Benn’s Media Director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www.kompass.co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www.europages.co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49AF0-6CFD-43D4-BABD-EC9DE58BCD20}" type="slidenum">
              <a:t>31</a:t>
            </a:fld>
          </a:p>
        </p:txBody>
      </p: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ASSOCIAZIONI PROFESSIONALI / 1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72840"/>
            <a:ext cx="7772400" cy="95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Ordini e associazioni professionali offrono  servizi di consulenza che riguardano anche il riconoscimento dei titoli di studio, la formazione continua e l’inquadramento. </a:t>
            </a:r>
            <a:endParaRPr b="1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Possono anche essere una fonte d’informazione per la ricerca del lavoro e dello stage. </a:t>
            </a:r>
            <a:endParaRPr b="1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EF6F9-CA34-42CF-84A0-2F15FD45B5B6}" type="slidenum">
              <a:t>32</a:t>
            </a:fld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475920"/>
            <a:ext cx="8077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ASSOCIAZIONI PROFESSIONALI / 2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280" y="1618920"/>
            <a:ext cx="8340840" cy="76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British Association of Social Worker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basw.co.u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ngineering Counci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engc.org.u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British Medical Associ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bma.org.uk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Royal Inst. of British Architect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www.architecture.co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Law Society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lawsoc.org.u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hartered Inst. of Marketing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cim.co.u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hartered Inst. of Bankers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cib.org.u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DFCC2-FA45-490C-803C-01E3EF3A44EE}" type="slidenum">
              <a:t>33</a:t>
            </a:fld>
          </a:p>
        </p:txBody>
      </p:sp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6952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NETWORKING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76916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Oltre 50% dei lavori si trova tramite contatti personali. Un modo per conoscere professionisti del proprio settore con interesse “Regno Unito” sono le comunità virtuali di social networking.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4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facebook.com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xing.com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linkedin.com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8D066-F85F-40C5-855E-547304A285D4}" type="slidenum">
              <a:t>34</a:t>
            </a:fld>
          </a:p>
        </p:txBody>
      </p:sp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6952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NETWORKING /2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0120" y="1798200"/>
            <a:ext cx="7769160" cy="67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sistono varie reti di emigrati italiani che forniscono informazioni e aiuto in loco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italiansoflondon.com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italianialondra.com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italiansunited.co.uk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entevicentini.it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71A6B-D9FC-4CD3-8FB2-BCD748452368}" type="slidenum">
              <a:t>35</a:t>
            </a:fld>
          </a:p>
        </p:txBody>
      </p:sp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AGENZIE A PAGAMENT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92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umerose agenzie italiane e straniere organizzano, a pagamento, attività di mobilità internazionale. I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Soggiorni linguistic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Soggiorni alla par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Lavoro non qualificato (principalmente ristorazione)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Stag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just">
              <a:lnSpc>
                <a:spcPct val="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ui siti degli Informagiovani si trovano gli indirizzi delle agenzie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A0ABF-1CAE-4335-AF47-FA16801685BD}" type="slidenum">
              <a:t>36</a:t>
            </a:fld>
          </a:p>
        </p:txBody>
      </p:sp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6648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TITOLI ACCADEMICI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2080"/>
            <a:ext cx="7772400" cy="87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e norme e le procedure che regolano il riconoscimento dei titoli accademici italiani all’estero sono diverse da paese a paese.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entri di informazione nazionali sono coordinati nelle reti europee denominate NARIC, promossa dalla Commissione Europea, ed ENIC, promossa dal Consiglio d’Europa e dall’Unesco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cimea.it - www.naric.org.uk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BE91-5BFC-4300-B9F0-9237962EC85E}" type="slidenum">
              <a:t>37</a:t>
            </a:fld>
          </a:p>
        </p:txBody>
      </p:sp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QUALIFICHE PROFESSIONALI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775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I punti di riferimento nazionali</a:t>
            </a:r>
            <a:r>
              <a:rPr b="1" lang="en-GB" sz="32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forniscono informazioni sui sistemi di Istruzione Formazione Professionale e sulle certificazioni rilasciate nel sistema di Formazione Professionale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Informano inoltre cittadini e istituzioni nell’utilizzo degli strumenti per la trasparenza, in particolare del Supplemento al Certificato e del Curriculum Vitae Europeo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www.nrpitalia.it - www.uknrp.org.uk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CF3A8-CA88-4EE3-A7D0-985851D9AEA6}" type="slidenum">
              <a:t>38</a:t>
            </a:fld>
          </a:p>
        </p:txBody>
      </p:sp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DIPLOMI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757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45000"/>
              </a:lnSpc>
              <a:spcBef>
                <a:spcPts val="799"/>
              </a:spcBef>
              <a:spcAft>
                <a:spcPts val="799"/>
              </a:spcAft>
              <a:buClr>
                <a:srgbClr val="b2b2b2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GCSE = licenza media (16 anni)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145000"/>
              </a:lnSpc>
              <a:spcBef>
                <a:spcPts val="799"/>
              </a:spcBef>
              <a:spcAft>
                <a:spcPts val="799"/>
              </a:spcAft>
              <a:buClr>
                <a:srgbClr val="b2b2b2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GCS A-Level = maturità (18 anni)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145000"/>
              </a:lnSpc>
              <a:spcBef>
                <a:spcPts val="799"/>
              </a:spcBef>
              <a:spcAft>
                <a:spcPts val="799"/>
              </a:spcAft>
              <a:buClr>
                <a:srgbClr val="b2b2b2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NVQ = formazione prof. e tecnic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145000"/>
              </a:lnSpc>
              <a:spcBef>
                <a:spcPts val="799"/>
              </a:spcBef>
              <a:spcAft>
                <a:spcPts val="799"/>
              </a:spcAft>
              <a:buClr>
                <a:srgbClr val="b2b2b2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Bachelor (Ordinary - Honours)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145000"/>
              </a:lnSpc>
              <a:spcBef>
                <a:spcPts val="799"/>
              </a:spcBef>
              <a:spcAft>
                <a:spcPts val="799"/>
              </a:spcAft>
              <a:buClr>
                <a:srgbClr val="b2b2b2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Master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32477-923E-4CD1-BB4F-49E4B510A163}" type="slidenum">
              <a:t>39</a:t>
            </a:fld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402840"/>
            <a:ext cx="80010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DIFFERENZE REGIONAL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5" name=""/>
          <p:cNvSpPr/>
          <p:nvPr/>
        </p:nvSpPr>
        <p:spPr>
          <a:xfrm>
            <a:off x="7740720" y="1440000"/>
            <a:ext cx="10810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76360" y="1584360"/>
          <a:ext cx="7200360" cy="4677840"/>
        </p:xfrm>
        <a:graphic>
          <a:graphicData uri="http://schemas.openxmlformats.org/drawingml/2006/table">
            <a:tbl>
              <a:tblPr/>
              <a:tblGrid>
                <a:gridCol w="3499200"/>
                <a:gridCol w="1868760"/>
                <a:gridCol w="1832400"/>
              </a:tblGrid>
              <a:tr h="523800">
                <a:tc>
                  <a:txBody>
                    <a:bodyPr lIns="36000" rIns="36000" tIns="189000" bIns="36000" anchor="t">
                      <a:noAutofit/>
                    </a:bodyPr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Region (08/20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36000" rIns="36000" tIns="267840" bIns="36000" anchor="ctr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Employment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36000" rIns="36000" tIns="267840" bIns="36000" anchor="ctr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Unemployment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61880">
                <a:tc>
                  <a:txBody>
                    <a:bodyPr lIns="36000" rIns="36000" tIns="238680" bIns="36000" anchor="t">
                      <a:noAutofit/>
                    </a:bodyPr>
                    <a:p>
                      <a:pPr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North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2600">
                <a:tc>
                  <a:txBody>
                    <a:bodyPr lIns="36000" rIns="36000" tIns="238680" bIns="36000" anchor="t">
                      <a:noAutofit/>
                    </a:bodyPr>
                    <a:p>
                      <a:pPr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North Wes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1880">
                <a:tc>
                  <a:txBody>
                    <a:bodyPr lIns="36000" rIns="36000" tIns="238680" bIns="36000" anchor="t">
                      <a:noAutofit/>
                    </a:bodyPr>
                    <a:p>
                      <a:pPr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East Mid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2240">
                <a:tc>
                  <a:txBody>
                    <a:bodyPr lIns="36000" rIns="36000" tIns="238680" bIns="36000" anchor="t">
                      <a:noAutofit/>
                    </a:bodyPr>
                    <a:p>
                      <a:pPr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East of Eng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1880">
                <a:tc>
                  <a:txBody>
                    <a:bodyPr lIns="36000" rIns="36000" tIns="238680" bIns="36000" anchor="t">
                      <a:noAutofit/>
                    </a:bodyPr>
                    <a:p>
                      <a:pPr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Lond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000">
                <a:tc>
                  <a:txBody>
                    <a:bodyPr lIns="36000" rIns="36000" tIns="238680" bIns="36000" anchor="t">
                      <a:noAutofit/>
                    </a:bodyPr>
                    <a:p>
                      <a:pPr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outh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2240">
                <a:tc>
                  <a:txBody>
                    <a:bodyPr lIns="36000" rIns="36000" tIns="238680" bIns="36000" anchor="t">
                      <a:noAutofit/>
                    </a:bodyPr>
                    <a:p>
                      <a:pPr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outh W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1880">
                <a:tc>
                  <a:txBody>
                    <a:bodyPr lIns="36000" rIns="36000" tIns="238680" bIns="36000" anchor="t">
                      <a:noAutofit/>
                    </a:bodyPr>
                    <a:p>
                      <a:pPr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W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0440">
                <a:tc>
                  <a:txBody>
                    <a:bodyPr lIns="36000" rIns="36000" tIns="238680" bIns="36000" anchor="t">
                      <a:noAutofit/>
                    </a:bodyPr>
                    <a:p>
                      <a:pPr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cot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1E881-314C-4E3F-B5AD-CF036F5A8D7E}" type="slidenum">
              <a:t>4</a:t>
            </a:fld>
          </a:p>
        </p:txBody>
      </p:sp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RETRIBUZION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11160"/>
            <a:ext cx="7772400" cy="78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Font typeface="Wingdings" charset="2"/>
              <a:buChar char=""/>
              <a:tabLst>
                <a:tab algn="l" pos="809640"/>
                <a:tab algn="l" pos="1724040"/>
                <a:tab algn="l" pos="2638440"/>
                <a:tab algn="l" pos="3552840"/>
                <a:tab algn="l" pos="4467240"/>
                <a:tab algn="l" pos="5381640"/>
                <a:tab algn="l" pos="6296040"/>
                <a:tab algn="l" pos="7210440"/>
                <a:tab algn="l" pos="8124840"/>
                <a:tab algn="l" pos="9039240"/>
                <a:tab algn="l" pos="9953640"/>
                <a:tab algn="l" pos="10252080"/>
                <a:tab algn="l" pos="10709280"/>
                <a:tab algn="l" pos="10712520"/>
                <a:tab algn="l" pos="10715760"/>
                <a:tab algn="l" pos="10718640"/>
                <a:tab algn="l" pos="10721880"/>
                <a:tab algn="l" pos="10725120"/>
                <a:tab algn="l" pos="10728360"/>
                <a:tab algn="l" pos="10731600"/>
                <a:tab algn="l" pos="10734840"/>
                <a:tab algn="l" pos="10737720"/>
                <a:tab algn="l" pos="10740960"/>
                <a:tab algn="l" pos="10744200"/>
                <a:tab algn="l" pos="10747440"/>
                <a:tab algn="l" pos="1075068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itstream Vera Sans"/>
              </a:rPr>
              <a:t>Salario minimo orario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     £6.50 (21+)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29988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809640"/>
                <a:tab algn="l" pos="1724040"/>
                <a:tab algn="l" pos="2638440"/>
                <a:tab algn="l" pos="3552840"/>
                <a:tab algn="l" pos="4467240"/>
                <a:tab algn="l" pos="5381640"/>
                <a:tab algn="l" pos="6296040"/>
                <a:tab algn="l" pos="7210440"/>
                <a:tab algn="l" pos="8124840"/>
                <a:tab algn="l" pos="9039240"/>
                <a:tab algn="l" pos="9953640"/>
                <a:tab algn="l" pos="10252080"/>
                <a:tab algn="l" pos="10709280"/>
                <a:tab algn="l" pos="10712520"/>
                <a:tab algn="l" pos="10715760"/>
                <a:tab algn="l" pos="10718640"/>
                <a:tab algn="l" pos="10721880"/>
                <a:tab algn="l" pos="10725120"/>
                <a:tab algn="l" pos="10728360"/>
                <a:tab algn="l" pos="10731600"/>
                <a:tab algn="l" pos="10734840"/>
                <a:tab algn="l" pos="10737720"/>
                <a:tab algn="l" pos="10740960"/>
                <a:tab algn="l" pos="10744200"/>
                <a:tab algn="l" pos="10747440"/>
                <a:tab algn="l" pos="1075068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alla settimana £260 </a:t>
            </a:r>
            <a:r>
              <a:rPr b="0" i="1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Font typeface="Wingdings" charset="2"/>
              <a:buChar char=""/>
              <a:tabLst>
                <a:tab algn="l" pos="809640"/>
                <a:tab algn="l" pos="1724040"/>
                <a:tab algn="l" pos="2638440"/>
                <a:tab algn="l" pos="3552840"/>
                <a:tab algn="l" pos="4467240"/>
                <a:tab algn="l" pos="5381640"/>
                <a:tab algn="l" pos="6296040"/>
                <a:tab algn="l" pos="7210440"/>
                <a:tab algn="l" pos="8124840"/>
                <a:tab algn="l" pos="9039240"/>
                <a:tab algn="l" pos="9953640"/>
                <a:tab algn="l" pos="10252080"/>
                <a:tab algn="l" pos="10709280"/>
                <a:tab algn="l" pos="10712520"/>
                <a:tab algn="l" pos="10715760"/>
                <a:tab algn="l" pos="10718640"/>
                <a:tab algn="l" pos="10721880"/>
                <a:tab algn="l" pos="10725120"/>
                <a:tab algn="l" pos="10728360"/>
                <a:tab algn="l" pos="10731600"/>
                <a:tab algn="l" pos="10734840"/>
                <a:tab algn="l" pos="10737720"/>
                <a:tab algn="l" pos="10740960"/>
                <a:tab algn="l" pos="10744200"/>
                <a:tab algn="l" pos="10747440"/>
                <a:tab algn="l" pos="1075068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ristoranti, alberghi e negozi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 algn="just">
              <a:lnSpc>
                <a:spcPct val="91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809640"/>
                <a:tab algn="l" pos="1724040"/>
                <a:tab algn="l" pos="2638440"/>
                <a:tab algn="l" pos="3552840"/>
                <a:tab algn="l" pos="4467240"/>
                <a:tab algn="l" pos="5381640"/>
                <a:tab algn="l" pos="6296040"/>
                <a:tab algn="l" pos="7210440"/>
                <a:tab algn="l" pos="8124840"/>
                <a:tab algn="l" pos="9039240"/>
                <a:tab algn="l" pos="9953640"/>
                <a:tab algn="l" pos="10252080"/>
                <a:tab algn="l" pos="10709280"/>
                <a:tab algn="l" pos="10712520"/>
                <a:tab algn="l" pos="10715760"/>
                <a:tab algn="l" pos="10718640"/>
                <a:tab algn="l" pos="10721880"/>
                <a:tab algn="l" pos="10725120"/>
                <a:tab algn="l" pos="10728360"/>
                <a:tab algn="l" pos="10731600"/>
                <a:tab algn="l" pos="10734840"/>
                <a:tab algn="l" pos="10737720"/>
                <a:tab algn="l" pos="10740960"/>
                <a:tab algn="l" pos="10744200"/>
                <a:tab algn="l" pos="10747440"/>
                <a:tab algn="l" pos="1075068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= salario minimo</a:t>
            </a:r>
            <a:r>
              <a:rPr b="0" i="1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Font typeface="Wingdings" charset="2"/>
              <a:buChar char=""/>
              <a:tabLst>
                <a:tab algn="l" pos="809640"/>
                <a:tab algn="l" pos="1724040"/>
                <a:tab algn="l" pos="2638440"/>
                <a:tab algn="l" pos="3552840"/>
                <a:tab algn="l" pos="4467240"/>
                <a:tab algn="l" pos="5381640"/>
                <a:tab algn="l" pos="6296040"/>
                <a:tab algn="l" pos="7210440"/>
                <a:tab algn="l" pos="8124840"/>
                <a:tab algn="l" pos="9039240"/>
                <a:tab algn="l" pos="9953640"/>
                <a:tab algn="l" pos="10252080"/>
                <a:tab algn="l" pos="10709280"/>
                <a:tab algn="l" pos="10712520"/>
                <a:tab algn="l" pos="10715760"/>
                <a:tab algn="l" pos="10718640"/>
                <a:tab algn="l" pos="10721880"/>
                <a:tab algn="l" pos="10725120"/>
                <a:tab algn="l" pos="10728360"/>
                <a:tab algn="l" pos="10731600"/>
                <a:tab algn="l" pos="10734840"/>
                <a:tab algn="l" pos="10737720"/>
                <a:tab algn="l" pos="10740960"/>
                <a:tab algn="l" pos="10744200"/>
                <a:tab algn="l" pos="10747440"/>
                <a:tab algn="l" pos="1075068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itstream Vera Sans"/>
              </a:rPr>
              <a:t>Salario medio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    £500 ca.  / settiman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29988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809640"/>
                <a:tab algn="l" pos="1724040"/>
                <a:tab algn="l" pos="2638440"/>
                <a:tab algn="l" pos="3552840"/>
                <a:tab algn="l" pos="4467240"/>
                <a:tab algn="l" pos="5381640"/>
                <a:tab algn="l" pos="6296040"/>
                <a:tab algn="l" pos="7210440"/>
                <a:tab algn="l" pos="8124840"/>
                <a:tab algn="l" pos="9039240"/>
                <a:tab algn="l" pos="9953640"/>
                <a:tab algn="l" pos="10252080"/>
                <a:tab algn="l" pos="10709280"/>
                <a:tab algn="l" pos="10712520"/>
                <a:tab algn="l" pos="10715760"/>
                <a:tab algn="l" pos="10718640"/>
                <a:tab algn="l" pos="10721880"/>
                <a:tab algn="l" pos="10725120"/>
                <a:tab algn="l" pos="10728360"/>
                <a:tab algn="l" pos="10731600"/>
                <a:tab algn="l" pos="10734840"/>
                <a:tab algn="l" pos="10737720"/>
                <a:tab algn="l" pos="10740960"/>
                <a:tab algn="l" pos="10744200"/>
                <a:tab algn="l" pos="10747440"/>
                <a:tab algn="l" pos="1075068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6B6BE-A7EB-473B-BDD2-009CBBC1A90F}" type="slidenum">
              <a:t>40</a:t>
            </a:fld>
          </a:p>
        </p:txBody>
      </p:sp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344160"/>
            <a:ext cx="8001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STIPENDI FIRST DEGRE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2012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880" y="1390320"/>
            <a:ext cx="77724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99960"/>
                <a:tab algn="l" pos="849240"/>
                <a:tab algn="l" pos="1298520"/>
                <a:tab algn="l" pos="1747800"/>
                <a:tab algn="l" pos="2197080"/>
                <a:tab algn="l" pos="2646360"/>
                <a:tab algn="l" pos="3095640"/>
                <a:tab algn="l" pos="354492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689880"/>
                <a:tab algn="l" pos="7139160"/>
                <a:tab algn="l" pos="7588080"/>
                <a:tab algn="l" pos="8037360"/>
                <a:tab algn="l" pos="8486640"/>
                <a:tab algn="l" pos="8935920"/>
                <a:tab algn="l" pos="8937720"/>
                <a:tab algn="l" pos="938700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tipendio medio neolaureati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£18.000-24.000</a:t>
            </a: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-309240">
              <a:lnSpc>
                <a:spcPct val="150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399960"/>
                <a:tab algn="l" pos="849240"/>
                <a:tab algn="l" pos="1298520"/>
                <a:tab algn="l" pos="1747800"/>
                <a:tab algn="l" pos="2197080"/>
                <a:tab algn="l" pos="2646360"/>
                <a:tab algn="l" pos="3095640"/>
                <a:tab algn="l" pos="354492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689880"/>
                <a:tab algn="l" pos="7139160"/>
                <a:tab algn="l" pos="7588080"/>
                <a:tab algn="l" pos="8037360"/>
                <a:tab algn="l" pos="8486640"/>
                <a:tab algn="l" pos="8935920"/>
                <a:tab algn="l" pos="8937720"/>
                <a:tab algn="l" pos="938700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ology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£19.741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-309240">
              <a:lnSpc>
                <a:spcPct val="150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399960"/>
                <a:tab algn="l" pos="849240"/>
                <a:tab algn="l" pos="1298520"/>
                <a:tab algn="l" pos="1747800"/>
                <a:tab algn="l" pos="2197080"/>
                <a:tab algn="l" pos="2646360"/>
                <a:tab algn="l" pos="3095640"/>
                <a:tab algn="l" pos="354492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689880"/>
                <a:tab algn="l" pos="7139160"/>
                <a:tab algn="l" pos="7588080"/>
                <a:tab algn="l" pos="8037360"/>
                <a:tab algn="l" pos="8486640"/>
                <a:tab algn="l" pos="8935920"/>
                <a:tab algn="l" pos="8937720"/>
                <a:tab algn="l" pos="938700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ivil engin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£23.707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-309240">
              <a:lnSpc>
                <a:spcPct val="150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399960"/>
                <a:tab algn="l" pos="849240"/>
                <a:tab algn="l" pos="1298520"/>
                <a:tab algn="l" pos="1747800"/>
                <a:tab algn="l" pos="2197080"/>
                <a:tab algn="l" pos="2646360"/>
                <a:tab algn="l" pos="3095640"/>
                <a:tab algn="l" pos="354492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689880"/>
                <a:tab algn="l" pos="7139160"/>
                <a:tab algn="l" pos="7588080"/>
                <a:tab algn="l" pos="8037360"/>
                <a:tab algn="l" pos="8486640"/>
                <a:tab algn="l" pos="8935920"/>
                <a:tab algn="l" pos="8937720"/>
                <a:tab algn="l" pos="938700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uter scienz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£22.793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-309240">
              <a:lnSpc>
                <a:spcPct val="150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399960"/>
                <a:tab algn="l" pos="849240"/>
                <a:tab algn="l" pos="1298520"/>
                <a:tab algn="l" pos="1747800"/>
                <a:tab algn="l" pos="2197080"/>
                <a:tab algn="l" pos="2646360"/>
                <a:tab algn="l" pos="3095640"/>
                <a:tab algn="l" pos="354492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689880"/>
                <a:tab algn="l" pos="7139160"/>
                <a:tab algn="l" pos="7588080"/>
                <a:tab algn="l" pos="8037360"/>
                <a:tab algn="l" pos="8486640"/>
                <a:tab algn="l" pos="8935920"/>
                <a:tab algn="l" pos="8937720"/>
                <a:tab algn="l" pos="938700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c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£29.383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-309240">
              <a:lnSpc>
                <a:spcPct val="150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399960"/>
                <a:tab algn="l" pos="849240"/>
                <a:tab algn="l" pos="1298520"/>
                <a:tab algn="l" pos="1747800"/>
                <a:tab algn="l" pos="2197080"/>
                <a:tab algn="l" pos="2646360"/>
                <a:tab algn="l" pos="3095640"/>
                <a:tab algn="l" pos="354492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689880"/>
                <a:tab algn="l" pos="7139160"/>
                <a:tab algn="l" pos="7588080"/>
                <a:tab algn="l" pos="8037360"/>
                <a:tab algn="l" pos="8486640"/>
                <a:tab algn="l" pos="8935920"/>
                <a:tab algn="l" pos="8937720"/>
                <a:tab algn="l" pos="938700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conomic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£26.940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-309240">
              <a:lnSpc>
                <a:spcPct val="150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399960"/>
                <a:tab algn="l" pos="849240"/>
                <a:tab algn="l" pos="1298520"/>
                <a:tab algn="l" pos="1747800"/>
                <a:tab algn="l" pos="2197080"/>
                <a:tab algn="l" pos="2646360"/>
                <a:tab algn="l" pos="3095640"/>
                <a:tab algn="l" pos="354492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689880"/>
                <a:tab algn="l" pos="7139160"/>
                <a:tab algn="l" pos="7588080"/>
                <a:tab algn="l" pos="8037360"/>
                <a:tab algn="l" pos="8486640"/>
                <a:tab algn="l" pos="8935920"/>
                <a:tab algn="l" pos="8937720"/>
                <a:tab algn="l" pos="938700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duc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£20.992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-309240">
              <a:lnSpc>
                <a:spcPct val="150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399960"/>
                <a:tab algn="l" pos="849240"/>
                <a:tab algn="l" pos="1298520"/>
                <a:tab algn="l" pos="1747800"/>
                <a:tab algn="l" pos="2197080"/>
                <a:tab algn="l" pos="2646360"/>
                <a:tab algn="l" pos="3095640"/>
                <a:tab algn="l" pos="354492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689880"/>
                <a:tab algn="l" pos="7139160"/>
                <a:tab algn="l" pos="7588080"/>
                <a:tab algn="l" pos="8037360"/>
                <a:tab algn="l" pos="8486640"/>
                <a:tab algn="l" pos="8935920"/>
                <a:tab algn="l" pos="8937720"/>
                <a:tab algn="l" pos="938700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w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£19.629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-309240">
              <a:lnSpc>
                <a:spcPct val="150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399960"/>
                <a:tab algn="l" pos="849240"/>
                <a:tab algn="l" pos="1298520"/>
                <a:tab algn="l" pos="1747800"/>
                <a:tab algn="l" pos="2197080"/>
                <a:tab algn="l" pos="2646360"/>
                <a:tab algn="l" pos="3095640"/>
                <a:tab algn="l" pos="354492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689880"/>
                <a:tab algn="l" pos="7139160"/>
                <a:tab algn="l" pos="7588080"/>
                <a:tab algn="l" pos="8037360"/>
                <a:tab algn="l" pos="8486640"/>
                <a:tab algn="l" pos="8935920"/>
                <a:tab algn="l" pos="8937720"/>
                <a:tab algn="l" pos="938700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work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£23.434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99960"/>
                <a:tab algn="l" pos="849240"/>
                <a:tab algn="l" pos="1298520"/>
                <a:tab algn="l" pos="1747800"/>
                <a:tab algn="l" pos="2197080"/>
                <a:tab algn="l" pos="2646360"/>
                <a:tab algn="l" pos="3095640"/>
                <a:tab algn="l" pos="354492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689880"/>
                <a:tab algn="l" pos="7139160"/>
                <a:tab algn="l" pos="7588080"/>
                <a:tab algn="l" pos="8037360"/>
                <a:tab algn="l" pos="8486640"/>
                <a:tab algn="l" pos="8935920"/>
                <a:tab algn="l" pos="8937720"/>
                <a:tab algn="l" pos="938700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6" name=""/>
          <p:cNvSpPr/>
          <p:nvPr/>
        </p:nvSpPr>
        <p:spPr>
          <a:xfrm>
            <a:off x="865080" y="5999040"/>
            <a:ext cx="71629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Bitstream Vera Sans"/>
              </a:rPr>
              <a:t>www.thecompleteuniversityguide.co.u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51020-860F-4EC6-B08B-FC0A11FE73E6}" type="slidenum">
              <a:t>41</a:t>
            </a:fld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344160"/>
            <a:ext cx="8001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itstream Vera Sans"/>
              </a:rPr>
              <a:t>STIPENDIO MEDIO 2013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6360" y="1439640"/>
            <a:ext cx="79912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Waiters &amp; waitresses 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 £7,654 (+8.3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Hairdressers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£10,174 (+0.9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Nursery nurses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£11,163 (-0.4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Receptionists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£12,595 (+1.8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Care workers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£12,804 (+0.9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Secretaries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£16,384 (+1.1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Customer service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£16,525 (+9.5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Gardeners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£17,595 (-1.3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Travel agents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   £18,344 (+10.7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Van drivers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£18,744 (+2.9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D3A52-7A69-4575-82FA-0956B760E616}" type="slidenum">
              <a:t>42</a:t>
            </a:fld>
          </a:p>
        </p:txBody>
      </p:sp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344160"/>
            <a:ext cx="8001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itstream Vera Sans"/>
              </a:rPr>
              <a:t>STIPENDIO MEDIO 2013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6360" y="1584000"/>
            <a:ext cx="79912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Youth &amp; Community workers 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£20,240 (+2.6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Plasterers 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£21,155 (+0.1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Bricklayers 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£22,476 (-7.0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Bus &amp; coach drivers 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£23,095 (+3.0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Mechanics 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£25,238 (-0.7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Lorry drivers 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£25,602 (+1.4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Nurses 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£26,158 (+0.65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Welders 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£26,735 (-1.6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Plumbers 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£27,832 (-1.2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4A97-A6C9-480D-A301-0D4F3773DE06}" type="slidenum">
              <a:t>43</a:t>
            </a:fld>
          </a:p>
        </p:txBody>
      </p:sp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344160"/>
            <a:ext cx="8001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itstream Vera Sans"/>
              </a:rPr>
              <a:t>STIPENDIO MEDIO 2013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6360" y="1439640"/>
            <a:ext cx="79912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Social workers 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£28,182 (+1.6%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Office managers 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£28,790 (-1.8%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Web designers 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£29,870 (+5.5%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Telecoms engineers 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£32,253 (+5.3%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Teachers 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£32,547 (+1.4%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Civil engineers 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£38,236 (-2.7%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Architects 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£44,024 (+3.3%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Electrical engineers 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£44,430 (+3.7%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Financial advisers 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£46,797 (-0.3%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Dentists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     £53,567 (+14.3%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Doctors 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£70,646 (+1.3%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9C98E-940F-496D-A949-E71EB64EA56F}" type="slidenum">
              <a:t>44</a:t>
            </a:fld>
          </a:p>
        </p:txBody>
      </p:sp>
    </p:spTree>
  </p:cSld>
  <p:transition spd="med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TASSE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0" algn="just">
              <a:lnSpc>
                <a:spcPct val="1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26880"/>
                <a:tab algn="l" pos="393840"/>
                <a:tab algn="l" pos="843120"/>
                <a:tab algn="l" pos="1292400"/>
                <a:tab algn="l" pos="1741320"/>
                <a:tab algn="l" pos="2190600"/>
                <a:tab algn="l" pos="2639880"/>
                <a:tab algn="l" pos="3089160"/>
                <a:tab algn="l" pos="3538440"/>
                <a:tab algn="l" pos="398772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32680"/>
                <a:tab algn="l" pos="7581960"/>
                <a:tab algn="l" pos="8031240"/>
                <a:tab algn="l" pos="8480520"/>
                <a:tab algn="l" pos="8929800"/>
                <a:tab algn="l" pos="8933040"/>
                <a:tab algn="l" pos="9381960"/>
                <a:tab algn="l" pos="9831240"/>
                <a:tab algn="l" pos="10288440"/>
                <a:tab algn="l" pos="10745640"/>
                <a:tab algn="l" pos="10747440"/>
                <a:tab algn="l" pos="10748880"/>
                <a:tab algn="l" pos="10750680"/>
                <a:tab algn="l" pos="10752120"/>
                <a:tab algn="l" pos="107535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£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 0-34.800 = 20%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da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£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34.800 = 40%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326880"/>
                <a:tab algn="l" pos="393840"/>
                <a:tab algn="l" pos="843120"/>
                <a:tab algn="l" pos="1292400"/>
                <a:tab algn="l" pos="1741320"/>
                <a:tab algn="l" pos="2190600"/>
                <a:tab algn="l" pos="2639880"/>
                <a:tab algn="l" pos="3089160"/>
                <a:tab algn="l" pos="3538440"/>
                <a:tab algn="l" pos="398772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32680"/>
                <a:tab algn="l" pos="7581960"/>
                <a:tab algn="l" pos="8031240"/>
                <a:tab algn="l" pos="8480520"/>
                <a:tab algn="l" pos="8929800"/>
                <a:tab algn="l" pos="8933040"/>
                <a:tab algn="l" pos="9381960"/>
                <a:tab algn="l" pos="9831240"/>
                <a:tab algn="l" pos="10288440"/>
                <a:tab algn="l" pos="10745640"/>
                <a:tab algn="l" pos="10747440"/>
                <a:tab algn="l" pos="10748880"/>
                <a:tab algn="l" pos="10750680"/>
                <a:tab algn="l" pos="10752120"/>
                <a:tab algn="l" pos="107535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Bitstream Vera Sans"/>
              </a:rPr>
              <a:t>Gross Income:</a:t>
            </a:r>
            <a:r>
              <a:rPr b="1" i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i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i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i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i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i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i="1" lang="en-GB" sz="2200" spc="-1" strike="noStrike">
                <a:solidFill>
                  <a:srgbClr val="000000"/>
                </a:solidFill>
                <a:latin typeface="Bitstream Vera Sans"/>
              </a:rPr>
              <a:t>£17,000.00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326880"/>
                <a:tab algn="l" pos="393840"/>
                <a:tab algn="l" pos="843120"/>
                <a:tab algn="l" pos="1292400"/>
                <a:tab algn="l" pos="1741320"/>
                <a:tab algn="l" pos="2190600"/>
                <a:tab algn="l" pos="2639880"/>
                <a:tab algn="l" pos="3089160"/>
                <a:tab algn="l" pos="3538440"/>
                <a:tab algn="l" pos="398772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32680"/>
                <a:tab algn="l" pos="7581960"/>
                <a:tab algn="l" pos="8031240"/>
                <a:tab algn="l" pos="8480520"/>
                <a:tab algn="l" pos="8929800"/>
                <a:tab algn="l" pos="8933040"/>
                <a:tab algn="l" pos="9381960"/>
                <a:tab algn="l" pos="9831240"/>
                <a:tab algn="l" pos="10288440"/>
                <a:tab algn="l" pos="10745640"/>
                <a:tab algn="l" pos="10747440"/>
                <a:tab algn="l" pos="10748880"/>
                <a:tab algn="l" pos="10750680"/>
                <a:tab algn="l" pos="10752120"/>
                <a:tab algn="l" pos="107535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Tax-Free Allowance: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£6,035.00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326880"/>
                <a:tab algn="l" pos="393840"/>
                <a:tab algn="l" pos="843120"/>
                <a:tab algn="l" pos="1292400"/>
                <a:tab algn="l" pos="1741320"/>
                <a:tab algn="l" pos="2190600"/>
                <a:tab algn="l" pos="2639880"/>
                <a:tab algn="l" pos="3089160"/>
                <a:tab algn="l" pos="3538440"/>
                <a:tab algn="l" pos="398772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32680"/>
                <a:tab algn="l" pos="7581960"/>
                <a:tab algn="l" pos="8031240"/>
                <a:tab algn="l" pos="8480520"/>
                <a:tab algn="l" pos="8929800"/>
                <a:tab algn="l" pos="8933040"/>
                <a:tab algn="l" pos="9381960"/>
                <a:tab algn="l" pos="9831240"/>
                <a:tab algn="l" pos="10288440"/>
                <a:tab algn="l" pos="10745640"/>
                <a:tab algn="l" pos="10747440"/>
                <a:tab algn="l" pos="10748880"/>
                <a:tab algn="l" pos="10750680"/>
                <a:tab algn="l" pos="10752120"/>
                <a:tab algn="l" pos="107535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Taxable Amount: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£10,965.00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326880"/>
                <a:tab algn="l" pos="393840"/>
                <a:tab algn="l" pos="843120"/>
                <a:tab algn="l" pos="1292400"/>
                <a:tab algn="l" pos="1741320"/>
                <a:tab algn="l" pos="2190600"/>
                <a:tab algn="l" pos="2639880"/>
                <a:tab algn="l" pos="3089160"/>
                <a:tab algn="l" pos="3538440"/>
                <a:tab algn="l" pos="398772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32680"/>
                <a:tab algn="l" pos="7581960"/>
                <a:tab algn="l" pos="8031240"/>
                <a:tab algn="l" pos="8480520"/>
                <a:tab algn="l" pos="8929800"/>
                <a:tab algn="l" pos="8933040"/>
                <a:tab algn="l" pos="9381960"/>
                <a:tab algn="l" pos="9831240"/>
                <a:tab algn="l" pos="10288440"/>
                <a:tab algn="l" pos="10745640"/>
                <a:tab algn="l" pos="10747440"/>
                <a:tab algn="l" pos="10748880"/>
                <a:tab algn="l" pos="10750680"/>
                <a:tab algn="l" pos="10752120"/>
                <a:tab algn="l" pos="107535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Tax: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£2,193.00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326880"/>
                <a:tab algn="l" pos="393840"/>
                <a:tab algn="l" pos="843120"/>
                <a:tab algn="l" pos="1292400"/>
                <a:tab algn="l" pos="1741320"/>
                <a:tab algn="l" pos="2190600"/>
                <a:tab algn="l" pos="2639880"/>
                <a:tab algn="l" pos="3089160"/>
                <a:tab algn="l" pos="3538440"/>
                <a:tab algn="l" pos="398772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32680"/>
                <a:tab algn="l" pos="7581960"/>
                <a:tab algn="l" pos="8031240"/>
                <a:tab algn="l" pos="8480520"/>
                <a:tab algn="l" pos="8929800"/>
                <a:tab algn="l" pos="8933040"/>
                <a:tab algn="l" pos="9381960"/>
                <a:tab algn="l" pos="9831240"/>
                <a:tab algn="l" pos="10288440"/>
                <a:tab algn="l" pos="10745640"/>
                <a:tab algn="l" pos="10747440"/>
                <a:tab algn="l" pos="10748880"/>
                <a:tab algn="l" pos="10750680"/>
                <a:tab algn="l" pos="10752120"/>
                <a:tab algn="l" pos="107535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National Insurance: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£1,355.20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326880"/>
                <a:tab algn="l" pos="393840"/>
                <a:tab algn="l" pos="843120"/>
                <a:tab algn="l" pos="1292400"/>
                <a:tab algn="l" pos="1741320"/>
                <a:tab algn="l" pos="2190600"/>
                <a:tab algn="l" pos="2639880"/>
                <a:tab algn="l" pos="3089160"/>
                <a:tab algn="l" pos="3538440"/>
                <a:tab algn="l" pos="398772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32680"/>
                <a:tab algn="l" pos="7581960"/>
                <a:tab algn="l" pos="8031240"/>
                <a:tab algn="l" pos="8480520"/>
                <a:tab algn="l" pos="8929800"/>
                <a:tab algn="l" pos="8933040"/>
                <a:tab algn="l" pos="9381960"/>
                <a:tab algn="l" pos="9831240"/>
                <a:tab algn="l" pos="10288440"/>
                <a:tab algn="l" pos="10745640"/>
                <a:tab algn="l" pos="10747440"/>
                <a:tab algn="l" pos="10748880"/>
                <a:tab algn="l" pos="10750680"/>
                <a:tab algn="l" pos="10752120"/>
                <a:tab algn="l" pos="107535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Net Take-Home: </a:t>
            </a: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£13,451.80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0" algn="ctr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26880"/>
                <a:tab algn="l" pos="393840"/>
                <a:tab algn="l" pos="843120"/>
                <a:tab algn="l" pos="1292400"/>
                <a:tab algn="l" pos="1741320"/>
                <a:tab algn="l" pos="2190600"/>
                <a:tab algn="l" pos="2639880"/>
                <a:tab algn="l" pos="3089160"/>
                <a:tab algn="l" pos="3538440"/>
                <a:tab algn="l" pos="398772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32680"/>
                <a:tab algn="l" pos="7581960"/>
                <a:tab algn="l" pos="8031240"/>
                <a:tab algn="l" pos="8480520"/>
                <a:tab algn="l" pos="8929800"/>
                <a:tab algn="l" pos="8933040"/>
                <a:tab algn="l" pos="9381960"/>
                <a:tab algn="l" pos="9831240"/>
                <a:tab algn="l" pos="10288440"/>
                <a:tab algn="l" pos="10745640"/>
                <a:tab algn="l" pos="10747440"/>
                <a:tab algn="l" pos="10748880"/>
                <a:tab algn="l" pos="10750680"/>
                <a:tab algn="l" pos="10752120"/>
                <a:tab algn="l" pos="107535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hmrc.gov.uk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75031-9A21-4B93-9ABA-2BD7B0D9C08B}" type="slidenum">
              <a:t>45</a:t>
            </a:fld>
          </a:p>
        </p:txBody>
      </p:sp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DIRITTO DEL LAVOR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2440"/>
            <a:ext cx="7772400" cy="86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 algn="just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rio di lavoro: 37- 40 ore alla settiman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rio flessibile molto comu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4 settimane di ferie retribuite all’ann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ausa pranzo di 30 minut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Disdetta e licenziamento veloc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9880" indent="0" algn="just">
              <a:lnSpc>
                <a:spcPct val="1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tuc.org.uk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(sindacato)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80364-BC80-427D-AC07-E99246A85DE5}" type="slidenum">
              <a:t>46</a:t>
            </a:fld>
          </a:p>
        </p:txBody>
      </p:sp>
    </p:spTree>
  </p:cSld>
  <p:transition spd="med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SICUREZZA SOCIALE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91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 algn="just">
              <a:lnSpc>
                <a:spcPct val="1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ributi dedotti direttamente dal salari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ributi per la previdenza sociale 8 -11%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ensione privat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umero obbligatorio della Previdenza Sociale www.dwp.gov.uk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9880" indent="0" algn="just">
              <a:lnSpc>
                <a:spcPct val="1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CE268-5D68-4184-84C2-B92A4099D608}" type="slidenum">
              <a:t>47</a:t>
            </a:fld>
          </a:p>
        </p:txBody>
      </p:sp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DA SAPERE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7740720" cy="9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Casellario giudiziario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(Criminal Records Bureau, anche “enhanced discolosure”) www.crb.gov.uk 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Macchina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: tassa di circolazione,  assicurazione britannica e certificato del Ministry of Transport (MOT) dopo 6 mesi di permanenza 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2998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www.dvla.gov.uk </a:t>
            </a:r>
            <a:r>
              <a:rPr b="1" lang="en-GB" sz="2200" spc="-1" strike="noStrike">
                <a:solidFill>
                  <a:srgbClr val="80008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www.direct.gov.uk 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Conto corrente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: passaporto e lettera o fattura con l’indirizzo di domicilio nel Regno Unito, meglio  lettera del datore di lavoro</a:t>
            </a: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;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299880" indent="0" algn="just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98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F6FF-2CBE-4791-BA64-01F899763CEE}" type="slidenum">
              <a:t>48</a:t>
            </a:fld>
          </a:p>
        </p:txBody>
      </p:sp>
    </p:spTree>
  </p:cSld>
  <p:transition spd="med"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COSTO DELLA VIT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76360" y="1119240"/>
            <a:ext cx="82072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0" algn="just">
              <a:lnSpc>
                <a:spcPct val="1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 mese in una città con 100.000 abitanti: Blackburn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ffitto camera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£ 450-600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imentazione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£ 250+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as e elettricità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£ 80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terne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£ 15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rasporto locale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£ 20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ittà grandi: +30%, Londra: minimo + 50%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Bitstream Vera Sans"/>
              </a:rPr>
              <a:t>http://international.studentcalculator.org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www.numbeo.co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0" algn="ctr">
              <a:lnSpc>
                <a:spcPct val="1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3" name=""/>
          <p:cNvSpPr/>
          <p:nvPr/>
        </p:nvSpPr>
        <p:spPr>
          <a:xfrm>
            <a:off x="5832360" y="1944720"/>
            <a:ext cx="2735280" cy="2232000"/>
          </a:xfrm>
          <a:prstGeom prst="roundRect">
            <a:avLst>
              <a:gd name="adj" fmla="val 79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otale: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£ 810-960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(EUR 1010-1200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B46B-FB04-4159-B9C1-7EE64CC0E442}" type="slidenum">
              <a:t>49</a:t>
            </a:fld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402840"/>
            <a:ext cx="80010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SETTORI ECONOMIC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79640"/>
            <a:ext cx="3276720" cy="64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200000"/>
              </a:lnSpc>
              <a:spcBef>
                <a:spcPts val="1451"/>
              </a:spcBef>
              <a:spcAft>
                <a:spcPts val="1451"/>
              </a:spcAft>
              <a:buNone/>
              <a:tabLst>
                <a:tab algn="l" pos="0"/>
                <a:tab algn="l" pos="3348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4760"/>
                <a:tab algn="l" pos="9381960"/>
                <a:tab algn="l" pos="9839160"/>
                <a:tab algn="l" pos="10296360"/>
                <a:tab algn="l" pos="107535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Servizi</a:t>
            </a: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200000"/>
              </a:lnSpc>
              <a:spcBef>
                <a:spcPts val="1451"/>
              </a:spcBef>
              <a:spcAft>
                <a:spcPts val="1451"/>
              </a:spcAft>
              <a:buNone/>
              <a:tabLst>
                <a:tab algn="l" pos="0"/>
                <a:tab algn="l" pos="3348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4760"/>
                <a:tab algn="l" pos="9381960"/>
                <a:tab algn="l" pos="9839160"/>
                <a:tab algn="l" pos="10296360"/>
                <a:tab algn="l" pos="107535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Industri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200000"/>
              </a:lnSpc>
              <a:spcBef>
                <a:spcPts val="1451"/>
              </a:spcBef>
              <a:spcAft>
                <a:spcPts val="1451"/>
              </a:spcAft>
              <a:buNone/>
              <a:tabLst>
                <a:tab algn="l" pos="0"/>
                <a:tab algn="l" pos="3348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4760"/>
                <a:tab algn="l" pos="9381960"/>
                <a:tab algn="l" pos="9839160"/>
                <a:tab algn="l" pos="10296360"/>
                <a:tab algn="l" pos="107535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Agricoltura </a:t>
            </a: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2057400"/>
            <a:ext cx="335304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500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73%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200000"/>
              </a:lnSpc>
              <a:spcBef>
                <a:spcPts val="1500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26%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200000"/>
              </a:lnSpc>
              <a:spcBef>
                <a:spcPts val="1500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1%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8011D-FCD0-4CDE-B343-9BC20C12D42E}" type="slidenum">
              <a:t>5</a:t>
            </a:fld>
          </a:p>
        </p:txBody>
      </p:sp>
    </p:spTree>
  </p:cSld>
  <p:transition spd="med"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ALTERNATIVE AL LAVORO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/1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785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RVIZIO CIVILE NAZIONALE VOLONTARIO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per giovani dai 18 ai 28 anni, durata un anno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www.serviziocivile.it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RVIZIO VOLONTARIO EUROPEO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per giovani dai 18 ai 30 anni, durata da 6 a 12 mesi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www.agenziagiovani.it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asmusPlus per la formazione professionale  tramite st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www.erasmusplus.it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A1C61-BDFF-436C-B12A-EF08016881C0}" type="slidenum">
              <a:t>50</a:t>
            </a:fld>
          </a:p>
        </p:txBody>
      </p:sp>
    </p:spTree>
  </p:cSld>
  <p:transition spd="med"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ALTERNATIVE AL LAVORO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/2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80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 algn="just">
              <a:lnSpc>
                <a:spcPct val="100000"/>
              </a:lnSpc>
              <a:spcBef>
                <a:spcPts val="145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STAGE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autoorganizzat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00000"/>
              </a:lnSpc>
              <a:spcBef>
                <a:spcPts val="145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ALLA PARI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 per giovani dai 18 ai 28 anni per una durata, a seconda del paese, dai 3 ai 12 mes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00000"/>
              </a:lnSpc>
              <a:spcBef>
                <a:spcPts val="145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ORSO DI LINGUA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a pagament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00000"/>
              </a:lnSpc>
              <a:spcBef>
                <a:spcPts val="145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FONDO SOCIALE EUROPEO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se residente sul post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00000"/>
              </a:lnSpc>
              <a:spcBef>
                <a:spcPts val="145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STUDIO UNIVERSITARI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988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62449-5696-4416-8FA3-7729CCA28FA9}" type="slidenum">
              <a:t>51</a:t>
            </a:fld>
          </a:p>
        </p:txBody>
      </p:sp>
    </p:spTree>
  </p:cSld>
  <p:transition spd="med"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394920"/>
            <a:ext cx="7767720" cy="8874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EUROCULTUR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9" name=""/>
          <p:cNvSpPr/>
          <p:nvPr/>
        </p:nvSpPr>
        <p:spPr>
          <a:xfrm>
            <a:off x="804960" y="2486160"/>
            <a:ext cx="2047680" cy="2144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ontaria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i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0" name=""/>
          <p:cNvSpPr/>
          <p:nvPr/>
        </p:nvSpPr>
        <p:spPr>
          <a:xfrm>
            <a:off x="5632560" y="2486160"/>
            <a:ext cx="2925720" cy="2144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7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enza orientativ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erto in line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si di lingu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amb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1" name=""/>
          <p:cNvSpPr/>
          <p:nvPr/>
        </p:nvSpPr>
        <p:spPr>
          <a:xfrm>
            <a:off x="1584360" y="1542960"/>
            <a:ext cx="6335640" cy="5144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zione, formazione e consulenza sull’ester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0" y="2486160"/>
            <a:ext cx="2027160" cy="2144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eers Abro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bi-Un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bi-Flash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tinazion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3" name=""/>
          <p:cNvSpPr/>
          <p:nvPr/>
        </p:nvSpPr>
        <p:spPr>
          <a:xfrm>
            <a:off x="3258360" y="5746680"/>
            <a:ext cx="292860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ww.eurocultura.i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695600" y="4873680"/>
            <a:ext cx="2371680" cy="720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580000" y="4859280"/>
            <a:ext cx="1832040" cy="72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A63AE-420A-49CE-945E-70325300AD92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Bitstream Vera Sans"/>
              </a:rPr>
              <a:t>Grazie per l’attenzione.</a:t>
            </a:r>
            <a:endParaRPr b="1" lang="en-US" sz="37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just">
              <a:lnSpc>
                <a:spcPct val="130000"/>
              </a:lnSpc>
              <a:spcBef>
                <a:spcPts val="924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just">
              <a:lnSpc>
                <a:spcPct val="130000"/>
              </a:lnSpc>
              <a:spcBef>
                <a:spcPts val="924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Bernd Faas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urocultu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ia Mercato Nuovo 44 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36100 Vicenz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l. 0444-964770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fo@eurocultura.i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www.eurocultura.i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0" y="2952720"/>
            <a:ext cx="4114800" cy="25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4ECD3-37D4-4959-9D31-132B28E4449B}" type="slidenum">
              <a:t>53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402840"/>
            <a:ext cx="80010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OME CERCARE LAVORO?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0680"/>
            <a:ext cx="7772400" cy="81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e principali strade della ricerca sono: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Ufficio del lavoro europeo, statale o privat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Siti Internet con offerte di lavor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andidatura spontane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Associazioni e albi professional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Networking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275FE-467A-40F6-AFC6-DDF3ABCDEBE7}" type="slidenum">
              <a:t>6</a:t>
            </a:fld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431640"/>
            <a:ext cx="8001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EURES “EURopean Employment Services“/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39520"/>
            <a:ext cx="7772400" cy="65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 principali obiettivi di EURES sono: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nformare, orientare e consigliare i lavoratori candidati alla mobilità sulle possibilità di lavoro e sulle condizioni di vita e di lavoro nello Spazio economico europeo;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0" algn="just">
              <a:lnSpc>
                <a:spcPct val="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ssistere i datori di lavoro che intendono assumere lavoratori di altri paesi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0" algn="ctr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http://ec.europa.eu/eures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9A241-D5F0-49EB-813E-B84A73652AC8}" type="slidenum">
              <a:t>7</a:t>
            </a:fld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028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EURES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/ 2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5" name=""/>
          <p:cNvSpPr/>
          <p:nvPr/>
        </p:nvSpPr>
        <p:spPr>
          <a:xfrm>
            <a:off x="4478400" y="3168720"/>
            <a:ext cx="1681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68240"/>
            <a:ext cx="7772400" cy="7484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36600" indent="0" algn="just">
              <a:lnSpc>
                <a:spcPct val="13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r la ricerca del lavoro in Europa offr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0480" indent="-233280" algn="just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anca dati con offerte di lavoro aggiornate in Europ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0480" indent="-233280" algn="just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ossibilità di inserire il CV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oltre si trovano sul sito informazioni su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0480" indent="-233280" algn="just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mento del mercato del lavor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0480" indent="-233280" algn="just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ipendi e contratti, sistema sociale e sanitari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0480" indent="-233280" algn="just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dizione e costo della vita,  la normativa per gli stranier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EE48F-C57C-408E-80B5-E8B85ABEE593}" type="slidenum">
              <a:t>8</a:t>
            </a:fld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028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JOBCENTRE STATALE / 1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39520"/>
            <a:ext cx="7772400" cy="69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ecessario essere resident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esente su tutto il territori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sulenza sulle professioni, sbocchi lavorativ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rsi sulla ricerca del lavor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lloca circa 60% delle perso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carse opportunità per laureat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9880" indent="0" algn="ctr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www.jobcentreplus.gov.uk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E64FD-FD70-4AF2-9855-7D8BACBE71E9}" type="slidenum">
              <a:t>9</a:t>
            </a:fld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rnd Faas</dc:creator>
  <dc:description/>
  <dc:language>en-US</dc:language>
  <cp:lastModifiedBy>Bernd Faas</cp:lastModifiedBy>
  <cp:lastPrinted>2014-10-16T00:25:21Z</cp:lastPrinted>
  <dcterms:modified xsi:type="dcterms:W3CDTF">2013-10-21T19:59:09Z</dcterms:modified>
  <cp:revision>0</cp:revision>
  <dc:subject/>
  <dc:title>Trovare lavoro nel Regno Unito</dc:title>
</cp:coreProperties>
</file>