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12600"/>
            <a:ext cx="292248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20680" y="12600"/>
            <a:ext cx="292284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Img"/>
          </p:nvPr>
        </p:nvSpPr>
        <p:spPr>
          <a:xfrm>
            <a:off x="866520" y="871560"/>
            <a:ext cx="50101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al Assurance Criterion (MAC) expresses the nature of the relationship between a pair of vectors (expression see abo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always lie between 0 and 1.  A value of equal to 1 indicates perfect correlation while a value of 0 implies that the two modes do not show any corresponding relationship between the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can be computed between pairs of modal vectors or pairs of response vectors and the results sorted in a matrix (r,r'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aring a corresponding set of test and FE modes you would expect the diagonal in this MAC matrix to display higher MAC values indicating good cor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C value of &gt;0.7 indicates good correlation, while a MAC value of &lt;0.5 indicates poor correl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uting the MAC matrix you should select a reasonable number of DOFs, otherwise inaccurate comparisons will b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henomena is known as spatial alia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440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816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064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440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816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5120" y="304560"/>
            <a:ext cx="838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6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430A5879-3DB2-4A5C-9214-540BC2D627C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 flipV="1">
            <a:off x="770040" y="6381360"/>
            <a:ext cx="8504280" cy="190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770040" y="1371600"/>
            <a:ext cx="8439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1F0B34E-EC80-45FD-83CC-42CFCAD3728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62120" y="2666880"/>
            <a:ext cx="8386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AND MODEL UPDA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70B591F-CA98-4305-A164-750D190A327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5075280" y="2017800"/>
            <a:ext cx="2682720" cy="894600"/>
            <a:chOff x="5075280" y="2017800"/>
            <a:chExt cx="2682720" cy="894600"/>
          </a:xfrm>
        </p:grpSpPr>
        <p:grpSp>
          <p:nvGrpSpPr>
            <p:cNvPr id="131" name="Group 4"/>
            <p:cNvGrpSpPr/>
            <p:nvPr/>
          </p:nvGrpSpPr>
          <p:grpSpPr>
            <a:xfrm>
              <a:off x="5075280" y="2017800"/>
              <a:ext cx="2682720" cy="825120"/>
              <a:chOff x="5075280" y="2017800"/>
              <a:chExt cx="2682720" cy="825120"/>
            </a:xfrm>
          </p:grpSpPr>
          <p:grpSp>
            <p:nvGrpSpPr>
              <p:cNvPr id="132" name="Group 5"/>
              <p:cNvGrpSpPr/>
              <p:nvPr/>
            </p:nvGrpSpPr>
            <p:grpSpPr>
              <a:xfrm>
                <a:off x="5187960" y="2031840"/>
                <a:ext cx="1795320" cy="449280"/>
                <a:chOff x="5187960" y="2031840"/>
                <a:chExt cx="1795320" cy="449280"/>
              </a:xfrm>
            </p:grpSpPr>
            <p:grpSp>
              <p:nvGrpSpPr>
                <p:cNvPr id="133" name="Group 6"/>
                <p:cNvGrpSpPr/>
                <p:nvPr/>
              </p:nvGrpSpPr>
              <p:grpSpPr>
                <a:xfrm>
                  <a:off x="5786280" y="2055960"/>
                  <a:ext cx="997200" cy="274320"/>
                  <a:chOff x="5786280" y="2055960"/>
                  <a:chExt cx="997200" cy="274320"/>
                </a:xfrm>
              </p:grpSpPr>
              <p:grpSp>
                <p:nvGrpSpPr>
                  <p:cNvPr id="134" name="Group 7"/>
                  <p:cNvGrpSpPr/>
                  <p:nvPr/>
                </p:nvGrpSpPr>
                <p:grpSpPr>
                  <a:xfrm>
                    <a:off x="5986440" y="2085840"/>
                    <a:ext cx="658800" cy="179640"/>
                    <a:chOff x="5986440" y="2085840"/>
                    <a:chExt cx="658800" cy="179640"/>
                  </a:xfrm>
                </p:grpSpPr>
                <p:sp>
                  <p:nvSpPr>
                    <p:cNvPr id="135" name="Freeform 8"/>
                    <p:cNvSpPr/>
                    <p:nvPr/>
                  </p:nvSpPr>
                  <p:spPr>
                    <a:xfrm>
                      <a:off x="5986440" y="2136600"/>
                      <a:ext cx="14940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81">
                          <a:moveTo>
                            <a:pt x="2" y="7"/>
                          </a:moveTo>
                          <a:lnTo>
                            <a:pt x="0" y="6"/>
                          </a:lnTo>
                          <a:lnTo>
                            <a:pt x="69" y="80"/>
                          </a:lnTo>
                          <a:lnTo>
                            <a:pt x="93" y="74"/>
                          </a:lnTo>
                          <a:lnTo>
                            <a:pt x="19" y="0"/>
                          </a:lnTo>
                          <a:lnTo>
                            <a:pt x="2" y="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Freeform 9"/>
                    <p:cNvSpPr/>
                    <p:nvPr/>
                  </p:nvSpPr>
                  <p:spPr>
                    <a:xfrm>
                      <a:off x="6521400" y="2085840"/>
                      <a:ext cx="12384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45">
                          <a:moveTo>
                            <a:pt x="16" y="4"/>
                          </a:moveTo>
                          <a:lnTo>
                            <a:pt x="18" y="3"/>
                          </a:lnTo>
                          <a:lnTo>
                            <a:pt x="77" y="43"/>
                          </a:lnTo>
                          <a:lnTo>
                            <a:pt x="54" y="44"/>
                          </a:lnTo>
                          <a:lnTo>
                            <a:pt x="0" y="0"/>
                          </a:lnTo>
                          <a:lnTo>
                            <a:pt x="16" y="4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" name="Freeform 10"/>
                  <p:cNvSpPr/>
                  <p:nvPr/>
                </p:nvSpPr>
                <p:spPr>
                  <a:xfrm>
                    <a:off x="5786280" y="2055960"/>
                    <a:ext cx="997200" cy="274320"/>
                  </a:xfrm>
                  <a:custGeom>
                    <a:avLst/>
                    <a:gdLst/>
                    <a:ahLst/>
                    <a:rect l="l" t="t" r="r" b="b"/>
                    <a:pathLst>
                      <a:path w="628" h="173">
                        <a:moveTo>
                          <a:pt x="0" y="101"/>
                        </a:moveTo>
                        <a:lnTo>
                          <a:pt x="56" y="86"/>
                        </a:lnTo>
                        <a:lnTo>
                          <a:pt x="101" y="76"/>
                        </a:lnTo>
                        <a:lnTo>
                          <a:pt x="158" y="57"/>
                        </a:lnTo>
                        <a:lnTo>
                          <a:pt x="209" y="43"/>
                        </a:lnTo>
                        <a:lnTo>
                          <a:pt x="270" y="27"/>
                        </a:lnTo>
                        <a:lnTo>
                          <a:pt x="326" y="15"/>
                        </a:lnTo>
                        <a:lnTo>
                          <a:pt x="351" y="9"/>
                        </a:lnTo>
                        <a:lnTo>
                          <a:pt x="375" y="9"/>
                        </a:lnTo>
                        <a:lnTo>
                          <a:pt x="400" y="12"/>
                        </a:lnTo>
                        <a:lnTo>
                          <a:pt x="427" y="13"/>
                        </a:lnTo>
                        <a:lnTo>
                          <a:pt x="524" y="30"/>
                        </a:lnTo>
                        <a:lnTo>
                          <a:pt x="576" y="38"/>
                        </a:lnTo>
                        <a:lnTo>
                          <a:pt x="608" y="46"/>
                        </a:lnTo>
                        <a:lnTo>
                          <a:pt x="583" y="53"/>
                        </a:lnTo>
                        <a:lnTo>
                          <a:pt x="16" y="160"/>
                        </a:lnTo>
                        <a:lnTo>
                          <a:pt x="19" y="172"/>
                        </a:lnTo>
                        <a:lnTo>
                          <a:pt x="611" y="56"/>
                        </a:lnTo>
                        <a:lnTo>
                          <a:pt x="627" y="47"/>
                        </a:lnTo>
                        <a:lnTo>
                          <a:pt x="616" y="39"/>
                        </a:lnTo>
                        <a:lnTo>
                          <a:pt x="595" y="33"/>
                        </a:lnTo>
                        <a:lnTo>
                          <a:pt x="550" y="23"/>
                        </a:lnTo>
                        <a:lnTo>
                          <a:pt x="517" y="18"/>
                        </a:lnTo>
                        <a:lnTo>
                          <a:pt x="429" y="3"/>
                        </a:lnTo>
                        <a:lnTo>
                          <a:pt x="391" y="0"/>
                        </a:lnTo>
                        <a:lnTo>
                          <a:pt x="352" y="1"/>
                        </a:lnTo>
                        <a:lnTo>
                          <a:pt x="275" y="14"/>
                        </a:lnTo>
                        <a:lnTo>
                          <a:pt x="168" y="41"/>
                        </a:lnTo>
                        <a:lnTo>
                          <a:pt x="0" y="96"/>
                        </a:lnTo>
                        <a:lnTo>
                          <a:pt x="0" y="101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" name="Freeform 11"/>
                <p:cNvSpPr/>
                <p:nvPr/>
              </p:nvSpPr>
              <p:spPr>
                <a:xfrm>
                  <a:off x="5187960" y="2031840"/>
                  <a:ext cx="1795320" cy="449280"/>
                </a:xfrm>
                <a:custGeom>
                  <a:avLst/>
                  <a:gdLst/>
                  <a:ahLst/>
                  <a:rect l="l" t="t" r="r" b="b"/>
                  <a:pathLst>
                    <a:path w="1131" h="283">
                      <a:moveTo>
                        <a:pt x="0" y="282"/>
                      </a:moveTo>
                      <a:lnTo>
                        <a:pt x="42" y="268"/>
                      </a:lnTo>
                      <a:lnTo>
                        <a:pt x="73" y="251"/>
                      </a:lnTo>
                      <a:lnTo>
                        <a:pt x="93" y="240"/>
                      </a:lnTo>
                      <a:lnTo>
                        <a:pt x="109" y="230"/>
                      </a:lnTo>
                      <a:lnTo>
                        <a:pt x="133" y="217"/>
                      </a:lnTo>
                      <a:lnTo>
                        <a:pt x="151" y="208"/>
                      </a:lnTo>
                      <a:lnTo>
                        <a:pt x="173" y="196"/>
                      </a:lnTo>
                      <a:lnTo>
                        <a:pt x="192" y="186"/>
                      </a:lnTo>
                      <a:lnTo>
                        <a:pt x="215" y="176"/>
                      </a:lnTo>
                      <a:lnTo>
                        <a:pt x="233" y="168"/>
                      </a:lnTo>
                      <a:lnTo>
                        <a:pt x="247" y="160"/>
                      </a:lnTo>
                      <a:lnTo>
                        <a:pt x="270" y="152"/>
                      </a:lnTo>
                      <a:lnTo>
                        <a:pt x="291" y="143"/>
                      </a:lnTo>
                      <a:lnTo>
                        <a:pt x="310" y="134"/>
                      </a:lnTo>
                      <a:lnTo>
                        <a:pt x="328" y="124"/>
                      </a:lnTo>
                      <a:lnTo>
                        <a:pt x="342" y="112"/>
                      </a:lnTo>
                      <a:lnTo>
                        <a:pt x="352" y="101"/>
                      </a:lnTo>
                      <a:lnTo>
                        <a:pt x="375" y="93"/>
                      </a:lnTo>
                      <a:lnTo>
                        <a:pt x="408" y="84"/>
                      </a:lnTo>
                      <a:lnTo>
                        <a:pt x="451" y="69"/>
                      </a:lnTo>
                      <a:lnTo>
                        <a:pt x="480" y="60"/>
                      </a:lnTo>
                      <a:lnTo>
                        <a:pt x="525" y="46"/>
                      </a:lnTo>
                      <a:lnTo>
                        <a:pt x="569" y="34"/>
                      </a:lnTo>
                      <a:lnTo>
                        <a:pt x="613" y="23"/>
                      </a:lnTo>
                      <a:lnTo>
                        <a:pt x="646" y="14"/>
                      </a:lnTo>
                      <a:lnTo>
                        <a:pt x="683" y="6"/>
                      </a:lnTo>
                      <a:lnTo>
                        <a:pt x="718" y="3"/>
                      </a:lnTo>
                      <a:lnTo>
                        <a:pt x="746" y="3"/>
                      </a:lnTo>
                      <a:lnTo>
                        <a:pt x="771" y="0"/>
                      </a:lnTo>
                      <a:lnTo>
                        <a:pt x="800" y="4"/>
                      </a:lnTo>
                      <a:lnTo>
                        <a:pt x="832" y="4"/>
                      </a:lnTo>
                      <a:lnTo>
                        <a:pt x="863" y="6"/>
                      </a:lnTo>
                      <a:lnTo>
                        <a:pt x="896" y="6"/>
                      </a:lnTo>
                      <a:lnTo>
                        <a:pt x="928" y="5"/>
                      </a:lnTo>
                      <a:lnTo>
                        <a:pt x="963" y="9"/>
                      </a:lnTo>
                      <a:lnTo>
                        <a:pt x="989" y="9"/>
                      </a:lnTo>
                      <a:lnTo>
                        <a:pt x="1012" y="8"/>
                      </a:lnTo>
                      <a:lnTo>
                        <a:pt x="1039" y="11"/>
                      </a:lnTo>
                      <a:lnTo>
                        <a:pt x="1067" y="11"/>
                      </a:lnTo>
                      <a:lnTo>
                        <a:pt x="1100" y="13"/>
                      </a:lnTo>
                      <a:lnTo>
                        <a:pt x="1130" y="16"/>
                      </a:lnTo>
                      <a:lnTo>
                        <a:pt x="1121" y="24"/>
                      </a:lnTo>
                      <a:lnTo>
                        <a:pt x="1104" y="34"/>
                      </a:lnTo>
                      <a:lnTo>
                        <a:pt x="1090" y="42"/>
                      </a:lnTo>
                      <a:lnTo>
                        <a:pt x="1067" y="49"/>
                      </a:lnTo>
                      <a:lnTo>
                        <a:pt x="1037" y="57"/>
                      </a:lnTo>
                      <a:lnTo>
                        <a:pt x="1010" y="65"/>
                      </a:lnTo>
                      <a:lnTo>
                        <a:pt x="999" y="57"/>
                      </a:lnTo>
                      <a:lnTo>
                        <a:pt x="988" y="53"/>
                      </a:lnTo>
                      <a:lnTo>
                        <a:pt x="970" y="46"/>
                      </a:lnTo>
                      <a:lnTo>
                        <a:pt x="935" y="38"/>
                      </a:lnTo>
                      <a:lnTo>
                        <a:pt x="894" y="30"/>
                      </a:lnTo>
                      <a:lnTo>
                        <a:pt x="855" y="25"/>
                      </a:lnTo>
                      <a:lnTo>
                        <a:pt x="809" y="17"/>
                      </a:lnTo>
                      <a:lnTo>
                        <a:pt x="770" y="14"/>
                      </a:lnTo>
                      <a:lnTo>
                        <a:pt x="736" y="16"/>
                      </a:lnTo>
                      <a:lnTo>
                        <a:pt x="710" y="16"/>
                      </a:lnTo>
                      <a:lnTo>
                        <a:pt x="660" y="28"/>
                      </a:lnTo>
                      <a:lnTo>
                        <a:pt x="595" y="44"/>
                      </a:lnTo>
                      <a:lnTo>
                        <a:pt x="520" y="63"/>
                      </a:lnTo>
                      <a:lnTo>
                        <a:pt x="466" y="80"/>
                      </a:lnTo>
                      <a:lnTo>
                        <a:pt x="377" y="110"/>
                      </a:lnTo>
                      <a:lnTo>
                        <a:pt x="398" y="193"/>
                      </a:lnTo>
                      <a:lnTo>
                        <a:pt x="0" y="282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Freeform 12"/>
              <p:cNvSpPr/>
              <p:nvPr/>
            </p:nvSpPr>
            <p:spPr>
              <a:xfrm>
                <a:off x="5297400" y="2075040"/>
                <a:ext cx="2460600" cy="760320"/>
              </a:xfrm>
              <a:custGeom>
                <a:avLst/>
                <a:gdLst/>
                <a:ahLst/>
                <a:rect l="l" t="t" r="r" b="b"/>
                <a:pathLst>
                  <a:path w="1550" h="479">
                    <a:moveTo>
                      <a:pt x="1286" y="56"/>
                    </a:moveTo>
                    <a:lnTo>
                      <a:pt x="1307" y="83"/>
                    </a:lnTo>
                    <a:lnTo>
                      <a:pt x="1315" y="111"/>
                    </a:lnTo>
                    <a:lnTo>
                      <a:pt x="1541" y="51"/>
                    </a:lnTo>
                    <a:lnTo>
                      <a:pt x="1528" y="72"/>
                    </a:lnTo>
                    <a:lnTo>
                      <a:pt x="1548" y="88"/>
                    </a:lnTo>
                    <a:lnTo>
                      <a:pt x="1549" y="97"/>
                    </a:lnTo>
                    <a:lnTo>
                      <a:pt x="1544" y="102"/>
                    </a:lnTo>
                    <a:lnTo>
                      <a:pt x="1416" y="140"/>
                    </a:lnTo>
                    <a:lnTo>
                      <a:pt x="1407" y="148"/>
                    </a:lnTo>
                    <a:lnTo>
                      <a:pt x="1339" y="167"/>
                    </a:lnTo>
                    <a:lnTo>
                      <a:pt x="1331" y="162"/>
                    </a:lnTo>
                    <a:lnTo>
                      <a:pt x="132" y="478"/>
                    </a:lnTo>
                    <a:lnTo>
                      <a:pt x="70" y="452"/>
                    </a:lnTo>
                    <a:lnTo>
                      <a:pt x="40" y="474"/>
                    </a:lnTo>
                    <a:lnTo>
                      <a:pt x="0" y="370"/>
                    </a:lnTo>
                    <a:lnTo>
                      <a:pt x="67" y="268"/>
                    </a:lnTo>
                    <a:lnTo>
                      <a:pt x="210" y="233"/>
                    </a:lnTo>
                    <a:lnTo>
                      <a:pt x="1008" y="210"/>
                    </a:lnTo>
                    <a:lnTo>
                      <a:pt x="1020" y="183"/>
                    </a:lnTo>
                    <a:lnTo>
                      <a:pt x="1023" y="126"/>
                    </a:lnTo>
                    <a:lnTo>
                      <a:pt x="1038" y="74"/>
                    </a:lnTo>
                    <a:lnTo>
                      <a:pt x="1103" y="17"/>
                    </a:lnTo>
                    <a:lnTo>
                      <a:pt x="1175" y="0"/>
                    </a:lnTo>
                    <a:lnTo>
                      <a:pt x="1237" y="13"/>
                    </a:lnTo>
                    <a:lnTo>
                      <a:pt x="1286" y="5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0" name="Group 13"/>
              <p:cNvGrpSpPr/>
              <p:nvPr/>
            </p:nvGrpSpPr>
            <p:grpSpPr>
              <a:xfrm>
                <a:off x="5075280" y="2017800"/>
                <a:ext cx="2674800" cy="825120"/>
                <a:chOff x="5075280" y="2017800"/>
                <a:chExt cx="2674800" cy="825120"/>
              </a:xfrm>
            </p:grpSpPr>
            <p:grpSp>
              <p:nvGrpSpPr>
                <p:cNvPr id="141" name="Group 14"/>
                <p:cNvGrpSpPr/>
                <p:nvPr/>
              </p:nvGrpSpPr>
              <p:grpSpPr>
                <a:xfrm>
                  <a:off x="5091480" y="2572200"/>
                  <a:ext cx="201960" cy="270720"/>
                  <a:chOff x="5091480" y="2572200"/>
                  <a:chExt cx="201960" cy="270720"/>
                </a:xfrm>
              </p:grpSpPr>
              <p:sp>
                <p:nvSpPr>
                  <p:cNvPr id="142" name="Rectangle 15"/>
                  <p:cNvSpPr/>
                  <p:nvPr/>
                </p:nvSpPr>
                <p:spPr>
                  <a:xfrm rot="20640000">
                    <a:off x="5105520" y="2630160"/>
                    <a:ext cx="428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Rectangle 16"/>
                  <p:cNvSpPr/>
                  <p:nvPr/>
                </p:nvSpPr>
                <p:spPr>
                  <a:xfrm rot="20640000">
                    <a:off x="5092200" y="2577600"/>
                    <a:ext cx="414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Rectangle 17"/>
                  <p:cNvSpPr/>
                  <p:nvPr/>
                </p:nvSpPr>
                <p:spPr>
                  <a:xfrm rot="20640000">
                    <a:off x="5099040" y="2610000"/>
                    <a:ext cx="446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18"/>
                  <p:cNvSpPr/>
                  <p:nvPr/>
                </p:nvSpPr>
                <p:spPr>
                  <a:xfrm rot="20640000">
                    <a:off x="5113080" y="2644920"/>
                    <a:ext cx="568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</a:path>
                      <a:path stroke="0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  <a:lnTo>
                          <a:pt x="21600" y="608"/>
                        </a:lnTo>
                        <a:lnTo>
                          <a:pt x="20974" y="2219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19"/>
                  <p:cNvGrpSpPr/>
                  <p:nvPr/>
                </p:nvGrpSpPr>
                <p:grpSpPr>
                  <a:xfrm>
                    <a:off x="5143680" y="2770920"/>
                    <a:ext cx="143640" cy="54720"/>
                    <a:chOff x="5143680" y="2770920"/>
                    <a:chExt cx="143640" cy="54720"/>
                  </a:xfrm>
                </p:grpSpPr>
                <p:sp>
                  <p:nvSpPr>
                    <p:cNvPr id="147" name="Rectangle 20"/>
                    <p:cNvSpPr/>
                    <p:nvPr/>
                  </p:nvSpPr>
                  <p:spPr>
                    <a:xfrm rot="20640000">
                      <a:off x="5151600" y="2789280"/>
                      <a:ext cx="136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Oval 21"/>
                    <p:cNvSpPr/>
                    <p:nvPr/>
                  </p:nvSpPr>
                  <p:spPr>
                    <a:xfrm rot="20640000">
                      <a:off x="5145120" y="28112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" name="Group 22"/>
                  <p:cNvGrpSpPr/>
                  <p:nvPr/>
                </p:nvGrpSpPr>
                <p:grpSpPr>
                  <a:xfrm>
                    <a:off x="5151600" y="2792520"/>
                    <a:ext cx="141840" cy="50400"/>
                    <a:chOff x="5151600" y="2792520"/>
                    <a:chExt cx="141840" cy="50400"/>
                  </a:xfrm>
                </p:grpSpPr>
                <p:sp>
                  <p:nvSpPr>
                    <p:cNvPr id="150" name="Rectangle 23"/>
                    <p:cNvSpPr/>
                    <p:nvPr/>
                  </p:nvSpPr>
                  <p:spPr>
                    <a:xfrm rot="20640000">
                      <a:off x="5156280" y="2811240"/>
                      <a:ext cx="1378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Oval 24"/>
                    <p:cNvSpPr/>
                    <p:nvPr/>
                  </p:nvSpPr>
                  <p:spPr>
                    <a:xfrm rot="20640000">
                      <a:off x="5153040" y="282852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" name="Group 25"/>
                  <p:cNvGrpSpPr/>
                  <p:nvPr/>
                </p:nvGrpSpPr>
                <p:grpSpPr>
                  <a:xfrm>
                    <a:off x="5137200" y="2751120"/>
                    <a:ext cx="145440" cy="52560"/>
                    <a:chOff x="5137200" y="2751120"/>
                    <a:chExt cx="145440" cy="52560"/>
                  </a:xfrm>
                </p:grpSpPr>
                <p:sp>
                  <p:nvSpPr>
                    <p:cNvPr id="153" name="Rectangle 26"/>
                    <p:cNvSpPr/>
                    <p:nvPr/>
                  </p:nvSpPr>
                  <p:spPr>
                    <a:xfrm rot="20640000">
                      <a:off x="5143680" y="2769840"/>
                      <a:ext cx="1396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Oval 27"/>
                    <p:cNvSpPr/>
                    <p:nvPr/>
                  </p:nvSpPr>
                  <p:spPr>
                    <a:xfrm rot="20640000">
                      <a:off x="5138640" y="27892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5" name="Freeform 28"/>
                <p:cNvSpPr/>
                <p:nvPr/>
              </p:nvSpPr>
              <p:spPr>
                <a:xfrm>
                  <a:off x="5075280" y="2017800"/>
                  <a:ext cx="2674800" cy="811080"/>
                </a:xfrm>
                <a:custGeom>
                  <a:avLst/>
                  <a:gdLst/>
                  <a:ahLst/>
                  <a:rect l="l" t="t" r="r" b="b"/>
                  <a:pathLst>
                    <a:path w="1685" h="511">
                      <a:moveTo>
                        <a:pt x="74" y="291"/>
                      </a:moveTo>
                      <a:lnTo>
                        <a:pt x="0" y="310"/>
                      </a:lnTo>
                      <a:lnTo>
                        <a:pt x="5" y="346"/>
                      </a:lnTo>
                      <a:lnTo>
                        <a:pt x="37" y="339"/>
                      </a:lnTo>
                      <a:lnTo>
                        <a:pt x="77" y="465"/>
                      </a:lnTo>
                      <a:lnTo>
                        <a:pt x="158" y="509"/>
                      </a:lnTo>
                      <a:lnTo>
                        <a:pt x="172" y="510"/>
                      </a:lnTo>
                      <a:lnTo>
                        <a:pt x="183" y="509"/>
                      </a:lnTo>
                      <a:lnTo>
                        <a:pt x="174" y="482"/>
                      </a:lnTo>
                      <a:lnTo>
                        <a:pt x="160" y="447"/>
                      </a:lnTo>
                      <a:lnTo>
                        <a:pt x="159" y="416"/>
                      </a:lnTo>
                      <a:lnTo>
                        <a:pt x="165" y="391"/>
                      </a:lnTo>
                      <a:lnTo>
                        <a:pt x="173" y="366"/>
                      </a:lnTo>
                      <a:lnTo>
                        <a:pt x="191" y="343"/>
                      </a:lnTo>
                      <a:lnTo>
                        <a:pt x="212" y="321"/>
                      </a:lnTo>
                      <a:lnTo>
                        <a:pt x="245" y="304"/>
                      </a:lnTo>
                      <a:lnTo>
                        <a:pt x="288" y="289"/>
                      </a:lnTo>
                      <a:lnTo>
                        <a:pt x="326" y="286"/>
                      </a:lnTo>
                      <a:lnTo>
                        <a:pt x="353" y="292"/>
                      </a:lnTo>
                      <a:lnTo>
                        <a:pt x="378" y="300"/>
                      </a:lnTo>
                      <a:lnTo>
                        <a:pt x="410" y="317"/>
                      </a:lnTo>
                      <a:lnTo>
                        <a:pt x="431" y="336"/>
                      </a:lnTo>
                      <a:lnTo>
                        <a:pt x="449" y="356"/>
                      </a:lnTo>
                      <a:lnTo>
                        <a:pt x="457" y="375"/>
                      </a:lnTo>
                      <a:lnTo>
                        <a:pt x="474" y="420"/>
                      </a:lnTo>
                      <a:lnTo>
                        <a:pt x="1184" y="244"/>
                      </a:lnTo>
                      <a:lnTo>
                        <a:pt x="1169" y="201"/>
                      </a:lnTo>
                      <a:lnTo>
                        <a:pt x="1173" y="169"/>
                      </a:lnTo>
                      <a:lnTo>
                        <a:pt x="1177" y="143"/>
                      </a:lnTo>
                      <a:lnTo>
                        <a:pt x="1186" y="116"/>
                      </a:lnTo>
                      <a:lnTo>
                        <a:pt x="1206" y="89"/>
                      </a:lnTo>
                      <a:lnTo>
                        <a:pt x="1230" y="71"/>
                      </a:lnTo>
                      <a:lnTo>
                        <a:pt x="1254" y="58"/>
                      </a:lnTo>
                      <a:lnTo>
                        <a:pt x="1298" y="46"/>
                      </a:lnTo>
                      <a:lnTo>
                        <a:pt x="1320" y="45"/>
                      </a:lnTo>
                      <a:lnTo>
                        <a:pt x="1348" y="49"/>
                      </a:lnTo>
                      <a:lnTo>
                        <a:pt x="1373" y="58"/>
                      </a:lnTo>
                      <a:lnTo>
                        <a:pt x="1402" y="75"/>
                      </a:lnTo>
                      <a:lnTo>
                        <a:pt x="1423" y="98"/>
                      </a:lnTo>
                      <a:lnTo>
                        <a:pt x="1441" y="123"/>
                      </a:lnTo>
                      <a:lnTo>
                        <a:pt x="1451" y="151"/>
                      </a:lnTo>
                      <a:lnTo>
                        <a:pt x="1684" y="90"/>
                      </a:lnTo>
                      <a:lnTo>
                        <a:pt x="1682" y="80"/>
                      </a:lnTo>
                      <a:lnTo>
                        <a:pt x="1672" y="82"/>
                      </a:lnTo>
                      <a:lnTo>
                        <a:pt x="1670" y="71"/>
                      </a:lnTo>
                      <a:lnTo>
                        <a:pt x="1676" y="69"/>
                      </a:lnTo>
                      <a:lnTo>
                        <a:pt x="1663" y="25"/>
                      </a:lnTo>
                      <a:lnTo>
                        <a:pt x="1653" y="17"/>
                      </a:lnTo>
                      <a:lnTo>
                        <a:pt x="1592" y="5"/>
                      </a:lnTo>
                      <a:lnTo>
                        <a:pt x="1527" y="1"/>
                      </a:lnTo>
                      <a:lnTo>
                        <a:pt x="1446" y="0"/>
                      </a:lnTo>
                      <a:lnTo>
                        <a:pt x="1364" y="5"/>
                      </a:lnTo>
                      <a:lnTo>
                        <a:pt x="1287" y="7"/>
                      </a:lnTo>
                      <a:lnTo>
                        <a:pt x="1216" y="16"/>
                      </a:lnTo>
                      <a:lnTo>
                        <a:pt x="1191" y="22"/>
                      </a:lnTo>
                      <a:lnTo>
                        <a:pt x="1178" y="32"/>
                      </a:lnTo>
                      <a:lnTo>
                        <a:pt x="1107" y="60"/>
                      </a:lnTo>
                      <a:lnTo>
                        <a:pt x="1052" y="80"/>
                      </a:lnTo>
                      <a:lnTo>
                        <a:pt x="744" y="144"/>
                      </a:lnTo>
                      <a:lnTo>
                        <a:pt x="593" y="169"/>
                      </a:lnTo>
                      <a:lnTo>
                        <a:pt x="456" y="197"/>
                      </a:lnTo>
                      <a:lnTo>
                        <a:pt x="384" y="209"/>
                      </a:lnTo>
                      <a:lnTo>
                        <a:pt x="74" y="29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29"/>
                <p:cNvSpPr/>
                <p:nvPr/>
              </p:nvSpPr>
              <p:spPr>
                <a:xfrm>
                  <a:off x="6110280" y="2163600"/>
                  <a:ext cx="625320" cy="424080"/>
                </a:xfrm>
                <a:custGeom>
                  <a:avLst/>
                  <a:gdLst/>
                  <a:ahLst/>
                  <a:rect l="l" t="t" r="r" b="b"/>
                  <a:pathLst>
                    <a:path w="394" h="267">
                      <a:moveTo>
                        <a:pt x="0" y="67"/>
                      </a:moveTo>
                      <a:lnTo>
                        <a:pt x="65" y="266"/>
                      </a:lnTo>
                      <a:lnTo>
                        <a:pt x="393" y="185"/>
                      </a:lnTo>
                      <a:lnTo>
                        <a:pt x="335" y="0"/>
                      </a:lnTo>
                      <a:lnTo>
                        <a:pt x="292" y="9"/>
                      </a:lnTo>
                      <a:lnTo>
                        <a:pt x="230" y="21"/>
                      </a:lnTo>
                      <a:lnTo>
                        <a:pt x="168" y="36"/>
                      </a:lnTo>
                      <a:lnTo>
                        <a:pt x="130" y="42"/>
                      </a:lnTo>
                      <a:lnTo>
                        <a:pt x="91" y="51"/>
                      </a:lnTo>
                      <a:lnTo>
                        <a:pt x="37" y="59"/>
                      </a:lnTo>
                      <a:lnTo>
                        <a:pt x="0" y="6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7" name="Group 30"/>
                <p:cNvGrpSpPr/>
                <p:nvPr/>
              </p:nvGrpSpPr>
              <p:grpSpPr>
                <a:xfrm>
                  <a:off x="5664600" y="2257560"/>
                  <a:ext cx="961560" cy="304560"/>
                  <a:chOff x="5664600" y="2257560"/>
                  <a:chExt cx="961560" cy="304560"/>
                </a:xfrm>
              </p:grpSpPr>
              <p:sp>
                <p:nvSpPr>
                  <p:cNvPr id="158" name="Oval 31"/>
                  <p:cNvSpPr/>
                  <p:nvPr/>
                </p:nvSpPr>
                <p:spPr>
                  <a:xfrm rot="20640000">
                    <a:off x="5667480" y="2268360"/>
                    <a:ext cx="83880" cy="3348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Oval 32"/>
                  <p:cNvSpPr/>
                  <p:nvPr/>
                </p:nvSpPr>
                <p:spPr>
                  <a:xfrm rot="20640000">
                    <a:off x="5683320" y="229212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" name="Group 33"/>
                  <p:cNvGrpSpPr/>
                  <p:nvPr/>
                </p:nvGrpSpPr>
                <p:grpSpPr>
                  <a:xfrm>
                    <a:off x="6027840" y="2279520"/>
                    <a:ext cx="598320" cy="282600"/>
                    <a:chOff x="6027840" y="2279520"/>
                    <a:chExt cx="598320" cy="282600"/>
                  </a:xfrm>
                </p:grpSpPr>
                <p:sp>
                  <p:nvSpPr>
                    <p:cNvPr id="161" name="Freeform 34"/>
                    <p:cNvSpPr/>
                    <p:nvPr/>
                  </p:nvSpPr>
                  <p:spPr>
                    <a:xfrm>
                      <a:off x="6086520" y="2344680"/>
                      <a:ext cx="53964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0" h="137">
                          <a:moveTo>
                            <a:pt x="0" y="117"/>
                          </a:moveTo>
                          <a:lnTo>
                            <a:pt x="5" y="136"/>
                          </a:lnTo>
                          <a:lnTo>
                            <a:pt x="339" y="0"/>
                          </a:lnTo>
                          <a:lnTo>
                            <a:pt x="0" y="1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Freeform 35"/>
                    <p:cNvSpPr/>
                    <p:nvPr/>
                  </p:nvSpPr>
                  <p:spPr>
                    <a:xfrm>
                      <a:off x="6027840" y="2279520"/>
                      <a:ext cx="57312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1" h="59">
                          <a:moveTo>
                            <a:pt x="0" y="38"/>
                          </a:moveTo>
                          <a:lnTo>
                            <a:pt x="7" y="58"/>
                          </a:lnTo>
                          <a:lnTo>
                            <a:pt x="360" y="0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36"/>
                    <p:cNvSpPr/>
                    <p:nvPr/>
                  </p:nvSpPr>
                  <p:spPr>
                    <a:xfrm>
                      <a:off x="6041880" y="2297160"/>
                      <a:ext cx="565200" cy="1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6" h="80">
                          <a:moveTo>
                            <a:pt x="0" y="57"/>
                          </a:moveTo>
                          <a:lnTo>
                            <a:pt x="8" y="79"/>
                          </a:lnTo>
                          <a:lnTo>
                            <a:pt x="355" y="0"/>
                          </a:lnTo>
                          <a:lnTo>
                            <a:pt x="0" y="5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Freeform 37"/>
                    <p:cNvSpPr/>
                    <p:nvPr/>
                  </p:nvSpPr>
                  <p:spPr>
                    <a:xfrm>
                      <a:off x="6060960" y="2309760"/>
                      <a:ext cx="555840" cy="16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102">
                          <a:moveTo>
                            <a:pt x="0" y="80"/>
                          </a:moveTo>
                          <a:lnTo>
                            <a:pt x="4" y="101"/>
                          </a:lnTo>
                          <a:lnTo>
                            <a:pt x="349" y="0"/>
                          </a:lnTo>
                          <a:lnTo>
                            <a:pt x="0" y="8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Freeform 38"/>
                    <p:cNvSpPr/>
                    <p:nvPr/>
                  </p:nvSpPr>
                  <p:spPr>
                    <a:xfrm>
                      <a:off x="6073920" y="2325600"/>
                      <a:ext cx="549000" cy="19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120">
                          <a:moveTo>
                            <a:pt x="0" y="99"/>
                          </a:moveTo>
                          <a:lnTo>
                            <a:pt x="5" y="119"/>
                          </a:lnTo>
                          <a:lnTo>
                            <a:pt x="345" y="0"/>
                          </a:lnTo>
                          <a:lnTo>
                            <a:pt x="0" y="99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66" name="Group 39"/>
            <p:cNvGrpSpPr/>
            <p:nvPr/>
          </p:nvGrpSpPr>
          <p:grpSpPr>
            <a:xfrm>
              <a:off x="5345640" y="2021400"/>
              <a:ext cx="2075400" cy="891000"/>
              <a:chOff x="5345640" y="2021400"/>
              <a:chExt cx="2075400" cy="891000"/>
            </a:xfrm>
          </p:grpSpPr>
          <p:grpSp>
            <p:nvGrpSpPr>
              <p:cNvPr id="167" name="Group 40"/>
              <p:cNvGrpSpPr/>
              <p:nvPr/>
            </p:nvGrpSpPr>
            <p:grpSpPr>
              <a:xfrm>
                <a:off x="6928560" y="2021400"/>
                <a:ext cx="492480" cy="473400"/>
                <a:chOff x="6928560" y="2021400"/>
                <a:chExt cx="492480" cy="473400"/>
              </a:xfrm>
            </p:grpSpPr>
            <p:sp>
              <p:nvSpPr>
                <p:cNvPr id="168" name="Oval 41"/>
                <p:cNvSpPr/>
                <p:nvPr/>
              </p:nvSpPr>
              <p:spPr>
                <a:xfrm rot="20640000">
                  <a:off x="6972480" y="20696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42"/>
                <p:cNvSpPr/>
                <p:nvPr/>
              </p:nvSpPr>
              <p:spPr>
                <a:xfrm>
                  <a:off x="7192800" y="2317680"/>
                  <a:ext cx="73080" cy="8748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0" y="54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5" y="43"/>
                      </a:lnTo>
                      <a:lnTo>
                        <a:pt x="23" y="53"/>
                      </a:lnTo>
                      <a:lnTo>
                        <a:pt x="0" y="5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3"/>
                <p:cNvSpPr/>
                <p:nvPr/>
              </p:nvSpPr>
              <p:spPr>
                <a:xfrm>
                  <a:off x="7107120" y="2116080"/>
                  <a:ext cx="71640" cy="90720"/>
                </a:xfrm>
                <a:custGeom>
                  <a:avLst/>
                  <a:gdLst/>
                  <a:ahLst/>
                  <a:rect l="l" t="t" r="r" b="b"/>
                  <a:pathLst>
                    <a:path w="45" h="57">
                      <a:moveTo>
                        <a:pt x="0" y="14"/>
                      </a:moveTo>
                      <a:lnTo>
                        <a:pt x="33" y="56"/>
                      </a:lnTo>
                      <a:lnTo>
                        <a:pt x="42" y="53"/>
                      </a:lnTo>
                      <a:lnTo>
                        <a:pt x="44" y="0"/>
                      </a:lnTo>
                      <a:lnTo>
                        <a:pt x="21" y="5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4"/>
                <p:cNvSpPr/>
                <p:nvPr/>
              </p:nvSpPr>
              <p:spPr>
                <a:xfrm>
                  <a:off x="7238880" y="2189160"/>
                  <a:ext cx="100080" cy="6840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47" y="0"/>
                      </a:moveTo>
                      <a:lnTo>
                        <a:pt x="0" y="31"/>
                      </a:lnTo>
                      <a:lnTo>
                        <a:pt x="4" y="40"/>
                      </a:lnTo>
                      <a:lnTo>
                        <a:pt x="62" y="42"/>
                      </a:lnTo>
                      <a:lnTo>
                        <a:pt x="60" y="21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5"/>
                <p:cNvSpPr/>
                <p:nvPr/>
              </p:nvSpPr>
              <p:spPr>
                <a:xfrm>
                  <a:off x="7029360" y="2263680"/>
                  <a:ext cx="92160" cy="69840"/>
                </a:xfrm>
                <a:custGeom>
                  <a:avLst/>
                  <a:gdLst/>
                  <a:ahLst/>
                  <a:rect l="l" t="t" r="r" b="b"/>
                  <a:pathLst>
                    <a:path w="58" h="44">
                      <a:moveTo>
                        <a:pt x="0" y="0"/>
                      </a:moveTo>
                      <a:lnTo>
                        <a:pt x="55" y="4"/>
                      </a:lnTo>
                      <a:lnTo>
                        <a:pt x="57" y="14"/>
                      </a:lnTo>
                      <a:lnTo>
                        <a:pt x="12" y="43"/>
                      </a:lnTo>
                      <a:lnTo>
                        <a:pt x="3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Oval 46"/>
                <p:cNvSpPr/>
                <p:nvPr/>
              </p:nvSpPr>
              <p:spPr>
                <a:xfrm rot="20640000">
                  <a:off x="7024320" y="2120400"/>
                  <a:ext cx="29376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Group 47"/>
                <p:cNvGrpSpPr/>
                <p:nvPr/>
              </p:nvGrpSpPr>
              <p:grpSpPr>
                <a:xfrm>
                  <a:off x="7110360" y="2197440"/>
                  <a:ext cx="123840" cy="119880"/>
                  <a:chOff x="7110360" y="2197440"/>
                  <a:chExt cx="123840" cy="119880"/>
                </a:xfrm>
              </p:grpSpPr>
              <p:sp>
                <p:nvSpPr>
                  <p:cNvPr id="175" name="Oval 48"/>
                  <p:cNvSpPr/>
                  <p:nvPr/>
                </p:nvSpPr>
                <p:spPr>
                  <a:xfrm rot="20640000">
                    <a:off x="7121520" y="2209680"/>
                    <a:ext cx="101520" cy="95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Oval 49"/>
                  <p:cNvSpPr/>
                  <p:nvPr/>
                </p:nvSpPr>
                <p:spPr>
                  <a:xfrm rot="20640000">
                    <a:off x="7146720" y="2231640"/>
                    <a:ext cx="5076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" name="Group 50"/>
              <p:cNvGrpSpPr/>
              <p:nvPr/>
            </p:nvGrpSpPr>
            <p:grpSpPr>
              <a:xfrm>
                <a:off x="5345640" y="2439000"/>
                <a:ext cx="492480" cy="473400"/>
                <a:chOff x="5345640" y="2439000"/>
                <a:chExt cx="492480" cy="473400"/>
              </a:xfrm>
            </p:grpSpPr>
            <p:sp>
              <p:nvSpPr>
                <p:cNvPr id="178" name="Oval 51"/>
                <p:cNvSpPr/>
                <p:nvPr/>
              </p:nvSpPr>
              <p:spPr>
                <a:xfrm rot="20640000">
                  <a:off x="5389560" y="24872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2"/>
                <p:cNvSpPr/>
                <p:nvPr/>
              </p:nvSpPr>
              <p:spPr>
                <a:xfrm>
                  <a:off x="5610240" y="2736720"/>
                  <a:ext cx="76320" cy="82800"/>
                </a:xfrm>
                <a:custGeom>
                  <a:avLst/>
                  <a:gdLst/>
                  <a:ahLst/>
                  <a:rect l="l" t="t" r="r" b="b"/>
                  <a:pathLst>
                    <a:path w="48" h="52">
                      <a:moveTo>
                        <a:pt x="0" y="51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7" y="42"/>
                      </a:lnTo>
                      <a:lnTo>
                        <a:pt x="24" y="51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53"/>
                <p:cNvSpPr/>
                <p:nvPr/>
              </p:nvSpPr>
              <p:spPr>
                <a:xfrm>
                  <a:off x="5524560" y="2535120"/>
                  <a:ext cx="74520" cy="92160"/>
                </a:xfrm>
                <a:custGeom>
                  <a:avLst/>
                  <a:gdLst/>
                  <a:ahLst/>
                  <a:rect l="l" t="t" r="r" b="b"/>
                  <a:pathLst>
                    <a:path w="47" h="58">
                      <a:moveTo>
                        <a:pt x="0" y="13"/>
                      </a:moveTo>
                      <a:lnTo>
                        <a:pt x="34" y="57"/>
                      </a:lnTo>
                      <a:lnTo>
                        <a:pt x="44" y="51"/>
                      </a:lnTo>
                      <a:lnTo>
                        <a:pt x="46" y="0"/>
                      </a:lnTo>
                      <a:lnTo>
                        <a:pt x="21" y="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54"/>
                <p:cNvSpPr/>
                <p:nvPr/>
              </p:nvSpPr>
              <p:spPr>
                <a:xfrm>
                  <a:off x="5656320" y="2606760"/>
                  <a:ext cx="98280" cy="66600"/>
                </a:xfrm>
                <a:custGeom>
                  <a:avLst/>
                  <a:gdLst/>
                  <a:ahLst/>
                  <a:rect l="l" t="t" r="r" b="b"/>
                  <a:pathLst>
                    <a:path w="62" h="42">
                      <a:moveTo>
                        <a:pt x="50" y="0"/>
                      </a:moveTo>
                      <a:lnTo>
                        <a:pt x="0" y="32"/>
                      </a:lnTo>
                      <a:lnTo>
                        <a:pt x="4" y="41"/>
                      </a:lnTo>
                      <a:lnTo>
                        <a:pt x="61" y="41"/>
                      </a:lnTo>
                      <a:lnTo>
                        <a:pt x="60" y="2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55"/>
                <p:cNvSpPr/>
                <p:nvPr/>
              </p:nvSpPr>
              <p:spPr>
                <a:xfrm>
                  <a:off x="5448240" y="2681280"/>
                  <a:ext cx="96840" cy="73080"/>
                </a:xfrm>
                <a:custGeom>
                  <a:avLst/>
                  <a:gdLst/>
                  <a:ahLst/>
                  <a:rect l="l" t="t" r="r" b="b"/>
                  <a:pathLst>
                    <a:path w="61" h="46">
                      <a:moveTo>
                        <a:pt x="0" y="0"/>
                      </a:moveTo>
                      <a:lnTo>
                        <a:pt x="57" y="4"/>
                      </a:lnTo>
                      <a:lnTo>
                        <a:pt x="60" y="15"/>
                      </a:lnTo>
                      <a:lnTo>
                        <a:pt x="11" y="45"/>
                      </a:lnTo>
                      <a:lnTo>
                        <a:pt x="4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Oval 56"/>
                <p:cNvSpPr/>
                <p:nvPr/>
              </p:nvSpPr>
              <p:spPr>
                <a:xfrm rot="20640000">
                  <a:off x="5444640" y="2538360"/>
                  <a:ext cx="29232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57"/>
                <p:cNvGrpSpPr/>
                <p:nvPr/>
              </p:nvGrpSpPr>
              <p:grpSpPr>
                <a:xfrm>
                  <a:off x="5527800" y="2613600"/>
                  <a:ext cx="125280" cy="119880"/>
                  <a:chOff x="5527800" y="2613600"/>
                  <a:chExt cx="125280" cy="119880"/>
                </a:xfrm>
              </p:grpSpPr>
              <p:sp>
                <p:nvSpPr>
                  <p:cNvPr id="185" name="Oval 58"/>
                  <p:cNvSpPr/>
                  <p:nvPr/>
                </p:nvSpPr>
                <p:spPr>
                  <a:xfrm rot="20640000">
                    <a:off x="5538600" y="2625840"/>
                    <a:ext cx="102960" cy="95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Oval 59"/>
                  <p:cNvSpPr/>
                  <p:nvPr/>
                </p:nvSpPr>
                <p:spPr>
                  <a:xfrm rot="20640000">
                    <a:off x="5565240" y="2649240"/>
                    <a:ext cx="5112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7" name="Line 60"/>
          <p:cNvSpPr/>
          <p:nvPr/>
        </p:nvSpPr>
        <p:spPr>
          <a:xfrm>
            <a:off x="1073160" y="1981080"/>
            <a:ext cx="0" cy="198144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61"/>
          <p:cNvSpPr/>
          <p:nvPr/>
        </p:nvSpPr>
        <p:spPr>
          <a:xfrm flipH="1">
            <a:off x="1072800" y="396252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62"/>
          <p:cNvSpPr/>
          <p:nvPr/>
        </p:nvSpPr>
        <p:spPr>
          <a:xfrm flipV="1">
            <a:off x="1149480" y="1904760"/>
            <a:ext cx="5200560" cy="198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63"/>
          <p:cNvSpPr/>
          <p:nvPr/>
        </p:nvSpPr>
        <p:spPr>
          <a:xfrm flipV="1">
            <a:off x="1073160" y="2590920"/>
            <a:ext cx="5695920" cy="13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64"/>
          <p:cNvGrpSpPr/>
          <p:nvPr/>
        </p:nvGrpSpPr>
        <p:grpSpPr>
          <a:xfrm>
            <a:off x="2344680" y="3222720"/>
            <a:ext cx="1208160" cy="398520"/>
            <a:chOff x="2344680" y="3222720"/>
            <a:chExt cx="1208160" cy="398520"/>
          </a:xfrm>
        </p:grpSpPr>
        <p:grpSp>
          <p:nvGrpSpPr>
            <p:cNvPr id="192" name="Group 65"/>
            <p:cNvGrpSpPr/>
            <p:nvPr/>
          </p:nvGrpSpPr>
          <p:grpSpPr>
            <a:xfrm>
              <a:off x="2344680" y="3222720"/>
              <a:ext cx="1208160" cy="382320"/>
              <a:chOff x="2344680" y="3222720"/>
              <a:chExt cx="1208160" cy="382320"/>
            </a:xfrm>
          </p:grpSpPr>
          <p:grpSp>
            <p:nvGrpSpPr>
              <p:cNvPr id="193" name="Group 66"/>
              <p:cNvGrpSpPr/>
              <p:nvPr/>
            </p:nvGrpSpPr>
            <p:grpSpPr>
              <a:xfrm>
                <a:off x="2394000" y="3228840"/>
                <a:ext cx="811080" cy="203400"/>
                <a:chOff x="2394000" y="3228840"/>
                <a:chExt cx="811080" cy="203400"/>
              </a:xfrm>
            </p:grpSpPr>
            <p:grpSp>
              <p:nvGrpSpPr>
                <p:cNvPr id="194" name="Group 67"/>
                <p:cNvGrpSpPr/>
                <p:nvPr/>
              </p:nvGrpSpPr>
              <p:grpSpPr>
                <a:xfrm>
                  <a:off x="2664000" y="3240000"/>
                  <a:ext cx="450720" cy="123840"/>
                  <a:chOff x="2664000" y="3240000"/>
                  <a:chExt cx="450720" cy="123840"/>
                </a:xfrm>
              </p:grpSpPr>
              <p:grpSp>
                <p:nvGrpSpPr>
                  <p:cNvPr id="195" name="Group 68"/>
                  <p:cNvGrpSpPr/>
                  <p:nvPr/>
                </p:nvGrpSpPr>
                <p:grpSpPr>
                  <a:xfrm>
                    <a:off x="2755800" y="3252960"/>
                    <a:ext cx="297000" cy="82440"/>
                    <a:chOff x="2755800" y="3252960"/>
                    <a:chExt cx="297000" cy="82440"/>
                  </a:xfrm>
                </p:grpSpPr>
                <p:sp>
                  <p:nvSpPr>
                    <p:cNvPr id="196" name="Freeform 69"/>
                    <p:cNvSpPr/>
                    <p:nvPr/>
                  </p:nvSpPr>
                  <p:spPr>
                    <a:xfrm>
                      <a:off x="2755800" y="327672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Freeform 70"/>
                    <p:cNvSpPr/>
                    <p:nvPr/>
                  </p:nvSpPr>
                  <p:spPr>
                    <a:xfrm>
                      <a:off x="2997360" y="3252960"/>
                      <a:ext cx="5544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8" name="Freeform 71"/>
                  <p:cNvSpPr/>
                  <p:nvPr/>
                </p:nvSpPr>
                <p:spPr>
                  <a:xfrm>
                    <a:off x="2664000" y="324000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Freeform 72"/>
                <p:cNvSpPr/>
                <p:nvPr/>
              </p:nvSpPr>
              <p:spPr>
                <a:xfrm>
                  <a:off x="2394000" y="3228840"/>
                  <a:ext cx="811080" cy="20340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73"/>
              <p:cNvSpPr/>
              <p:nvPr/>
            </p:nvSpPr>
            <p:spPr>
              <a:xfrm>
                <a:off x="2444760" y="324792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1" name="Group 74"/>
              <p:cNvGrpSpPr/>
              <p:nvPr/>
            </p:nvGrpSpPr>
            <p:grpSpPr>
              <a:xfrm>
                <a:off x="2344680" y="3222720"/>
                <a:ext cx="1204920" cy="382320"/>
                <a:chOff x="2344680" y="3222720"/>
                <a:chExt cx="1204920" cy="382320"/>
              </a:xfrm>
            </p:grpSpPr>
            <p:grpSp>
              <p:nvGrpSpPr>
                <p:cNvPr id="202" name="Group 75"/>
                <p:cNvGrpSpPr/>
                <p:nvPr/>
              </p:nvGrpSpPr>
              <p:grpSpPr>
                <a:xfrm>
                  <a:off x="2354400" y="3476520"/>
                  <a:ext cx="86400" cy="128520"/>
                  <a:chOff x="2354400" y="3476520"/>
                  <a:chExt cx="86400" cy="128520"/>
                </a:xfrm>
              </p:grpSpPr>
              <p:sp>
                <p:nvSpPr>
                  <p:cNvPr id="203" name="Rectangle 76"/>
                  <p:cNvSpPr/>
                  <p:nvPr/>
                </p:nvSpPr>
                <p:spPr>
                  <a:xfrm rot="20640000">
                    <a:off x="2360520" y="350172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Rectangle 77"/>
                  <p:cNvSpPr/>
                  <p:nvPr/>
                </p:nvSpPr>
                <p:spPr>
                  <a:xfrm rot="20640000">
                    <a:off x="2355840" y="347796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Rectangle 78"/>
                  <p:cNvSpPr/>
                  <p:nvPr/>
                </p:nvSpPr>
                <p:spPr>
                  <a:xfrm rot="20640000">
                    <a:off x="2359080" y="349200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rc 79"/>
                  <p:cNvSpPr/>
                  <p:nvPr/>
                </p:nvSpPr>
                <p:spPr>
                  <a:xfrm rot="20640000">
                    <a:off x="2362320" y="350496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Group 80"/>
                  <p:cNvGrpSpPr/>
                  <p:nvPr/>
                </p:nvGrpSpPr>
                <p:grpSpPr>
                  <a:xfrm>
                    <a:off x="2378160" y="3566160"/>
                    <a:ext cx="59400" cy="32400"/>
                    <a:chOff x="2378160" y="3566160"/>
                    <a:chExt cx="59400" cy="32400"/>
                  </a:xfrm>
                </p:grpSpPr>
                <p:sp>
                  <p:nvSpPr>
                    <p:cNvPr id="208" name="Rectangle 81"/>
                    <p:cNvSpPr/>
                    <p:nvPr/>
                  </p:nvSpPr>
                  <p:spPr>
                    <a:xfrm rot="20640000">
                      <a:off x="2381040" y="3573360"/>
                      <a:ext cx="554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Oval 82"/>
                    <p:cNvSpPr/>
                    <p:nvPr/>
                  </p:nvSpPr>
                  <p:spPr>
                    <a:xfrm rot="20640000">
                      <a:off x="2379600" y="358416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83"/>
                  <p:cNvGrpSpPr/>
                  <p:nvPr/>
                </p:nvGrpSpPr>
                <p:grpSpPr>
                  <a:xfrm>
                    <a:off x="2379960" y="3576960"/>
                    <a:ext cx="60840" cy="28080"/>
                    <a:chOff x="2379960" y="3576960"/>
                    <a:chExt cx="60840" cy="28080"/>
                  </a:xfrm>
                </p:grpSpPr>
                <p:sp>
                  <p:nvSpPr>
                    <p:cNvPr id="211" name="Rectangle 84"/>
                    <p:cNvSpPr/>
                    <p:nvPr/>
                  </p:nvSpPr>
                  <p:spPr>
                    <a:xfrm rot="20640000">
                      <a:off x="2383920" y="358416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Oval 85"/>
                    <p:cNvSpPr/>
                    <p:nvPr/>
                  </p:nvSpPr>
                  <p:spPr>
                    <a:xfrm rot="20640000">
                      <a:off x="2381400" y="35906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86"/>
                  <p:cNvGrpSpPr/>
                  <p:nvPr/>
                </p:nvGrpSpPr>
                <p:grpSpPr>
                  <a:xfrm>
                    <a:off x="2374920" y="3557520"/>
                    <a:ext cx="61200" cy="30600"/>
                    <a:chOff x="2374920" y="3557520"/>
                    <a:chExt cx="61200" cy="30600"/>
                  </a:xfrm>
                </p:grpSpPr>
                <p:sp>
                  <p:nvSpPr>
                    <p:cNvPr id="214" name="Rectangle 87"/>
                    <p:cNvSpPr/>
                    <p:nvPr/>
                  </p:nvSpPr>
                  <p:spPr>
                    <a:xfrm rot="20640000">
                      <a:off x="2377800" y="3565080"/>
                      <a:ext cx="572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Oval 88"/>
                    <p:cNvSpPr/>
                    <p:nvPr/>
                  </p:nvSpPr>
                  <p:spPr>
                    <a:xfrm rot="20640000">
                      <a:off x="2376360" y="3573360"/>
                      <a:ext cx="1296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6" name="Freeform 89"/>
                <p:cNvSpPr/>
                <p:nvPr/>
              </p:nvSpPr>
              <p:spPr>
                <a:xfrm>
                  <a:off x="2344680" y="3222720"/>
                  <a:ext cx="1204920" cy="36648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90"/>
                <p:cNvSpPr/>
                <p:nvPr/>
              </p:nvSpPr>
              <p:spPr>
                <a:xfrm>
                  <a:off x="2811600" y="3287880"/>
                  <a:ext cx="280800" cy="19188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91"/>
                <p:cNvGrpSpPr/>
                <p:nvPr/>
              </p:nvGrpSpPr>
              <p:grpSpPr>
                <a:xfrm>
                  <a:off x="2613600" y="3334680"/>
                  <a:ext cx="431280" cy="133920"/>
                  <a:chOff x="2613600" y="3334680"/>
                  <a:chExt cx="431280" cy="133920"/>
                </a:xfrm>
              </p:grpSpPr>
              <p:sp>
                <p:nvSpPr>
                  <p:cNvPr id="219" name="Oval 92"/>
                  <p:cNvSpPr/>
                  <p:nvPr/>
                </p:nvSpPr>
                <p:spPr>
                  <a:xfrm rot="20640000">
                    <a:off x="2614680" y="3338640"/>
                    <a:ext cx="31680" cy="126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93"/>
                  <p:cNvSpPr/>
                  <p:nvPr/>
                </p:nvSpPr>
                <p:spPr>
                  <a:xfrm rot="20640000">
                    <a:off x="2622600" y="334944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1" name="Group 94"/>
                  <p:cNvGrpSpPr/>
                  <p:nvPr/>
                </p:nvGrpSpPr>
                <p:grpSpPr>
                  <a:xfrm>
                    <a:off x="2773440" y="3340080"/>
                    <a:ext cx="271440" cy="128520"/>
                    <a:chOff x="2773440" y="3340080"/>
                    <a:chExt cx="271440" cy="128520"/>
                  </a:xfrm>
                </p:grpSpPr>
                <p:sp>
                  <p:nvSpPr>
                    <p:cNvPr id="222" name="Freeform 95"/>
                    <p:cNvSpPr/>
                    <p:nvPr/>
                  </p:nvSpPr>
                  <p:spPr>
                    <a:xfrm>
                      <a:off x="2800440" y="337032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96"/>
                    <p:cNvSpPr/>
                    <p:nvPr/>
                  </p:nvSpPr>
                  <p:spPr>
                    <a:xfrm>
                      <a:off x="2773440" y="334008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97"/>
                    <p:cNvSpPr/>
                    <p:nvPr/>
                  </p:nvSpPr>
                  <p:spPr>
                    <a:xfrm>
                      <a:off x="2779560" y="334800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Freeform 98"/>
                    <p:cNvSpPr/>
                    <p:nvPr/>
                  </p:nvSpPr>
                  <p:spPr>
                    <a:xfrm>
                      <a:off x="2787480" y="335448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Freeform 99"/>
                    <p:cNvSpPr/>
                    <p:nvPr/>
                  </p:nvSpPr>
                  <p:spPr>
                    <a:xfrm>
                      <a:off x="2793960" y="336060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27" name="Group 100"/>
            <p:cNvGrpSpPr/>
            <p:nvPr/>
          </p:nvGrpSpPr>
          <p:grpSpPr>
            <a:xfrm>
              <a:off x="2471760" y="3228480"/>
              <a:ext cx="923760" cy="392760"/>
              <a:chOff x="2471760" y="3228480"/>
              <a:chExt cx="923760" cy="392760"/>
            </a:xfrm>
          </p:grpSpPr>
          <p:grpSp>
            <p:nvGrpSpPr>
              <p:cNvPr id="228" name="Group 101"/>
              <p:cNvGrpSpPr/>
              <p:nvPr/>
            </p:nvGrpSpPr>
            <p:grpSpPr>
              <a:xfrm>
                <a:off x="3183120" y="3228480"/>
                <a:ext cx="212400" cy="203760"/>
                <a:chOff x="3183120" y="3228480"/>
                <a:chExt cx="212400" cy="203760"/>
              </a:xfrm>
            </p:grpSpPr>
            <p:sp>
              <p:nvSpPr>
                <p:cNvPr id="229" name="Oval 102"/>
                <p:cNvSpPr/>
                <p:nvPr/>
              </p:nvSpPr>
              <p:spPr>
                <a:xfrm rot="20640000">
                  <a:off x="3201840" y="3249360"/>
                  <a:ext cx="174600" cy="161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03"/>
                <p:cNvSpPr/>
                <p:nvPr/>
              </p:nvSpPr>
              <p:spPr>
                <a:xfrm>
                  <a:off x="3297240" y="3357720"/>
                  <a:ext cx="34920" cy="4104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104"/>
                <p:cNvSpPr/>
                <p:nvPr/>
              </p:nvSpPr>
              <p:spPr>
                <a:xfrm>
                  <a:off x="3259080" y="326700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05"/>
                <p:cNvSpPr/>
                <p:nvPr/>
              </p:nvSpPr>
              <p:spPr>
                <a:xfrm>
                  <a:off x="3317760" y="3300480"/>
                  <a:ext cx="46080" cy="316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06"/>
                <p:cNvSpPr/>
                <p:nvPr/>
              </p:nvSpPr>
              <p:spPr>
                <a:xfrm>
                  <a:off x="3225960" y="3333600"/>
                  <a:ext cx="41040" cy="3204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07"/>
                <p:cNvSpPr/>
                <p:nvPr/>
              </p:nvSpPr>
              <p:spPr>
                <a:xfrm rot="20640000">
                  <a:off x="3225960" y="3271320"/>
                  <a:ext cx="125280" cy="1177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Group 108"/>
                <p:cNvGrpSpPr/>
                <p:nvPr/>
              </p:nvGrpSpPr>
              <p:grpSpPr>
                <a:xfrm>
                  <a:off x="3264840" y="3308400"/>
                  <a:ext cx="47520" cy="44280"/>
                  <a:chOff x="3264840" y="3308400"/>
                  <a:chExt cx="47520" cy="44280"/>
                </a:xfrm>
              </p:grpSpPr>
              <p:sp>
                <p:nvSpPr>
                  <p:cNvPr id="236" name="Oval 109"/>
                  <p:cNvSpPr/>
                  <p:nvPr/>
                </p:nvSpPr>
                <p:spPr>
                  <a:xfrm rot="20640000">
                    <a:off x="3268800" y="331272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Oval 110"/>
                  <p:cNvSpPr/>
                  <p:nvPr/>
                </p:nvSpPr>
                <p:spPr>
                  <a:xfrm rot="20640000">
                    <a:off x="3281400" y="332244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8" name="Group 111"/>
              <p:cNvGrpSpPr/>
              <p:nvPr/>
            </p:nvGrpSpPr>
            <p:grpSpPr>
              <a:xfrm>
                <a:off x="2471760" y="3417120"/>
                <a:ext cx="212400" cy="204120"/>
                <a:chOff x="2471760" y="3417120"/>
                <a:chExt cx="212400" cy="204120"/>
              </a:xfrm>
            </p:grpSpPr>
            <p:sp>
              <p:nvSpPr>
                <p:cNvPr id="239" name="Oval 112"/>
                <p:cNvSpPr/>
                <p:nvPr/>
              </p:nvSpPr>
              <p:spPr>
                <a:xfrm rot="20640000">
                  <a:off x="2490480" y="343800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113"/>
                <p:cNvSpPr/>
                <p:nvPr/>
              </p:nvSpPr>
              <p:spPr>
                <a:xfrm>
                  <a:off x="2585880" y="354636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114"/>
                <p:cNvSpPr/>
                <p:nvPr/>
              </p:nvSpPr>
              <p:spPr>
                <a:xfrm>
                  <a:off x="2548080" y="345600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115"/>
                <p:cNvSpPr/>
                <p:nvPr/>
              </p:nvSpPr>
              <p:spPr>
                <a:xfrm>
                  <a:off x="2606760" y="348768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116"/>
                <p:cNvSpPr/>
                <p:nvPr/>
              </p:nvSpPr>
              <p:spPr>
                <a:xfrm>
                  <a:off x="2513160" y="352116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17"/>
                <p:cNvSpPr/>
                <p:nvPr/>
              </p:nvSpPr>
              <p:spPr>
                <a:xfrm rot="20640000">
                  <a:off x="2514240" y="346032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5" name="Group 118"/>
                <p:cNvGrpSpPr/>
                <p:nvPr/>
              </p:nvGrpSpPr>
              <p:grpSpPr>
                <a:xfrm>
                  <a:off x="2553480" y="3495600"/>
                  <a:ext cx="46440" cy="43920"/>
                  <a:chOff x="2553480" y="3495600"/>
                  <a:chExt cx="46440" cy="43920"/>
                </a:xfrm>
              </p:grpSpPr>
              <p:sp>
                <p:nvSpPr>
                  <p:cNvPr id="246" name="Oval 119"/>
                  <p:cNvSpPr/>
                  <p:nvPr/>
                </p:nvSpPr>
                <p:spPr>
                  <a:xfrm rot="20640000">
                    <a:off x="2557440" y="349992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Oval 120"/>
                  <p:cNvSpPr/>
                  <p:nvPr/>
                </p:nvSpPr>
                <p:spPr>
                  <a:xfrm rot="20640000">
                    <a:off x="2570040" y="351108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48" name="Arc 121"/>
          <p:cNvSpPr/>
          <p:nvPr/>
        </p:nvSpPr>
        <p:spPr>
          <a:xfrm>
            <a:off x="6769080" y="2363760"/>
            <a:ext cx="412920" cy="1371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122"/>
          <p:cNvGraphicFramePr/>
          <p:nvPr/>
        </p:nvGraphicFramePr>
        <p:xfrm>
          <a:off x="5261040" y="3335400"/>
          <a:ext cx="248580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1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1040" y="3335400"/>
                    <a:ext cx="248580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Line 123"/>
          <p:cNvSpPr/>
          <p:nvPr/>
        </p:nvSpPr>
        <p:spPr>
          <a:xfrm>
            <a:off x="2311560" y="3962520"/>
            <a:ext cx="6108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24"/>
          <p:cNvSpPr/>
          <p:nvPr/>
        </p:nvSpPr>
        <p:spPr>
          <a:xfrm>
            <a:off x="7182000" y="3733920"/>
            <a:ext cx="577800" cy="11430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Object 125"/>
          <p:cNvGraphicFramePr/>
          <p:nvPr/>
        </p:nvGraphicFramePr>
        <p:xfrm>
          <a:off x="6172200" y="4478400"/>
          <a:ext cx="248616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4478400"/>
                    <a:ext cx="24861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Line 126"/>
          <p:cNvSpPr/>
          <p:nvPr/>
        </p:nvSpPr>
        <p:spPr>
          <a:xfrm>
            <a:off x="5778360" y="5105520"/>
            <a:ext cx="3384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27"/>
          <p:cNvSpPr/>
          <p:nvPr/>
        </p:nvSpPr>
        <p:spPr>
          <a:xfrm>
            <a:off x="2301840" y="4098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128"/>
          <p:cNvSpPr/>
          <p:nvPr/>
        </p:nvSpPr>
        <p:spPr>
          <a:xfrm>
            <a:off x="568440" y="1812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29"/>
          <p:cNvSpPr/>
          <p:nvPr/>
        </p:nvSpPr>
        <p:spPr>
          <a:xfrm>
            <a:off x="4448160" y="25750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30"/>
          <p:cNvSpPr/>
          <p:nvPr/>
        </p:nvSpPr>
        <p:spPr>
          <a:xfrm>
            <a:off x="7254720" y="2575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31"/>
          <p:cNvSpPr/>
          <p:nvPr/>
        </p:nvSpPr>
        <p:spPr>
          <a:xfrm>
            <a:off x="8079840" y="4098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32"/>
          <p:cNvSpPr/>
          <p:nvPr/>
        </p:nvSpPr>
        <p:spPr>
          <a:xfrm>
            <a:off x="825480" y="4732200"/>
            <a:ext cx="4129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fferent global axis 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34"/>
              <p:cNvSpPr txBox="1"/>
              <p:nvPr/>
            </p:nvSpPr>
            <p:spPr>
              <a:xfrm>
                <a:off x="928800" y="5181480"/>
                <a:ext cx="4911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orr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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</m:t>
                    </m:r>
                    <m:r>
                      <m:t xml:space="preserve">+</m:t>
                    </m:r>
                    <m:r>
                      <m:t xml:space="preserve">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S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Rectangle 135"/>
          <p:cNvSpPr/>
          <p:nvPr/>
        </p:nvSpPr>
        <p:spPr>
          <a:xfrm>
            <a:off x="2057400" y="2514600"/>
            <a:ext cx="72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36"/>
          <p:cNvSpPr/>
          <p:nvPr/>
        </p:nvSpPr>
        <p:spPr>
          <a:xfrm>
            <a:off x="5261040" y="409428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699273E-B649-42B2-A31A-89A3D1E3EC4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ata transfe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1066680" y="1600200"/>
            <a:ext cx="0" cy="19810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 flipH="1">
            <a:off x="1066320" y="358128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 flipV="1">
            <a:off x="1066680" y="2819520"/>
            <a:ext cx="321948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6"/>
          <p:cNvGrpSpPr/>
          <p:nvPr/>
        </p:nvGrpSpPr>
        <p:grpSpPr>
          <a:xfrm>
            <a:off x="2262240" y="2841480"/>
            <a:ext cx="1208160" cy="398880"/>
            <a:chOff x="2262240" y="2841480"/>
            <a:chExt cx="1208160" cy="398880"/>
          </a:xfrm>
        </p:grpSpPr>
        <p:grpSp>
          <p:nvGrpSpPr>
            <p:cNvPr id="271" name="Group 7"/>
            <p:cNvGrpSpPr/>
            <p:nvPr/>
          </p:nvGrpSpPr>
          <p:grpSpPr>
            <a:xfrm>
              <a:off x="2262240" y="2841480"/>
              <a:ext cx="1208160" cy="382680"/>
              <a:chOff x="2262240" y="2841480"/>
              <a:chExt cx="1208160" cy="382680"/>
            </a:xfrm>
          </p:grpSpPr>
          <p:grpSp>
            <p:nvGrpSpPr>
              <p:cNvPr id="272" name="Group 8"/>
              <p:cNvGrpSpPr/>
              <p:nvPr/>
            </p:nvGrpSpPr>
            <p:grpSpPr>
              <a:xfrm>
                <a:off x="2311560" y="2847960"/>
                <a:ext cx="811080" cy="203040"/>
                <a:chOff x="2311560" y="2847960"/>
                <a:chExt cx="811080" cy="203040"/>
              </a:xfrm>
            </p:grpSpPr>
            <p:grpSp>
              <p:nvGrpSpPr>
                <p:cNvPr id="273" name="Group 9"/>
                <p:cNvGrpSpPr/>
                <p:nvPr/>
              </p:nvGrpSpPr>
              <p:grpSpPr>
                <a:xfrm>
                  <a:off x="2581560" y="2859120"/>
                  <a:ext cx="450720" cy="123840"/>
                  <a:chOff x="2581560" y="2859120"/>
                  <a:chExt cx="450720" cy="123840"/>
                </a:xfrm>
              </p:grpSpPr>
              <p:grpSp>
                <p:nvGrpSpPr>
                  <p:cNvPr id="274" name="Group 10"/>
                  <p:cNvGrpSpPr/>
                  <p:nvPr/>
                </p:nvGrpSpPr>
                <p:grpSpPr>
                  <a:xfrm>
                    <a:off x="2673360" y="2871720"/>
                    <a:ext cx="297000" cy="82440"/>
                    <a:chOff x="2673360" y="2871720"/>
                    <a:chExt cx="297000" cy="82440"/>
                  </a:xfrm>
                </p:grpSpPr>
                <p:sp>
                  <p:nvSpPr>
                    <p:cNvPr id="275" name="Freeform 11"/>
                    <p:cNvSpPr/>
                    <p:nvPr/>
                  </p:nvSpPr>
                  <p:spPr>
                    <a:xfrm>
                      <a:off x="2673360" y="289548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Freeform 12"/>
                    <p:cNvSpPr/>
                    <p:nvPr/>
                  </p:nvSpPr>
                  <p:spPr>
                    <a:xfrm>
                      <a:off x="2914920" y="2871720"/>
                      <a:ext cx="5544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7" name="Freeform 13"/>
                  <p:cNvSpPr/>
                  <p:nvPr/>
                </p:nvSpPr>
                <p:spPr>
                  <a:xfrm>
                    <a:off x="2581560" y="285912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8" name="Freeform 14"/>
                <p:cNvSpPr/>
                <p:nvPr/>
              </p:nvSpPr>
              <p:spPr>
                <a:xfrm>
                  <a:off x="2311560" y="2847960"/>
                  <a:ext cx="811080" cy="20304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Freeform 15"/>
              <p:cNvSpPr/>
              <p:nvPr/>
            </p:nvSpPr>
            <p:spPr>
              <a:xfrm>
                <a:off x="2362320" y="286704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16"/>
              <p:cNvGrpSpPr/>
              <p:nvPr/>
            </p:nvGrpSpPr>
            <p:grpSpPr>
              <a:xfrm>
                <a:off x="2262240" y="2841480"/>
                <a:ext cx="1204920" cy="382680"/>
                <a:chOff x="2262240" y="2841480"/>
                <a:chExt cx="1204920" cy="382680"/>
              </a:xfrm>
            </p:grpSpPr>
            <p:grpSp>
              <p:nvGrpSpPr>
                <p:cNvPr id="281" name="Group 17"/>
                <p:cNvGrpSpPr/>
                <p:nvPr/>
              </p:nvGrpSpPr>
              <p:grpSpPr>
                <a:xfrm>
                  <a:off x="2271960" y="3095280"/>
                  <a:ext cx="86400" cy="128880"/>
                  <a:chOff x="2271960" y="3095280"/>
                  <a:chExt cx="86400" cy="128880"/>
                </a:xfrm>
              </p:grpSpPr>
              <p:sp>
                <p:nvSpPr>
                  <p:cNvPr id="282" name="Rectangle 18"/>
                  <p:cNvSpPr/>
                  <p:nvPr/>
                </p:nvSpPr>
                <p:spPr>
                  <a:xfrm rot="20640000">
                    <a:off x="2278080" y="312084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Rectangle 19"/>
                  <p:cNvSpPr/>
                  <p:nvPr/>
                </p:nvSpPr>
                <p:spPr>
                  <a:xfrm rot="20640000">
                    <a:off x="2273400" y="309672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Rectangle 20"/>
                  <p:cNvSpPr/>
                  <p:nvPr/>
                </p:nvSpPr>
                <p:spPr>
                  <a:xfrm rot="20640000">
                    <a:off x="2276640" y="311112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rc 21"/>
                  <p:cNvSpPr/>
                  <p:nvPr/>
                </p:nvSpPr>
                <p:spPr>
                  <a:xfrm rot="20640000">
                    <a:off x="2279880" y="3123720"/>
                    <a:ext cx="25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6" name="Group 22"/>
                  <p:cNvGrpSpPr/>
                  <p:nvPr/>
                </p:nvGrpSpPr>
                <p:grpSpPr>
                  <a:xfrm>
                    <a:off x="2295720" y="3185280"/>
                    <a:ext cx="59400" cy="32400"/>
                    <a:chOff x="2295720" y="3185280"/>
                    <a:chExt cx="59400" cy="32400"/>
                  </a:xfrm>
                </p:grpSpPr>
                <p:sp>
                  <p:nvSpPr>
                    <p:cNvPr id="287" name="Rectangle 23"/>
                    <p:cNvSpPr/>
                    <p:nvPr/>
                  </p:nvSpPr>
                  <p:spPr>
                    <a:xfrm rot="20640000">
                      <a:off x="2298600" y="3192480"/>
                      <a:ext cx="55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Oval 24"/>
                    <p:cNvSpPr/>
                    <p:nvPr/>
                  </p:nvSpPr>
                  <p:spPr>
                    <a:xfrm rot="20640000">
                      <a:off x="2297160" y="320328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25"/>
                  <p:cNvGrpSpPr/>
                  <p:nvPr/>
                </p:nvGrpSpPr>
                <p:grpSpPr>
                  <a:xfrm>
                    <a:off x="2297520" y="3196080"/>
                    <a:ext cx="60840" cy="28080"/>
                    <a:chOff x="2297520" y="3196080"/>
                    <a:chExt cx="60840" cy="28080"/>
                  </a:xfrm>
                </p:grpSpPr>
                <p:sp>
                  <p:nvSpPr>
                    <p:cNvPr id="290" name="Rectangle 26"/>
                    <p:cNvSpPr/>
                    <p:nvPr/>
                  </p:nvSpPr>
                  <p:spPr>
                    <a:xfrm rot="20640000">
                      <a:off x="2301480" y="320328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Oval 27"/>
                    <p:cNvSpPr/>
                    <p:nvPr/>
                  </p:nvSpPr>
                  <p:spPr>
                    <a:xfrm rot="20640000">
                      <a:off x="2298960" y="3209400"/>
                      <a:ext cx="1260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Group 28"/>
                  <p:cNvGrpSpPr/>
                  <p:nvPr/>
                </p:nvGrpSpPr>
                <p:grpSpPr>
                  <a:xfrm>
                    <a:off x="2292480" y="3176640"/>
                    <a:ext cx="60840" cy="30240"/>
                    <a:chOff x="2292480" y="3176640"/>
                    <a:chExt cx="60840" cy="30240"/>
                  </a:xfrm>
                </p:grpSpPr>
                <p:sp>
                  <p:nvSpPr>
                    <p:cNvPr id="293" name="Rectangle 29"/>
                    <p:cNvSpPr/>
                    <p:nvPr/>
                  </p:nvSpPr>
                  <p:spPr>
                    <a:xfrm rot="20640000">
                      <a:off x="2295360" y="3184200"/>
                      <a:ext cx="572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Oval 30"/>
                    <p:cNvSpPr/>
                    <p:nvPr/>
                  </p:nvSpPr>
                  <p:spPr>
                    <a:xfrm rot="20640000">
                      <a:off x="2293920" y="31924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95" name="Freeform 31"/>
                <p:cNvSpPr/>
                <p:nvPr/>
              </p:nvSpPr>
              <p:spPr>
                <a:xfrm>
                  <a:off x="2262240" y="2841480"/>
                  <a:ext cx="1204920" cy="36684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32"/>
                <p:cNvSpPr/>
                <p:nvPr/>
              </p:nvSpPr>
              <p:spPr>
                <a:xfrm>
                  <a:off x="2729160" y="2906640"/>
                  <a:ext cx="280800" cy="19224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Group 33"/>
                <p:cNvGrpSpPr/>
                <p:nvPr/>
              </p:nvGrpSpPr>
              <p:grpSpPr>
                <a:xfrm>
                  <a:off x="2531160" y="2953440"/>
                  <a:ext cx="431280" cy="134280"/>
                  <a:chOff x="2531160" y="2953440"/>
                  <a:chExt cx="431280" cy="134280"/>
                </a:xfrm>
              </p:grpSpPr>
              <p:sp>
                <p:nvSpPr>
                  <p:cNvPr id="298" name="Oval 34"/>
                  <p:cNvSpPr/>
                  <p:nvPr/>
                </p:nvSpPr>
                <p:spPr>
                  <a:xfrm rot="20640000">
                    <a:off x="2532240" y="2957400"/>
                    <a:ext cx="31680" cy="1296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Oval 35"/>
                  <p:cNvSpPr/>
                  <p:nvPr/>
                </p:nvSpPr>
                <p:spPr>
                  <a:xfrm rot="20640000">
                    <a:off x="2540160" y="296820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0" name="Group 36"/>
                  <p:cNvGrpSpPr/>
                  <p:nvPr/>
                </p:nvGrpSpPr>
                <p:grpSpPr>
                  <a:xfrm>
                    <a:off x="2691000" y="2959200"/>
                    <a:ext cx="271440" cy="128520"/>
                    <a:chOff x="2691000" y="2959200"/>
                    <a:chExt cx="271440" cy="128520"/>
                  </a:xfrm>
                </p:grpSpPr>
                <p:sp>
                  <p:nvSpPr>
                    <p:cNvPr id="301" name="Freeform 37"/>
                    <p:cNvSpPr/>
                    <p:nvPr/>
                  </p:nvSpPr>
                  <p:spPr>
                    <a:xfrm>
                      <a:off x="2718000" y="298944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Freeform 38"/>
                    <p:cNvSpPr/>
                    <p:nvPr/>
                  </p:nvSpPr>
                  <p:spPr>
                    <a:xfrm>
                      <a:off x="2691000" y="295920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39"/>
                    <p:cNvSpPr/>
                    <p:nvPr/>
                  </p:nvSpPr>
                  <p:spPr>
                    <a:xfrm>
                      <a:off x="2697120" y="296712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40"/>
                    <p:cNvSpPr/>
                    <p:nvPr/>
                  </p:nvSpPr>
                  <p:spPr>
                    <a:xfrm>
                      <a:off x="2705040" y="297324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Freeform 41"/>
                    <p:cNvSpPr/>
                    <p:nvPr/>
                  </p:nvSpPr>
                  <p:spPr>
                    <a:xfrm>
                      <a:off x="2711520" y="297972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06" name="Group 42"/>
            <p:cNvGrpSpPr/>
            <p:nvPr/>
          </p:nvGrpSpPr>
          <p:grpSpPr>
            <a:xfrm>
              <a:off x="2389320" y="2847240"/>
              <a:ext cx="923400" cy="393120"/>
              <a:chOff x="2389320" y="2847240"/>
              <a:chExt cx="923400" cy="393120"/>
            </a:xfrm>
          </p:grpSpPr>
          <p:grpSp>
            <p:nvGrpSpPr>
              <p:cNvPr id="307" name="Group 43"/>
              <p:cNvGrpSpPr/>
              <p:nvPr/>
            </p:nvGrpSpPr>
            <p:grpSpPr>
              <a:xfrm>
                <a:off x="3100320" y="2847240"/>
                <a:ext cx="212400" cy="204120"/>
                <a:chOff x="3100320" y="2847240"/>
                <a:chExt cx="212400" cy="204120"/>
              </a:xfrm>
            </p:grpSpPr>
            <p:sp>
              <p:nvSpPr>
                <p:cNvPr id="308" name="Oval 44"/>
                <p:cNvSpPr/>
                <p:nvPr/>
              </p:nvSpPr>
              <p:spPr>
                <a:xfrm rot="20640000">
                  <a:off x="3119040" y="2868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45"/>
                <p:cNvSpPr/>
                <p:nvPr/>
              </p:nvSpPr>
              <p:spPr>
                <a:xfrm>
                  <a:off x="3214800" y="2976480"/>
                  <a:ext cx="349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46"/>
                <p:cNvSpPr/>
                <p:nvPr/>
              </p:nvSpPr>
              <p:spPr>
                <a:xfrm>
                  <a:off x="3176640" y="288612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7"/>
                <p:cNvSpPr/>
                <p:nvPr/>
              </p:nvSpPr>
              <p:spPr>
                <a:xfrm>
                  <a:off x="3235320" y="2919240"/>
                  <a:ext cx="46080" cy="3204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48"/>
                <p:cNvSpPr/>
                <p:nvPr/>
              </p:nvSpPr>
              <p:spPr>
                <a:xfrm>
                  <a:off x="3143520" y="2952720"/>
                  <a:ext cx="41040" cy="3168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Oval 49"/>
                <p:cNvSpPr/>
                <p:nvPr/>
              </p:nvSpPr>
              <p:spPr>
                <a:xfrm rot="20640000">
                  <a:off x="3143520" y="2890440"/>
                  <a:ext cx="125280" cy="1173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4" name="Group 50"/>
                <p:cNvGrpSpPr/>
                <p:nvPr/>
              </p:nvGrpSpPr>
              <p:grpSpPr>
                <a:xfrm>
                  <a:off x="3182400" y="2927520"/>
                  <a:ext cx="47520" cy="44280"/>
                  <a:chOff x="3182400" y="2927520"/>
                  <a:chExt cx="47520" cy="44280"/>
                </a:xfrm>
              </p:grpSpPr>
              <p:sp>
                <p:nvSpPr>
                  <p:cNvPr id="315" name="Oval 51"/>
                  <p:cNvSpPr/>
                  <p:nvPr/>
                </p:nvSpPr>
                <p:spPr>
                  <a:xfrm rot="20640000">
                    <a:off x="3186360" y="293184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Oval 52"/>
                  <p:cNvSpPr/>
                  <p:nvPr/>
                </p:nvSpPr>
                <p:spPr>
                  <a:xfrm rot="20640000">
                    <a:off x="3198960" y="2941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" name="Group 53"/>
              <p:cNvGrpSpPr/>
              <p:nvPr/>
            </p:nvGrpSpPr>
            <p:grpSpPr>
              <a:xfrm>
                <a:off x="2389320" y="3036240"/>
                <a:ext cx="212400" cy="204120"/>
                <a:chOff x="2389320" y="3036240"/>
                <a:chExt cx="212400" cy="204120"/>
              </a:xfrm>
            </p:grpSpPr>
            <p:sp>
              <p:nvSpPr>
                <p:cNvPr id="318" name="Oval 54"/>
                <p:cNvSpPr/>
                <p:nvPr/>
              </p:nvSpPr>
              <p:spPr>
                <a:xfrm rot="20640000">
                  <a:off x="2408040" y="3057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55"/>
                <p:cNvSpPr/>
                <p:nvPr/>
              </p:nvSpPr>
              <p:spPr>
                <a:xfrm>
                  <a:off x="2503440" y="316548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56"/>
                <p:cNvSpPr/>
                <p:nvPr/>
              </p:nvSpPr>
              <p:spPr>
                <a:xfrm>
                  <a:off x="2465640" y="307512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57"/>
                <p:cNvSpPr/>
                <p:nvPr/>
              </p:nvSpPr>
              <p:spPr>
                <a:xfrm>
                  <a:off x="2524320" y="310680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58"/>
                <p:cNvSpPr/>
                <p:nvPr/>
              </p:nvSpPr>
              <p:spPr>
                <a:xfrm>
                  <a:off x="2430720" y="313992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9"/>
                <p:cNvSpPr/>
                <p:nvPr/>
              </p:nvSpPr>
              <p:spPr>
                <a:xfrm rot="20640000">
                  <a:off x="2431800" y="307944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Group 60"/>
                <p:cNvGrpSpPr/>
                <p:nvPr/>
              </p:nvGrpSpPr>
              <p:grpSpPr>
                <a:xfrm>
                  <a:off x="2471040" y="3114720"/>
                  <a:ext cx="46440" cy="43920"/>
                  <a:chOff x="2471040" y="3114720"/>
                  <a:chExt cx="46440" cy="43920"/>
                </a:xfrm>
              </p:grpSpPr>
              <p:sp>
                <p:nvSpPr>
                  <p:cNvPr id="325" name="Oval 61"/>
                  <p:cNvSpPr/>
                  <p:nvPr/>
                </p:nvSpPr>
                <p:spPr>
                  <a:xfrm rot="20640000">
                    <a:off x="2475000" y="311904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Oval 62"/>
                  <p:cNvSpPr/>
                  <p:nvPr/>
                </p:nvSpPr>
                <p:spPr>
                  <a:xfrm rot="20640000">
                    <a:off x="2487600" y="3130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aphicFrame>
        <p:nvGraphicFramePr>
          <p:cNvPr id="327" name="Object 63"/>
          <p:cNvGraphicFramePr/>
          <p:nvPr/>
        </p:nvGraphicFramePr>
        <p:xfrm>
          <a:off x="3710160" y="4289400"/>
          <a:ext cx="2485800" cy="6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0160" y="4289400"/>
                    <a:ext cx="248580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Line 64"/>
          <p:cNvSpPr/>
          <p:nvPr/>
        </p:nvSpPr>
        <p:spPr>
          <a:xfrm>
            <a:off x="3252960" y="4898880"/>
            <a:ext cx="3384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5"/>
          <p:cNvSpPr/>
          <p:nvPr/>
        </p:nvSpPr>
        <p:spPr>
          <a:xfrm>
            <a:off x="1585800" y="38163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66"/>
          <p:cNvSpPr/>
          <p:nvPr/>
        </p:nvSpPr>
        <p:spPr>
          <a:xfrm>
            <a:off x="433440" y="16984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reeform 67"/>
          <p:cNvSpPr/>
          <p:nvPr/>
        </p:nvSpPr>
        <p:spPr>
          <a:xfrm>
            <a:off x="3176640" y="3222720"/>
            <a:ext cx="1676520" cy="914400"/>
          </a:xfrm>
          <a:custGeom>
            <a:avLst/>
            <a:gdLst/>
            <a:ahLst/>
            <a:rect l="l" t="t" r="r" b="b"/>
            <a:pathLst>
              <a:path w="1509" h="1153">
                <a:moveTo>
                  <a:pt x="144" y="4"/>
                </a:moveTo>
                <a:lnTo>
                  <a:pt x="112" y="0"/>
                </a:lnTo>
                <a:lnTo>
                  <a:pt x="0" y="153"/>
                </a:lnTo>
                <a:lnTo>
                  <a:pt x="32" y="160"/>
                </a:lnTo>
                <a:lnTo>
                  <a:pt x="56" y="164"/>
                </a:lnTo>
                <a:lnTo>
                  <a:pt x="80" y="169"/>
                </a:lnTo>
                <a:lnTo>
                  <a:pt x="112" y="175"/>
                </a:lnTo>
                <a:lnTo>
                  <a:pt x="140" y="181"/>
                </a:lnTo>
                <a:lnTo>
                  <a:pt x="168" y="187"/>
                </a:lnTo>
                <a:lnTo>
                  <a:pt x="191" y="193"/>
                </a:lnTo>
                <a:lnTo>
                  <a:pt x="221" y="200"/>
                </a:lnTo>
                <a:lnTo>
                  <a:pt x="245" y="206"/>
                </a:lnTo>
                <a:lnTo>
                  <a:pt x="273" y="214"/>
                </a:lnTo>
                <a:lnTo>
                  <a:pt x="299" y="221"/>
                </a:lnTo>
                <a:lnTo>
                  <a:pt x="326" y="230"/>
                </a:lnTo>
                <a:lnTo>
                  <a:pt x="350" y="238"/>
                </a:lnTo>
                <a:lnTo>
                  <a:pt x="370" y="245"/>
                </a:lnTo>
                <a:lnTo>
                  <a:pt x="389" y="252"/>
                </a:lnTo>
                <a:lnTo>
                  <a:pt x="413" y="260"/>
                </a:lnTo>
                <a:lnTo>
                  <a:pt x="436" y="269"/>
                </a:lnTo>
                <a:lnTo>
                  <a:pt x="460" y="278"/>
                </a:lnTo>
                <a:lnTo>
                  <a:pt x="483" y="287"/>
                </a:lnTo>
                <a:lnTo>
                  <a:pt x="500" y="293"/>
                </a:lnTo>
                <a:lnTo>
                  <a:pt x="518" y="301"/>
                </a:lnTo>
                <a:lnTo>
                  <a:pt x="544" y="312"/>
                </a:lnTo>
                <a:lnTo>
                  <a:pt x="569" y="324"/>
                </a:lnTo>
                <a:lnTo>
                  <a:pt x="601" y="338"/>
                </a:lnTo>
                <a:lnTo>
                  <a:pt x="629" y="352"/>
                </a:lnTo>
                <a:lnTo>
                  <a:pt x="659" y="367"/>
                </a:lnTo>
                <a:lnTo>
                  <a:pt x="687" y="382"/>
                </a:lnTo>
                <a:lnTo>
                  <a:pt x="715" y="400"/>
                </a:lnTo>
                <a:lnTo>
                  <a:pt x="737" y="414"/>
                </a:lnTo>
                <a:lnTo>
                  <a:pt x="760" y="429"/>
                </a:lnTo>
                <a:lnTo>
                  <a:pt x="784" y="446"/>
                </a:lnTo>
                <a:lnTo>
                  <a:pt x="810" y="465"/>
                </a:lnTo>
                <a:lnTo>
                  <a:pt x="836" y="485"/>
                </a:lnTo>
                <a:lnTo>
                  <a:pt x="859" y="503"/>
                </a:lnTo>
                <a:lnTo>
                  <a:pt x="883" y="524"/>
                </a:lnTo>
                <a:lnTo>
                  <a:pt x="907" y="546"/>
                </a:lnTo>
                <a:lnTo>
                  <a:pt x="926" y="567"/>
                </a:lnTo>
                <a:lnTo>
                  <a:pt x="945" y="587"/>
                </a:lnTo>
                <a:lnTo>
                  <a:pt x="962" y="606"/>
                </a:lnTo>
                <a:lnTo>
                  <a:pt x="977" y="624"/>
                </a:lnTo>
                <a:lnTo>
                  <a:pt x="993" y="645"/>
                </a:lnTo>
                <a:lnTo>
                  <a:pt x="1007" y="665"/>
                </a:lnTo>
                <a:lnTo>
                  <a:pt x="1020" y="685"/>
                </a:lnTo>
                <a:lnTo>
                  <a:pt x="1033" y="707"/>
                </a:lnTo>
                <a:lnTo>
                  <a:pt x="1044" y="726"/>
                </a:lnTo>
                <a:lnTo>
                  <a:pt x="1055" y="749"/>
                </a:lnTo>
                <a:lnTo>
                  <a:pt x="1066" y="772"/>
                </a:lnTo>
                <a:lnTo>
                  <a:pt x="1076" y="795"/>
                </a:lnTo>
                <a:lnTo>
                  <a:pt x="1083" y="819"/>
                </a:lnTo>
                <a:lnTo>
                  <a:pt x="1091" y="844"/>
                </a:lnTo>
                <a:lnTo>
                  <a:pt x="1095" y="866"/>
                </a:lnTo>
                <a:lnTo>
                  <a:pt x="1098" y="889"/>
                </a:lnTo>
                <a:lnTo>
                  <a:pt x="1100" y="916"/>
                </a:lnTo>
                <a:lnTo>
                  <a:pt x="1100" y="938"/>
                </a:lnTo>
                <a:lnTo>
                  <a:pt x="1100" y="964"/>
                </a:lnTo>
                <a:lnTo>
                  <a:pt x="993" y="964"/>
                </a:lnTo>
                <a:lnTo>
                  <a:pt x="1240" y="1152"/>
                </a:lnTo>
                <a:lnTo>
                  <a:pt x="1508" y="964"/>
                </a:lnTo>
                <a:lnTo>
                  <a:pt x="1407" y="964"/>
                </a:lnTo>
                <a:lnTo>
                  <a:pt x="1407" y="935"/>
                </a:lnTo>
                <a:lnTo>
                  <a:pt x="1405" y="908"/>
                </a:lnTo>
                <a:lnTo>
                  <a:pt x="1401" y="880"/>
                </a:lnTo>
                <a:lnTo>
                  <a:pt x="1398" y="855"/>
                </a:lnTo>
                <a:lnTo>
                  <a:pt x="1394" y="831"/>
                </a:lnTo>
                <a:lnTo>
                  <a:pt x="1388" y="808"/>
                </a:lnTo>
                <a:lnTo>
                  <a:pt x="1381" y="783"/>
                </a:lnTo>
                <a:lnTo>
                  <a:pt x="1373" y="761"/>
                </a:lnTo>
                <a:lnTo>
                  <a:pt x="1366" y="740"/>
                </a:lnTo>
                <a:lnTo>
                  <a:pt x="1356" y="717"/>
                </a:lnTo>
                <a:lnTo>
                  <a:pt x="1343" y="688"/>
                </a:lnTo>
                <a:lnTo>
                  <a:pt x="1332" y="666"/>
                </a:lnTo>
                <a:lnTo>
                  <a:pt x="1319" y="644"/>
                </a:lnTo>
                <a:lnTo>
                  <a:pt x="1306" y="623"/>
                </a:lnTo>
                <a:lnTo>
                  <a:pt x="1289" y="598"/>
                </a:lnTo>
                <a:lnTo>
                  <a:pt x="1272" y="575"/>
                </a:lnTo>
                <a:lnTo>
                  <a:pt x="1255" y="554"/>
                </a:lnTo>
                <a:lnTo>
                  <a:pt x="1239" y="533"/>
                </a:lnTo>
                <a:lnTo>
                  <a:pt x="1216" y="509"/>
                </a:lnTo>
                <a:lnTo>
                  <a:pt x="1196" y="487"/>
                </a:lnTo>
                <a:lnTo>
                  <a:pt x="1175" y="466"/>
                </a:lnTo>
                <a:lnTo>
                  <a:pt x="1154" y="446"/>
                </a:lnTo>
                <a:lnTo>
                  <a:pt x="1134" y="427"/>
                </a:lnTo>
                <a:lnTo>
                  <a:pt x="1111" y="408"/>
                </a:lnTo>
                <a:lnTo>
                  <a:pt x="1089" y="390"/>
                </a:lnTo>
                <a:lnTo>
                  <a:pt x="1063" y="369"/>
                </a:lnTo>
                <a:lnTo>
                  <a:pt x="1037" y="349"/>
                </a:lnTo>
                <a:lnTo>
                  <a:pt x="1008" y="331"/>
                </a:lnTo>
                <a:lnTo>
                  <a:pt x="980" y="313"/>
                </a:lnTo>
                <a:lnTo>
                  <a:pt x="954" y="296"/>
                </a:lnTo>
                <a:lnTo>
                  <a:pt x="928" y="280"/>
                </a:lnTo>
                <a:lnTo>
                  <a:pt x="904" y="266"/>
                </a:lnTo>
                <a:lnTo>
                  <a:pt x="872" y="248"/>
                </a:lnTo>
                <a:lnTo>
                  <a:pt x="838" y="232"/>
                </a:lnTo>
                <a:lnTo>
                  <a:pt x="812" y="218"/>
                </a:lnTo>
                <a:lnTo>
                  <a:pt x="780" y="203"/>
                </a:lnTo>
                <a:lnTo>
                  <a:pt x="748" y="189"/>
                </a:lnTo>
                <a:lnTo>
                  <a:pt x="715" y="174"/>
                </a:lnTo>
                <a:lnTo>
                  <a:pt x="681" y="160"/>
                </a:lnTo>
                <a:lnTo>
                  <a:pt x="649" y="147"/>
                </a:lnTo>
                <a:lnTo>
                  <a:pt x="614" y="132"/>
                </a:lnTo>
                <a:lnTo>
                  <a:pt x="584" y="121"/>
                </a:lnTo>
                <a:lnTo>
                  <a:pt x="554" y="110"/>
                </a:lnTo>
                <a:lnTo>
                  <a:pt x="531" y="103"/>
                </a:lnTo>
                <a:lnTo>
                  <a:pt x="513" y="95"/>
                </a:lnTo>
                <a:lnTo>
                  <a:pt x="496" y="89"/>
                </a:lnTo>
                <a:lnTo>
                  <a:pt x="479" y="85"/>
                </a:lnTo>
                <a:lnTo>
                  <a:pt x="460" y="79"/>
                </a:lnTo>
                <a:lnTo>
                  <a:pt x="438" y="74"/>
                </a:lnTo>
                <a:lnTo>
                  <a:pt x="415" y="68"/>
                </a:lnTo>
                <a:lnTo>
                  <a:pt x="395" y="62"/>
                </a:lnTo>
                <a:lnTo>
                  <a:pt x="378" y="57"/>
                </a:lnTo>
                <a:lnTo>
                  <a:pt x="357" y="51"/>
                </a:lnTo>
                <a:lnTo>
                  <a:pt x="335" y="45"/>
                </a:lnTo>
                <a:lnTo>
                  <a:pt x="312" y="40"/>
                </a:lnTo>
                <a:lnTo>
                  <a:pt x="288" y="33"/>
                </a:lnTo>
                <a:lnTo>
                  <a:pt x="268" y="29"/>
                </a:lnTo>
                <a:lnTo>
                  <a:pt x="249" y="24"/>
                </a:lnTo>
                <a:lnTo>
                  <a:pt x="226" y="20"/>
                </a:lnTo>
                <a:lnTo>
                  <a:pt x="204" y="15"/>
                </a:lnTo>
                <a:lnTo>
                  <a:pt x="181" y="11"/>
                </a:lnTo>
                <a:lnTo>
                  <a:pt x="165" y="8"/>
                </a:lnTo>
                <a:lnTo>
                  <a:pt x="144" y="4"/>
                </a:lnTo>
              </a:path>
            </a:pathLst>
          </a:cu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68"/>
          <p:cNvSpPr/>
          <p:nvPr/>
        </p:nvSpPr>
        <p:spPr>
          <a:xfrm>
            <a:off x="5334120" y="1981080"/>
            <a:ext cx="3429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ha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vec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func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reframes 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9"/>
          <p:cNvSpPr/>
          <p:nvPr/>
        </p:nvSpPr>
        <p:spPr>
          <a:xfrm>
            <a:off x="914400" y="5029200"/>
            <a:ext cx="899172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rom one model (test/FE) are translated to FE mod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and get the according annotations!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4199F85-DB81-433E-8700-855FF4A56F0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/Dynamic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8321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ometric correlation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complete &amp; consistent data se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ynamic 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valuation of the agreement between test and FE analysis dat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calization of the difference between the two model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" name="Object 4"/>
          <p:cNvGraphicFramePr/>
          <p:nvPr/>
        </p:nvGraphicFramePr>
        <p:xfrm>
          <a:off x="457200" y="3733920"/>
          <a:ext cx="111276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733920"/>
                    <a:ext cx="111276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egnaposto data 4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46DDB685-660E-4CC2-AE82-64762D636CF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YNAMIC CORRELATION: Modal Assurance Criter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resses the nature of the relationship between two pair of vec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ues between 0 and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1447920" y="2286000"/>
                <a:ext cx="6792840" cy="18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</m:t>
                        </m:r>
                        <m:r>
                          <m:t xml:space="preserve">r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ψ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  <m:r>
                                              <m:t xml:space="preserve">'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b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377F429-0734-40DE-9A91-079313296B9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AC Interpret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872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ood correlation depends on the kind of structure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sponding test and FE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witch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patial aliasing !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ssing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19076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BEBDD92-E0AA-40CE-91F1-D021D67B9F3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90640" y="1600200"/>
            <a:ext cx="8321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F Correlation criteria : FRA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1028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3429000" cy="2656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29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3048120" cy="238428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030"/>
          <p:cNvSpPr/>
          <p:nvPr/>
        </p:nvSpPr>
        <p:spPr>
          <a:xfrm>
            <a:off x="4419720" y="45720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033"/>
              <p:cNvSpPr txBox="1"/>
              <p:nvPr/>
            </p:nvSpPr>
            <p:spPr>
              <a:xfrm>
                <a:off x="1066680" y="2057400"/>
                <a:ext cx="3810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RAC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97A997CF-6A9A-45DE-A050-A1707C455BF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357" name="Picture 1027" descr="SUM-BLOCKS-TRUNK02"/>
          <p:cNvPicPr/>
          <p:nvPr/>
        </p:nvPicPr>
        <p:blipFill>
          <a:blip r:embed="rId1"/>
          <a:stretch/>
        </p:blipFill>
        <p:spPr>
          <a:xfrm>
            <a:off x="762120" y="1752480"/>
            <a:ext cx="4071960" cy="3463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28" descr="TRUNK02RV-FRF-DP"/>
          <p:cNvPicPr/>
          <p:nvPr/>
        </p:nvPicPr>
        <p:blipFill>
          <a:blip r:embed="rId2"/>
          <a:stretch/>
        </p:blipFill>
        <p:spPr>
          <a:xfrm>
            <a:off x="5105520" y="1752480"/>
            <a:ext cx="3995640" cy="3400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6DBDAAC2-298D-4260-92AB-7E5A9EB2342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 the quantitative results of a modal analysis to evaluate the effects of structural chang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 can be computed for chang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roportional physical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thin the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design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influence of these changes can be computed for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odal frequenc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tructure’s 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34075F3-3712-4384-9E6B-03900E07F95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How to compute 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3"/>
              <p:cNvSpPr txBox="1"/>
              <p:nvPr/>
            </p:nvSpPr>
            <p:spPr>
              <a:xfrm>
                <a:off x="2438280" y="1676520"/>
                <a:ext cx="5181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K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</m:t>
                            </m:r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</m:t>
                        </m:r>
                        <m:r>
                          <m:t xml:space="preserve">=</m:t>
                        </m:r>
                        <m:r>
                          <m:t xml:space="preserve">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5" name="Text Box 4"/>
          <p:cNvSpPr/>
          <p:nvPr/>
        </p:nvSpPr>
        <p:spPr>
          <a:xfrm>
            <a:off x="762120" y="2209680"/>
            <a:ext cx="861048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K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M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are the assembled stiffness (mass) matrix for the current value of the design variable {p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frequency r for which sensitivity values are to be calcu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vector corresponding to the eigenfrequ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p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set of design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5"/>
              <p:cNvSpPr txBox="1"/>
              <p:nvPr/>
            </p:nvSpPr>
            <p:spPr>
              <a:xfrm>
                <a:off x="4572000" y="5029200"/>
                <a:ext cx="14479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p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Text Box 6"/>
          <p:cNvSpPr/>
          <p:nvPr/>
        </p:nvSpPr>
        <p:spPr>
          <a:xfrm>
            <a:off x="5791320" y="518148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E8CAAA7-30D9-4A76-8A51-4571F2B2EAD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Where are we ?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Text Box 1027"/>
          <p:cNvSpPr/>
          <p:nvPr/>
        </p:nvSpPr>
        <p:spPr>
          <a:xfrm>
            <a:off x="3276720" y="1905120"/>
            <a:ext cx="32763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1219320" y="2743200"/>
            <a:ext cx="19047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029"/>
          <p:cNvSpPr/>
          <p:nvPr/>
        </p:nvSpPr>
        <p:spPr>
          <a:xfrm>
            <a:off x="6858000" y="2743200"/>
            <a:ext cx="1600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030"/>
          <p:cNvSpPr/>
          <p:nvPr/>
        </p:nvSpPr>
        <p:spPr>
          <a:xfrm>
            <a:off x="3352680" y="327672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031"/>
          <p:cNvSpPr/>
          <p:nvPr/>
        </p:nvSpPr>
        <p:spPr>
          <a:xfrm>
            <a:off x="3352680" y="403848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ynamic Correlation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032"/>
          <p:cNvSpPr/>
          <p:nvPr/>
        </p:nvSpPr>
        <p:spPr>
          <a:xfrm>
            <a:off x="114300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1033"/>
          <p:cNvSpPr/>
          <p:nvPr/>
        </p:nvSpPr>
        <p:spPr>
          <a:xfrm>
            <a:off x="579132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abl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034"/>
          <p:cNvSpPr/>
          <p:nvPr/>
        </p:nvSpPr>
        <p:spPr>
          <a:xfrm>
            <a:off x="1143000" y="5715000"/>
            <a:ext cx="358128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rrection of th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035"/>
          <p:cNvSpPr/>
          <p:nvPr/>
        </p:nvSpPr>
        <p:spPr>
          <a:xfrm>
            <a:off x="4800600" y="3657600"/>
            <a:ext cx="0" cy="38088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1036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037"/>
          <p:cNvSpPr/>
          <p:nvPr/>
        </p:nvSpPr>
        <p:spPr>
          <a:xfrm>
            <a:off x="2133720" y="3581280"/>
            <a:ext cx="121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038"/>
          <p:cNvSpPr/>
          <p:nvPr/>
        </p:nvSpPr>
        <p:spPr>
          <a:xfrm>
            <a:off x="7620120" y="3124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39"/>
          <p:cNvSpPr/>
          <p:nvPr/>
        </p:nvSpPr>
        <p:spPr>
          <a:xfrm flipH="1">
            <a:off x="6476760" y="34290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1040"/>
          <p:cNvSpPr/>
          <p:nvPr/>
        </p:nvSpPr>
        <p:spPr>
          <a:xfrm flipH="1">
            <a:off x="2133360" y="20574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1041"/>
          <p:cNvSpPr/>
          <p:nvPr/>
        </p:nvSpPr>
        <p:spPr>
          <a:xfrm>
            <a:off x="21337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1042"/>
          <p:cNvSpPr/>
          <p:nvPr/>
        </p:nvSpPr>
        <p:spPr>
          <a:xfrm>
            <a:off x="6553080" y="2057400"/>
            <a:ext cx="106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1043"/>
          <p:cNvSpPr/>
          <p:nvPr/>
        </p:nvSpPr>
        <p:spPr>
          <a:xfrm>
            <a:off x="76201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044"/>
          <p:cNvSpPr/>
          <p:nvPr/>
        </p:nvSpPr>
        <p:spPr>
          <a:xfrm>
            <a:off x="4800600" y="44197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1045"/>
          <p:cNvSpPr/>
          <p:nvPr/>
        </p:nvSpPr>
        <p:spPr>
          <a:xfrm flipH="1">
            <a:off x="3886200" y="51814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1046"/>
          <p:cNvSpPr/>
          <p:nvPr/>
        </p:nvSpPr>
        <p:spPr>
          <a:xfrm>
            <a:off x="4800600" y="51814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1047"/>
          <p:cNvSpPr/>
          <p:nvPr/>
        </p:nvSpPr>
        <p:spPr>
          <a:xfrm>
            <a:off x="2209680" y="5410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1048"/>
          <p:cNvSpPr/>
          <p:nvPr/>
        </p:nvSpPr>
        <p:spPr>
          <a:xfrm flipH="1">
            <a:off x="762120" y="5943600"/>
            <a:ext cx="3808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1049"/>
          <p:cNvSpPr/>
          <p:nvPr/>
        </p:nvSpPr>
        <p:spPr>
          <a:xfrm flipV="1">
            <a:off x="762120" y="2895120"/>
            <a:ext cx="0" cy="3048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1050"/>
          <p:cNvSpPr/>
          <p:nvPr/>
        </p:nvSpPr>
        <p:spPr>
          <a:xfrm>
            <a:off x="762120" y="2895480"/>
            <a:ext cx="457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051"/>
          <p:cNvSpPr/>
          <p:nvPr/>
        </p:nvSpPr>
        <p:spPr>
          <a:xfrm>
            <a:off x="2362320" y="4191120"/>
            <a:ext cx="6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ot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052"/>
          <p:cNvSpPr/>
          <p:nvPr/>
        </p:nvSpPr>
        <p:spPr>
          <a:xfrm>
            <a:off x="7086600" y="4267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72F64B7-AD6A-4CC2-8E60-76FAA754325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AGENDA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 STRATEGY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FFC91E9-907A-40FC-955C-D7686A74535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 and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Text Box 2051"/>
          <p:cNvSpPr/>
          <p:nvPr/>
        </p:nvSpPr>
        <p:spPr>
          <a:xfrm>
            <a:off x="1371600" y="1752480"/>
            <a:ext cx="655308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nsitiv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pda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2052"/>
          <p:cNvSpPr/>
          <p:nvPr/>
        </p:nvSpPr>
        <p:spPr>
          <a:xfrm>
            <a:off x="762120" y="37339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2054" descr="sensitivity"/>
          <p:cNvPicPr/>
          <p:nvPr/>
        </p:nvPicPr>
        <p:blipFill>
          <a:blip r:embed="rId1"/>
          <a:stretch/>
        </p:blipFill>
        <p:spPr>
          <a:xfrm>
            <a:off x="5410080" y="2362320"/>
            <a:ext cx="3733920" cy="345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BDCF533-A934-4B73-9F68-089862FB4EC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blem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634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solved by minimizing the discrepancy between calculated (FE) and measured (test) respon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s discrepancy can be composed of the differenc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atural frequenc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d expressed as the norm of a vector {e} erro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32E2B8B-54DC-4C94-B06B-EFE737F29AF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cedur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p by step proced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s the results of the correlation {e} and sensitivity analysis [S]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25909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55627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Sensi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5562720" y="449568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Upd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4724280" y="3505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6477120" y="396252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9"/>
          <p:cNvSpPr/>
          <p:nvPr/>
        </p:nvSpPr>
        <p:spPr>
          <a:xfrm>
            <a:off x="4648320" y="4495680"/>
            <a:ext cx="685800" cy="381240"/>
          </a:xfrm>
          <a:prstGeom prst="leftArrow">
            <a:avLst>
              <a:gd name="adj1" fmla="val 50000"/>
              <a:gd name="adj2" fmla="val 44972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2362320" y="44197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difference minimal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1"/>
          <p:cNvSpPr/>
          <p:nvPr/>
        </p:nvSpPr>
        <p:spPr>
          <a:xfrm>
            <a:off x="3429000" y="39625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12"/>
          <p:cNvSpPr/>
          <p:nvPr/>
        </p:nvSpPr>
        <p:spPr>
          <a:xfrm>
            <a:off x="3429000" y="5181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13"/>
          <p:cNvSpPr/>
          <p:nvPr/>
        </p:nvSpPr>
        <p:spPr>
          <a:xfrm>
            <a:off x="3352680" y="5791320"/>
            <a:ext cx="533520" cy="38088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2590920" y="3962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5"/>
          <p:cNvSpPr/>
          <p:nvPr/>
        </p:nvSpPr>
        <p:spPr>
          <a:xfrm>
            <a:off x="25909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egnaposto data 1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8881183-4381-4FFD-9873-BB6C5EC452C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2" descr="SP_macorg"/>
          <p:cNvPicPr/>
          <p:nvPr/>
        </p:nvPicPr>
        <p:blipFill>
          <a:blip r:embed="rId1"/>
          <a:stretch/>
        </p:blipFill>
        <p:spPr>
          <a:xfrm>
            <a:off x="0" y="1981080"/>
            <a:ext cx="5033880" cy="3068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SP_macSPW"/>
          <p:cNvPicPr/>
          <p:nvPr/>
        </p:nvPicPr>
        <p:blipFill>
          <a:blip r:embed="rId2"/>
          <a:stretch/>
        </p:blipFill>
        <p:spPr>
          <a:xfrm>
            <a:off x="5033880" y="1981080"/>
            <a:ext cx="4872240" cy="3140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849240" y="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Comparison of MAC matrices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600"/>
            </a:b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: before and after model updating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82548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40080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B067704-16A1-435F-A2A5-8126F82D185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INTRODUCTION : WHY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217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RELATION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ison between model results and physical struc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 = FE / SEA / MBS /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cal structure = modes, FRFs,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CORRELATION /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from accuracy / errors in prev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ing models for use in troubleshoo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OUT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the tools is eas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preting the results needs experien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2CEC9B2-C66F-47E2-9125-B2CBE4BBA80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8699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STRATEG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1B6BDA3-BD07-4545-B8DD-F0C491C8B4A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Software…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38080" y="1600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ws you  t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ami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pa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rrel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wo sets of data and to obtain a qualitative assessment of the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352680" y="3581280"/>
            <a:ext cx="274320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st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est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ESSION FI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3276720" y="43434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5410080" y="43434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1" descr="DSC01343"/>
          <p:cNvPicPr/>
          <p:nvPr/>
        </p:nvPicPr>
        <p:blipFill>
          <a:blip r:embed="rId1"/>
          <a:srcRect l="18919" t="0" r="29730" b="48650"/>
          <a:stretch/>
        </p:blipFill>
        <p:spPr>
          <a:xfrm>
            <a:off x="7772400" y="22860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trunk-fe-link"/>
          <p:cNvPicPr/>
          <p:nvPr/>
        </p:nvPicPr>
        <p:blipFill>
          <a:blip r:embed="rId2"/>
          <a:stretch/>
        </p:blipFill>
        <p:spPr>
          <a:xfrm>
            <a:off x="380880" y="3200400"/>
            <a:ext cx="2814840" cy="2608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runk-test"/>
          <p:cNvPicPr/>
          <p:nvPr/>
        </p:nvPicPr>
        <p:blipFill>
          <a:blip r:embed="rId3"/>
          <a:stretch/>
        </p:blipFill>
        <p:spPr>
          <a:xfrm>
            <a:off x="6248520" y="3200400"/>
            <a:ext cx="2895480" cy="254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714981C-D74B-4AFB-8877-8A64085F537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test mode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066680" y="1676520"/>
            <a:ext cx="83822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my FE model a good representation of the real mode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f it’s not the case, how can I improve it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2" descr="trunk-fe-link"/>
          <p:cNvPicPr/>
          <p:nvPr/>
        </p:nvPicPr>
        <p:blipFill>
          <a:blip r:embed="rId1"/>
          <a:stretch/>
        </p:blipFill>
        <p:spPr>
          <a:xfrm>
            <a:off x="1066680" y="2895480"/>
            <a:ext cx="3048120" cy="28242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3"/>
          <p:cNvSpPr/>
          <p:nvPr/>
        </p:nvSpPr>
        <p:spPr>
          <a:xfrm rot="1635000">
            <a:off x="4495320" y="3962520"/>
            <a:ext cx="1600200" cy="533160"/>
          </a:xfrm>
          <a:prstGeom prst="rightArrow">
            <a:avLst>
              <a:gd name="adj1" fmla="val 50000"/>
              <a:gd name="adj2" fmla="val 75034"/>
            </a:avLst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5562720" y="5105520"/>
            <a:ext cx="4038480" cy="7617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yes, use the model without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3BCE700A-3114-4820-99C5-F6CC192A411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4" name="Group 36"/>
          <p:cNvGrpSpPr/>
          <p:nvPr/>
        </p:nvGrpSpPr>
        <p:grpSpPr>
          <a:xfrm>
            <a:off x="3581280" y="4114800"/>
            <a:ext cx="3124440" cy="703800"/>
            <a:chOff x="3581280" y="4114800"/>
            <a:chExt cx="3124440" cy="703800"/>
          </a:xfrm>
        </p:grpSpPr>
        <p:sp>
          <p:nvSpPr>
            <p:cNvPr id="75" name="Text Box 7"/>
            <p:cNvSpPr/>
            <p:nvPr/>
          </p:nvSpPr>
          <p:spPr>
            <a:xfrm>
              <a:off x="3581280" y="4419720"/>
              <a:ext cx="312444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ynamic Correlation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Line 11"/>
            <p:cNvSpPr/>
            <p:nvPr/>
          </p:nvSpPr>
          <p:spPr>
            <a:xfrm>
              <a:off x="5029200" y="4114800"/>
              <a:ext cx="0" cy="304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Group 34"/>
          <p:cNvGrpSpPr/>
          <p:nvPr/>
        </p:nvGrpSpPr>
        <p:grpSpPr>
          <a:xfrm>
            <a:off x="2438280" y="3657600"/>
            <a:ext cx="5334120" cy="398880"/>
            <a:chOff x="2438280" y="3657600"/>
            <a:chExt cx="5334120" cy="398880"/>
          </a:xfrm>
        </p:grpSpPr>
        <p:sp>
          <p:nvSpPr>
            <p:cNvPr id="78" name="Text Box 6"/>
            <p:cNvSpPr/>
            <p:nvPr/>
          </p:nvSpPr>
          <p:spPr>
            <a:xfrm>
              <a:off x="3505320" y="3657600"/>
              <a:ext cx="31240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eometric Correl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Line 12"/>
            <p:cNvSpPr/>
            <p:nvPr/>
          </p:nvSpPr>
          <p:spPr>
            <a:xfrm>
              <a:off x="243828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Line 13"/>
            <p:cNvSpPr/>
            <p:nvPr/>
          </p:nvSpPr>
          <p:spPr>
            <a:xfrm>
              <a:off x="2438280" y="3886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Line 14"/>
            <p:cNvSpPr/>
            <p:nvPr/>
          </p:nvSpPr>
          <p:spPr>
            <a:xfrm>
              <a:off x="777240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Line 15"/>
            <p:cNvSpPr/>
            <p:nvPr/>
          </p:nvSpPr>
          <p:spPr>
            <a:xfrm flipH="1">
              <a:off x="6629040" y="388620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Group 41"/>
          <p:cNvGrpSpPr/>
          <p:nvPr/>
        </p:nvGrpSpPr>
        <p:grpSpPr>
          <a:xfrm>
            <a:off x="1371600" y="5181480"/>
            <a:ext cx="3657600" cy="398880"/>
            <a:chOff x="1371600" y="5181480"/>
            <a:chExt cx="3657600" cy="398880"/>
          </a:xfrm>
        </p:grpSpPr>
        <p:sp>
          <p:nvSpPr>
            <p:cNvPr id="84" name="Text Box 8"/>
            <p:cNvSpPr/>
            <p:nvPr/>
          </p:nvSpPr>
          <p:spPr>
            <a:xfrm>
              <a:off x="137160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arameter Selec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 flipH="1">
              <a:off x="4114800" y="541008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Group 40"/>
          <p:cNvGrpSpPr/>
          <p:nvPr/>
        </p:nvGrpSpPr>
        <p:grpSpPr>
          <a:xfrm>
            <a:off x="5029200" y="4876920"/>
            <a:ext cx="3733920" cy="703440"/>
            <a:chOff x="5029200" y="4876920"/>
            <a:chExt cx="3733920" cy="703440"/>
          </a:xfrm>
        </p:grpSpPr>
        <p:sp>
          <p:nvSpPr>
            <p:cNvPr id="87" name="Text Box 9"/>
            <p:cNvSpPr/>
            <p:nvPr/>
          </p:nvSpPr>
          <p:spPr>
            <a:xfrm>
              <a:off x="601992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liabl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0"/>
            <p:cNvSpPr/>
            <p:nvPr/>
          </p:nvSpPr>
          <p:spPr>
            <a:xfrm>
              <a:off x="5029200" y="487692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2"/>
            <p:cNvSpPr/>
            <p:nvPr/>
          </p:nvSpPr>
          <p:spPr>
            <a:xfrm>
              <a:off x="5029200" y="5410080"/>
              <a:ext cx="9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" name="Group 38"/>
          <p:cNvGrpSpPr/>
          <p:nvPr/>
        </p:nvGrpSpPr>
        <p:grpSpPr>
          <a:xfrm>
            <a:off x="1371600" y="5638680"/>
            <a:ext cx="3581280" cy="627480"/>
            <a:chOff x="1371600" y="5638680"/>
            <a:chExt cx="3581280" cy="627480"/>
          </a:xfrm>
        </p:grpSpPr>
        <p:sp>
          <p:nvSpPr>
            <p:cNvPr id="91" name="Text Box 10"/>
            <p:cNvSpPr/>
            <p:nvPr/>
          </p:nvSpPr>
          <p:spPr>
            <a:xfrm>
              <a:off x="1371600" y="5867280"/>
              <a:ext cx="35812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rection of th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3"/>
            <p:cNvSpPr/>
            <p:nvPr/>
          </p:nvSpPr>
          <p:spPr>
            <a:xfrm>
              <a:off x="2743200" y="56386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Group 39"/>
          <p:cNvGrpSpPr/>
          <p:nvPr/>
        </p:nvGrpSpPr>
        <p:grpSpPr>
          <a:xfrm>
            <a:off x="990720" y="3429000"/>
            <a:ext cx="457200" cy="2666880"/>
            <a:chOff x="990720" y="3429000"/>
            <a:chExt cx="457200" cy="2666880"/>
          </a:xfrm>
        </p:grpSpPr>
        <p:sp>
          <p:nvSpPr>
            <p:cNvPr id="94" name="Line 24"/>
            <p:cNvSpPr/>
            <p:nvPr/>
          </p:nvSpPr>
          <p:spPr>
            <a:xfrm flipH="1">
              <a:off x="990720" y="6095880"/>
              <a:ext cx="380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 flipV="1">
              <a:off x="990720" y="3429000"/>
              <a:ext cx="0" cy="2666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990720" y="3429000"/>
              <a:ext cx="457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35"/>
          <p:cNvGrpSpPr/>
          <p:nvPr/>
        </p:nvGrpSpPr>
        <p:grpSpPr>
          <a:xfrm>
            <a:off x="2438280" y="4419720"/>
            <a:ext cx="5334120" cy="703800"/>
            <a:chOff x="2438280" y="4419720"/>
            <a:chExt cx="5334120" cy="703800"/>
          </a:xfrm>
        </p:grpSpPr>
        <p:sp>
          <p:nvSpPr>
            <p:cNvPr id="98" name="Text Box 27"/>
            <p:cNvSpPr/>
            <p:nvPr/>
          </p:nvSpPr>
          <p:spPr>
            <a:xfrm>
              <a:off x="2438280" y="441972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Not 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28"/>
            <p:cNvSpPr/>
            <p:nvPr/>
          </p:nvSpPr>
          <p:spPr>
            <a:xfrm>
              <a:off x="7086600" y="4495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47"/>
          <p:cNvGrpSpPr/>
          <p:nvPr/>
        </p:nvGrpSpPr>
        <p:grpSpPr>
          <a:xfrm>
            <a:off x="1447920" y="3247920"/>
            <a:ext cx="7238880" cy="398880"/>
            <a:chOff x="1447920" y="3247920"/>
            <a:chExt cx="7238880" cy="398880"/>
          </a:xfrm>
        </p:grpSpPr>
        <p:sp>
          <p:nvSpPr>
            <p:cNvPr id="101" name="Text Box 4"/>
            <p:cNvSpPr/>
            <p:nvPr/>
          </p:nvSpPr>
          <p:spPr>
            <a:xfrm>
              <a:off x="1447920" y="3247920"/>
              <a:ext cx="190476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5"/>
            <p:cNvSpPr/>
            <p:nvPr/>
          </p:nvSpPr>
          <p:spPr>
            <a:xfrm>
              <a:off x="7086600" y="3247920"/>
              <a:ext cx="1600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st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6"/>
          <p:cNvGrpSpPr/>
          <p:nvPr/>
        </p:nvGrpSpPr>
        <p:grpSpPr>
          <a:xfrm>
            <a:off x="457200" y="1552680"/>
            <a:ext cx="9220320" cy="1647720"/>
            <a:chOff x="457200" y="1552680"/>
            <a:chExt cx="9220320" cy="1647720"/>
          </a:xfrm>
        </p:grpSpPr>
        <p:sp>
          <p:nvSpPr>
            <p:cNvPr id="104" name="Line 16"/>
            <p:cNvSpPr/>
            <p:nvPr/>
          </p:nvSpPr>
          <p:spPr>
            <a:xfrm flipH="1">
              <a:off x="2437920" y="190512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2438280" y="1905120"/>
              <a:ext cx="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>
              <a:off x="6858000" y="198144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7772400" y="1981440"/>
              <a:ext cx="0" cy="12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8" name="Picture 42" descr="trunk-fe-link"/>
            <p:cNvPicPr/>
            <p:nvPr/>
          </p:nvPicPr>
          <p:blipFill>
            <a:blip r:embed="rId1"/>
            <a:stretch/>
          </p:blipFill>
          <p:spPr>
            <a:xfrm>
              <a:off x="457200" y="1552680"/>
              <a:ext cx="174780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3" descr="trunk-test"/>
            <p:cNvPicPr/>
            <p:nvPr/>
          </p:nvPicPr>
          <p:blipFill>
            <a:blip r:embed="rId2"/>
            <a:stretch/>
          </p:blipFill>
          <p:spPr>
            <a:xfrm>
              <a:off x="7848720" y="1552680"/>
              <a:ext cx="1828800" cy="160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45"/>
          <p:cNvGrpSpPr/>
          <p:nvPr/>
        </p:nvGrpSpPr>
        <p:grpSpPr>
          <a:xfrm>
            <a:off x="3581280" y="1752480"/>
            <a:ext cx="3276720" cy="1828800"/>
            <a:chOff x="3581280" y="1752480"/>
            <a:chExt cx="3276720" cy="1828800"/>
          </a:xfrm>
        </p:grpSpPr>
        <p:grpSp>
          <p:nvGrpSpPr>
            <p:cNvPr id="111" name="Group 32"/>
            <p:cNvGrpSpPr/>
            <p:nvPr/>
          </p:nvGrpSpPr>
          <p:grpSpPr>
            <a:xfrm>
              <a:off x="3581280" y="1752480"/>
              <a:ext cx="3276720" cy="1768680"/>
              <a:chOff x="3581280" y="1752480"/>
              <a:chExt cx="3276720" cy="1768680"/>
            </a:xfrm>
          </p:grpSpPr>
          <p:pic>
            <p:nvPicPr>
              <p:cNvPr id="112" name="Picture 31" descr="FOTO2"/>
              <p:cNvPicPr/>
              <p:nvPr/>
            </p:nvPicPr>
            <p:blipFill>
              <a:blip r:embed="rId3"/>
              <a:stretch/>
            </p:blipFill>
            <p:spPr>
              <a:xfrm>
                <a:off x="4114800" y="2286000"/>
                <a:ext cx="2133720" cy="12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3"/>
              <p:cNvSpPr/>
              <p:nvPr/>
            </p:nvSpPr>
            <p:spPr>
              <a:xfrm>
                <a:off x="3581280" y="1752480"/>
                <a:ext cx="3276720" cy="39888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Real Structur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4" name="Picture 44" descr="DSC01343"/>
            <p:cNvPicPr/>
            <p:nvPr/>
          </p:nvPicPr>
          <p:blipFill>
            <a:blip r:embed="rId4"/>
            <a:srcRect l="18919" t="0" r="29730" b="48650"/>
            <a:stretch/>
          </p:blipFill>
          <p:spPr>
            <a:xfrm>
              <a:off x="4114800" y="2133720"/>
              <a:ext cx="213372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45B73C57-74D9-40B7-9401-BE0329CC819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TEST- FE:</a:t>
            </a: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VISUA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17" name="Picture 1036" descr="rear-door-bar-geo-upd2"/>
          <p:cNvPicPr/>
          <p:nvPr/>
        </p:nvPicPr>
        <p:blipFill>
          <a:blip r:embed="rId1"/>
          <a:srcRect l="2703" t="24328" r="37838" b="13549"/>
          <a:stretch/>
        </p:blipFill>
        <p:spPr>
          <a:xfrm>
            <a:off x="762120" y="1447920"/>
            <a:ext cx="3733560" cy="301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37" descr="DSC01096"/>
          <p:cNvPicPr/>
          <p:nvPr/>
        </p:nvPicPr>
        <p:blipFill>
          <a:blip r:embed="rId2"/>
          <a:stretch/>
        </p:blipFill>
        <p:spPr>
          <a:xfrm>
            <a:off x="5029200" y="1447920"/>
            <a:ext cx="2973240" cy="3962160"/>
          </a:xfrm>
          <a:prstGeom prst="rect">
            <a:avLst/>
          </a:prstGeom>
          <a:ln w="0">
            <a:noFill/>
          </a:ln>
        </p:spPr>
      </p:pic>
      <p:sp>
        <p:nvSpPr>
          <p:cNvPr id="119" name="Oval 1038"/>
          <p:cNvSpPr/>
          <p:nvPr/>
        </p:nvSpPr>
        <p:spPr>
          <a:xfrm rot="20750400">
            <a:off x="1905120" y="2590920"/>
            <a:ext cx="914400" cy="144756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039"/>
          <p:cNvSpPr/>
          <p:nvPr/>
        </p:nvSpPr>
        <p:spPr>
          <a:xfrm rot="20444400">
            <a:off x="5867280" y="2057040"/>
            <a:ext cx="1219320" cy="259092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040"/>
          <p:cNvSpPr/>
          <p:nvPr/>
        </p:nvSpPr>
        <p:spPr>
          <a:xfrm flipV="1">
            <a:off x="2819520" y="3200400"/>
            <a:ext cx="2895480" cy="457200"/>
          </a:xfrm>
          <a:prstGeom prst="line">
            <a:avLst/>
          </a:prstGeom>
          <a:ln w="22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041"/>
          <p:cNvSpPr/>
          <p:nvPr/>
        </p:nvSpPr>
        <p:spPr>
          <a:xfrm rot="20750400">
            <a:off x="3429000" y="2437920"/>
            <a:ext cx="914400" cy="99072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042"/>
          <p:cNvSpPr/>
          <p:nvPr/>
        </p:nvSpPr>
        <p:spPr>
          <a:xfrm>
            <a:off x="762120" y="4724280"/>
            <a:ext cx="3733560" cy="685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ing parts in the origin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esh Incompatibil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217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sh Dens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ity Syste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oint/Node nam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lobal orientation in space (step 1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asurement directions (step 2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trunk-fe-link"/>
          <p:cNvPicPr/>
          <p:nvPr/>
        </p:nvPicPr>
        <p:blipFill>
          <a:blip r:embed="rId1"/>
          <a:stretch/>
        </p:blipFill>
        <p:spPr>
          <a:xfrm>
            <a:off x="6324480" y="1465200"/>
            <a:ext cx="266724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trunk-test"/>
          <p:cNvPicPr/>
          <p:nvPr/>
        </p:nvPicPr>
        <p:blipFill>
          <a:blip r:embed="rId2"/>
          <a:stretch/>
        </p:blipFill>
        <p:spPr>
          <a:xfrm>
            <a:off x="6324480" y="3827520"/>
            <a:ext cx="266724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6:19:53Z</dcterms:created>
  <dc:creator>paganini</dc:creator>
  <dc:description/>
  <cp:keywords/>
  <dc:language>en-US</dc:language>
  <cp:lastModifiedBy>Emiliano Mucchi</cp:lastModifiedBy>
  <cp:lastPrinted>2002-08-06T16:14:35Z</cp:lastPrinted>
  <dcterms:modified xsi:type="dcterms:W3CDTF">2018-11-06T11:04:02Z</dcterms:modified>
  <cp:revision>64</cp:revision>
  <dc:subject/>
  <dc:title>Where are we ?</dc:title>
</cp:coreProperties>
</file>