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C2E7-B8CA-4635-9841-0CB98F01AB7D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24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4572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5634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M in NX Nastra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1988-B8CB-4A13-BC18-7D9D2B932744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7682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LOAD1 or RLOAD2 statement that refer to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AREA   statements   (spatial definition of load   : A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2 TABLED1 statements (spectral definition C(f),D(f)   real/imag for RLOAD1,  amplitude/phase for R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election of dynamic loading with DLOAD case control statement (reference to RLOAD1 / 2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590920" y="2438280"/>
                <a:ext cx="3674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5"/>
          <p:cNvSpPr/>
          <p:nvPr/>
        </p:nvSpPr>
        <p:spPr>
          <a:xfrm>
            <a:off x="762120" y="1523880"/>
            <a:ext cx="76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ynam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3429-0B35-4EA9-AF18-E43E6F29619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 constraint is the enforcement of a prescribed displacement on a single grid point or a set of poin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wo basic types of constra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ingle point constraints (SPCs)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displacement (for example zero displacement ) to a single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ultiple point constraints (MPCs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mathematical constraint relationship between one grid point and a set of grid poi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94FA-FB16-465A-97D0-3FFB7EE1EC8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mode calculation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2422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damped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 external fo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066760" y="1633680"/>
          <a:ext cx="48787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633680"/>
                    <a:ext cx="4878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962520" y="2438280"/>
                <a:ext cx="4190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9"/>
          <p:cNvSpPr/>
          <p:nvPr/>
        </p:nvSpPr>
        <p:spPr>
          <a:xfrm>
            <a:off x="3886200" y="312408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906720" y="3449520"/>
            <a:ext cx="57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62120" y="531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anczos algorithm :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iterative procedure to determine a subset of m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609480" y="5165640"/>
            <a:ext cx="7925040" cy="0"/>
          </a:xfrm>
          <a:prstGeom prst="line">
            <a:avLst/>
          </a:prstGeom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343400" y="449568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 Box 24"/>
          <p:cNvSpPr/>
          <p:nvPr/>
        </p:nvSpPr>
        <p:spPr>
          <a:xfrm>
            <a:off x="60948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ode calculation =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tandard eigenvalue problem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200400" y="2666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99"/>
          </a:solidFill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5C2A-D19D-4092-B879-29D08761FA7F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57120" y="24638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1. direct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3360" y="4302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76160" y="28749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ving the FE matrix equation directly for the unknown nodal dof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94040" y="1720800"/>
            <a:ext cx="4708440" cy="590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649680" y="172404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9680" y="172404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792000" y="32479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edicated large model solvers that fully benefit from matrix proper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89120" y="4788000"/>
            <a:ext cx="77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rojecting the original dofs onto a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98480" y="51595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at possibly leads to some substantial model size reduc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801720" y="36003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ck-substitution of result vector {p}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55C8-E0DF-44E0-95F0-4102064186B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4194000" y="1649520"/>
            <a:ext cx="4708800" cy="590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4116240" y="163368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63368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7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1. calculating the undamped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790720" y="2662200"/>
                <a:ext cx="296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3100320" y="313704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121200" y="346248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139760" y="404028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2. projection of original dofs onto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2B38-2011-44F9-8228-AFAEE03DBFB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475000" y="2722680"/>
                <a:ext cx="373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j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5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3. construction of modal mode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29000" y="329580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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} :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x1)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vector of unknown modal participation factor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1947960" y="3697200"/>
                <a:ext cx="1082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Text Box 10"/>
          <p:cNvSpPr/>
          <p:nvPr/>
        </p:nvSpPr>
        <p:spPr>
          <a:xfrm>
            <a:off x="3711600" y="382896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diagonal matrices due to mode orthogonality !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093680" y="4695840"/>
            <a:ext cx="737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4. solving modal model for unknown modal participation factors </a:t>
            </a:r>
            <a:r>
              <a:rPr b="0" i="1" lang="en-US" sz="1800" spc="-1" strike="noStrike">
                <a:solidFill>
                  <a:srgbClr val="0c2074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096920" y="51354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5. back-substitution of result vector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2465280" y="2567160"/>
            <a:ext cx="3824280" cy="563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A805-CA3A-4C02-A073-6C74FD22C93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52280" y="112716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76160" y="16812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033560" y="2195640"/>
            <a:ext cx="775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del size reduction: from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nxn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x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582560" y="3075120"/>
            <a:ext cx="7751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=n : same accuracy is obtained with direct solution sequen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066680" y="2671920"/>
            <a:ext cx="77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uracy depends on size of modal base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579680" y="3467160"/>
            <a:ext cx="775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&lt; n : possible gain in computational effort but loss in accurac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60400" y="3941640"/>
            <a:ext cx="7142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ule of thumb’: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reasonable accuracy at some frequency 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requires a modal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base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t contains at least all modes with eigenfrequencies up to 2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897200" y="4873680"/>
            <a:ext cx="71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mainly at low frequencies </a:t>
            </a:r>
            <a:r>
              <a:rPr b="0" i="1" lang="en-US" sz="1400" spc="-1" strike="noStrike">
                <a:solidFill>
                  <a:srgbClr val="0c2074"/>
                </a:solidFill>
                <a:latin typeface="Arial"/>
              </a:rPr>
              <a:t>(low modal density)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e required number of modes can be substantially small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n the original number of degrees of freedom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1417680" y="5138640"/>
            <a:ext cx="500040" cy="266760"/>
          </a:xfrm>
          <a:prstGeom prst="rightArrow">
            <a:avLst>
              <a:gd name="adj1" fmla="val 50000"/>
              <a:gd name="adj2" fmla="val 46862"/>
            </a:avLst>
          </a:prstGeom>
          <a:solidFill>
            <a:srgbClr val="999999">
              <a:alpha val="50000"/>
            </a:srgbClr>
          </a:solidFill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transient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5"/>
              <p:cNvSpPr txBox="1"/>
              <p:nvPr/>
            </p:nvSpPr>
            <p:spPr>
              <a:xfrm>
                <a:off x="2057400" y="1676520"/>
                <a:ext cx="4876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FA79-4C00-42F4-8C6D-39871C57B094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verview of some NASTRAN solution sequences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1 : linear static analysi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3 : normal mode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7 / 110 : complex modes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8 / 111 : frequency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9 / 112 : transient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6 : non-linear statics followed by normal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200 : Design sensitivity and optimiz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B3E7-3A8F-4FB4-9235-F1FE11DDCD0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8600" y="175248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618000" y="243216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5033880" y="244620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895480" y="281952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411880" y="28195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895480" y="31114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679840" y="33908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81640" y="33926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394240" y="31258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403440" y="3606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962680" y="358308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953400" y="1127160"/>
            <a:ext cx="21142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457200" y="46483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! secondary variable approximations are less accurate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then primary variable approximations !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4EC1-5B6C-4CE9-80D7-65593D870B0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96800" y="1060560"/>
            <a:ext cx="73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re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esh generation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defin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definition of loads and boundary cond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42880" y="3322800"/>
            <a:ext cx="840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ost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5600" y="2413080"/>
            <a:ext cx="73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v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olving the (linear) set of equation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9680" y="424188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335560" y="425592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197160" y="462924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713560" y="46292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197160" y="49212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981160" y="520056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83320" y="520236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95920" y="49356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05120" y="541656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64360" y="53928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029200" y="1066680"/>
            <a:ext cx="396252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648320" y="10573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D969-812B-484B-8F02-0AF78A044F5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ow to read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a nastran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25001" t="20001" r="35626" b="8999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1031760" y="364824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discret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022400" y="186840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ideal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25520" y="1257480"/>
            <a:ext cx="78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FE modeller has a determining impact on prediction accurac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085760" y="475632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311120" y="2165400"/>
            <a:ext cx="72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underlying mathematical model   (avoid singularities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311120" y="24638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boundary condition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325520" y="29750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ppropriate material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27320" y="4033800"/>
            <a:ext cx="751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esh quality: balance between accuracy and computational load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CPU and memory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316160" y="5037120"/>
            <a:ext cx="75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solver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319040" y="273996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load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452520" y="120816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void singular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31760" y="376704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stress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031760" y="48466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displacement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07" name="Picture 6" descr="tab42"/>
          <p:cNvPicPr/>
          <p:nvPr/>
        </p:nvPicPr>
        <p:blipFill>
          <a:blip r:embed="rId1"/>
          <a:stretch/>
        </p:blipFill>
        <p:spPr>
          <a:xfrm>
            <a:off x="2560680" y="1725480"/>
            <a:ext cx="4089240" cy="185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335240" y="41734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.g. stress at sharp re-entrant corn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467000" y="5157720"/>
            <a:ext cx="75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int (in 2D) or edge (in 3D) connections cannot withstand reaction forces (e.g. spotwelds !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CAD geometry </a:t>
            </a:r>
            <a:r>
              <a:rPr b="1" i="1" lang="en-US" sz="2000" spc="-1" strike="noStrike">
                <a:solidFill>
                  <a:srgbClr val="0c2074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FE 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87320" y="1541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prior to meshing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373040" y="183996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defeatu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415880" y="217800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dealization  (e.g. shell versus soli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05080" y="24796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clean-up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16" name="Picture 8" descr="f93"/>
          <p:cNvPicPr/>
          <p:nvPr/>
        </p:nvPicPr>
        <p:blipFill>
          <a:blip r:embed="rId1"/>
          <a:stretch/>
        </p:blipFill>
        <p:spPr>
          <a:xfrm>
            <a:off x="6068880" y="1076400"/>
            <a:ext cx="2624400" cy="151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94"/>
          <p:cNvPicPr/>
          <p:nvPr/>
        </p:nvPicPr>
        <p:blipFill>
          <a:blip r:embed="rId2"/>
          <a:stretch/>
        </p:blipFill>
        <p:spPr>
          <a:xfrm>
            <a:off x="6060960" y="2658960"/>
            <a:ext cx="2835360" cy="1455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f97"/>
          <p:cNvPicPr/>
          <p:nvPr/>
        </p:nvPicPr>
        <p:blipFill>
          <a:blip r:embed="rId3"/>
          <a:stretch/>
        </p:blipFill>
        <p:spPr>
          <a:xfrm>
            <a:off x="388800" y="3886200"/>
            <a:ext cx="2827440" cy="209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f98"/>
          <p:cNvPicPr/>
          <p:nvPr/>
        </p:nvPicPr>
        <p:blipFill>
          <a:blip r:embed="rId4"/>
          <a:stretch/>
        </p:blipFill>
        <p:spPr>
          <a:xfrm>
            <a:off x="3403440" y="3740040"/>
            <a:ext cx="2862360" cy="21528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br4-4"/>
          <p:cNvPicPr/>
          <p:nvPr/>
        </p:nvPicPr>
        <p:blipFill>
          <a:blip r:embed="rId1"/>
          <a:srcRect l="0" t="0" r="0" b="6905"/>
          <a:stretch/>
        </p:blipFill>
        <p:spPr>
          <a:xfrm>
            <a:off x="4759200" y="1030320"/>
            <a:ext cx="3859200" cy="4894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34920" y="2133720"/>
            <a:ext cx="374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order p 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distortion allow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55800" y="30700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automatic mesh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946080" y="351792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morph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0" name="Picture 5" descr="f513"/>
          <p:cNvPicPr/>
          <p:nvPr/>
        </p:nvPicPr>
        <p:blipFill>
          <a:blip r:embed="rId1"/>
          <a:stretch/>
        </p:blipFill>
        <p:spPr>
          <a:xfrm>
            <a:off x="873000" y="2004840"/>
            <a:ext cx="3019680" cy="191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f514"/>
          <p:cNvPicPr/>
          <p:nvPr/>
        </p:nvPicPr>
        <p:blipFill>
          <a:blip r:embed="rId2"/>
          <a:stretch/>
        </p:blipFill>
        <p:spPr>
          <a:xfrm>
            <a:off x="4605480" y="1849320"/>
            <a:ext cx="2668320" cy="232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f515"/>
          <p:cNvPicPr/>
          <p:nvPr/>
        </p:nvPicPr>
        <p:blipFill>
          <a:blip r:embed="rId3"/>
          <a:stretch/>
        </p:blipFill>
        <p:spPr>
          <a:xfrm>
            <a:off x="3071880" y="4475160"/>
            <a:ext cx="2538360" cy="12906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81000" y="15858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avoid mesh incompatibil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6" name="Picture 5" descr="f5859"/>
          <p:cNvPicPr/>
          <p:nvPr/>
        </p:nvPicPr>
        <p:blipFill>
          <a:blip r:embed="rId1"/>
          <a:stretch/>
        </p:blipFill>
        <p:spPr>
          <a:xfrm>
            <a:off x="1066680" y="2093760"/>
            <a:ext cx="4187880" cy="125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f510"/>
          <p:cNvPicPr/>
          <p:nvPr/>
        </p:nvPicPr>
        <p:blipFill>
          <a:blip r:embed="rId2"/>
          <a:stretch/>
        </p:blipFill>
        <p:spPr>
          <a:xfrm>
            <a:off x="990720" y="3809880"/>
            <a:ext cx="4059000" cy="1371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711440" y="540396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nduce master/slave relations … no reliable stress evalu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9" name="Picture 8" descr="f511"/>
          <p:cNvPicPr/>
          <p:nvPr/>
        </p:nvPicPr>
        <p:blipFill>
          <a:blip r:embed="rId3"/>
          <a:stretch/>
        </p:blipFill>
        <p:spPr>
          <a:xfrm>
            <a:off x="6248520" y="2590920"/>
            <a:ext cx="2146320" cy="1925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f33"/>
          <p:cNvPicPr/>
          <p:nvPr/>
        </p:nvPicPr>
        <p:blipFill>
          <a:blip r:embed="rId1"/>
          <a:stretch/>
        </p:blipFill>
        <p:spPr>
          <a:xfrm>
            <a:off x="693720" y="1062000"/>
            <a:ext cx="3236760" cy="1505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f34"/>
          <p:cNvPicPr/>
          <p:nvPr/>
        </p:nvPicPr>
        <p:blipFill>
          <a:blip r:embed="rId2"/>
          <a:stretch/>
        </p:blipFill>
        <p:spPr>
          <a:xfrm>
            <a:off x="5160960" y="1092240"/>
            <a:ext cx="2987640" cy="153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f35"/>
          <p:cNvPicPr/>
          <p:nvPr/>
        </p:nvPicPr>
        <p:blipFill>
          <a:blip r:embed="rId3"/>
          <a:stretch/>
        </p:blipFill>
        <p:spPr>
          <a:xfrm>
            <a:off x="495360" y="3181320"/>
            <a:ext cx="3905280" cy="2378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f36"/>
          <p:cNvPicPr/>
          <p:nvPr/>
        </p:nvPicPr>
        <p:blipFill>
          <a:blip r:embed="rId4"/>
          <a:stretch/>
        </p:blipFill>
        <p:spPr>
          <a:xfrm>
            <a:off x="4867200" y="3178080"/>
            <a:ext cx="3905280" cy="239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66760" y="2567160"/>
            <a:ext cx="43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thin hollow plat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tensile load – constrained at left sid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278320" y="27068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first-order triangular eleme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98720" y="553392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773680" y="555480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f41"/>
          <p:cNvPicPr/>
          <p:nvPr/>
        </p:nvPicPr>
        <p:blipFill>
          <a:blip r:embed="rId1"/>
          <a:stretch/>
        </p:blipFill>
        <p:spPr>
          <a:xfrm>
            <a:off x="549360" y="1130400"/>
            <a:ext cx="3776400" cy="2263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42"/>
          <p:cNvPicPr/>
          <p:nvPr/>
        </p:nvPicPr>
        <p:blipFill>
          <a:blip r:embed="rId2"/>
          <a:stretch/>
        </p:blipFill>
        <p:spPr>
          <a:xfrm>
            <a:off x="4994280" y="1127160"/>
            <a:ext cx="3683160" cy="2214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f43"/>
          <p:cNvPicPr/>
          <p:nvPr/>
        </p:nvPicPr>
        <p:blipFill>
          <a:blip r:embed="rId3"/>
          <a:stretch/>
        </p:blipFill>
        <p:spPr>
          <a:xfrm>
            <a:off x="520560" y="3424320"/>
            <a:ext cx="3749760" cy="2289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f44"/>
          <p:cNvPicPr/>
          <p:nvPr/>
        </p:nvPicPr>
        <p:blipFill>
          <a:blip r:embed="rId4"/>
          <a:stretch/>
        </p:blipFill>
        <p:spPr>
          <a:xfrm>
            <a:off x="4997520" y="3576600"/>
            <a:ext cx="35830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1098720" y="560376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773680" y="56246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795240" y="157644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solids for bend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59" name="Picture 5" descr="f912"/>
          <p:cNvPicPr/>
          <p:nvPr/>
        </p:nvPicPr>
        <p:blipFill>
          <a:blip r:embed="rId1"/>
          <a:stretch/>
        </p:blipFill>
        <p:spPr>
          <a:xfrm>
            <a:off x="3227400" y="1371600"/>
            <a:ext cx="5470560" cy="3251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933720" y="45370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 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637320" y="452448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63" name="Picture 10" descr="f518"/>
          <p:cNvPicPr/>
          <p:nvPr/>
        </p:nvPicPr>
        <p:blipFill>
          <a:blip r:embed="rId2"/>
          <a:stretch/>
        </p:blipFill>
        <p:spPr>
          <a:xfrm>
            <a:off x="533520" y="434340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364" name="Line 12"/>
          <p:cNvSpPr/>
          <p:nvPr/>
        </p:nvSpPr>
        <p:spPr>
          <a:xfrm flipH="1">
            <a:off x="3657600" y="49528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F304-965A-49F8-9338-044DFC2D0BB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1880" y="1752480"/>
            <a:ext cx="7712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co-ordinate system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geometric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oads and 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4876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illustration for NASTRAN (NAsa SRTuctural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19051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21400" cy="68580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90400" y="10476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numerical modelling techniq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4800" y="26193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mesh generation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30360" y="49417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35040" y="41482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computer resou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38400" y="13622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hanced computational efficienc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247760" y="16286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ount for variabil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258920" y="22575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71520" y="3033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utomatio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262160" y="329256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multi-physics) compatibilit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262160" y="356868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e-use of model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319040" y="52070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xchange, sha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319040" y="5473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nterpreting, min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325520" y="56736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1281240" y="471312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290600" y="4441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rallel comput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grpSp>
        <p:nvGrpSpPr>
          <p:cNvPr id="381" name="Group 18"/>
          <p:cNvGrpSpPr/>
          <p:nvPr/>
        </p:nvGrpSpPr>
        <p:grpSpPr>
          <a:xfrm>
            <a:off x="5570640" y="1047600"/>
            <a:ext cx="3236760" cy="4496040"/>
            <a:chOff x="5570640" y="1047600"/>
            <a:chExt cx="3236760" cy="4496040"/>
          </a:xfrm>
        </p:grpSpPr>
        <p:grpSp>
          <p:nvGrpSpPr>
            <p:cNvPr id="382" name="Group 19"/>
            <p:cNvGrpSpPr/>
            <p:nvPr/>
          </p:nvGrpSpPr>
          <p:grpSpPr>
            <a:xfrm>
              <a:off x="5570640" y="1047600"/>
              <a:ext cx="3236760" cy="4496040"/>
              <a:chOff x="5570640" y="1047600"/>
              <a:chExt cx="3236760" cy="4496040"/>
            </a:xfrm>
          </p:grpSpPr>
          <p:sp>
            <p:nvSpPr>
              <p:cNvPr id="383" name="Rectangle 20"/>
              <p:cNvSpPr/>
              <p:nvPr/>
            </p:nvSpPr>
            <p:spPr>
              <a:xfrm>
                <a:off x="5570640" y="1047600"/>
                <a:ext cx="3236760" cy="44960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grpSp>
            <p:nvGrpSpPr>
              <p:cNvPr id="384" name="Group 21"/>
              <p:cNvGrpSpPr/>
              <p:nvPr/>
            </p:nvGrpSpPr>
            <p:grpSpPr>
              <a:xfrm>
                <a:off x="5666760" y="1170000"/>
                <a:ext cx="2633040" cy="4297680"/>
                <a:chOff x="5666760" y="1170000"/>
                <a:chExt cx="2633040" cy="4297680"/>
              </a:xfrm>
            </p:grpSpPr>
            <p:sp>
              <p:nvSpPr>
                <p:cNvPr id="385" name="Rectangle 22"/>
                <p:cNvSpPr/>
                <p:nvPr/>
              </p:nvSpPr>
              <p:spPr>
                <a:xfrm>
                  <a:off x="5919480" y="4910040"/>
                  <a:ext cx="82080" cy="93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3"/>
                <p:cNvSpPr/>
                <p:nvPr/>
              </p:nvSpPr>
              <p:spPr>
                <a:xfrm>
                  <a:off x="6008040" y="4861800"/>
                  <a:ext cx="942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ata transfer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24"/>
                <p:cNvSpPr/>
                <p:nvPr/>
              </p:nvSpPr>
              <p:spPr>
                <a:xfrm>
                  <a:off x="5919480" y="5117040"/>
                  <a:ext cx="82080" cy="936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5"/>
                <p:cNvSpPr/>
                <p:nvPr/>
              </p:nvSpPr>
              <p:spPr>
                <a:xfrm>
                  <a:off x="6019560" y="5076360"/>
                  <a:ext cx="70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eshing  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6"/>
                <p:cNvSpPr/>
                <p:nvPr/>
              </p:nvSpPr>
              <p:spPr>
                <a:xfrm>
                  <a:off x="5919480" y="5325840"/>
                  <a:ext cx="82080" cy="9324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27"/>
                <p:cNvSpPr/>
                <p:nvPr/>
              </p:nvSpPr>
              <p:spPr>
                <a:xfrm>
                  <a:off x="6016320" y="5284800"/>
                  <a:ext cx="669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odeling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8"/>
                <p:cNvSpPr/>
                <p:nvPr/>
              </p:nvSpPr>
              <p:spPr>
                <a:xfrm>
                  <a:off x="7260120" y="4908600"/>
                  <a:ext cx="82080" cy="9324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29"/>
                <p:cNvSpPr/>
                <p:nvPr/>
              </p:nvSpPr>
              <p:spPr>
                <a:xfrm>
                  <a:off x="7367040" y="4861800"/>
                  <a:ext cx="554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Solver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0"/>
                <p:cNvSpPr/>
                <p:nvPr/>
              </p:nvSpPr>
              <p:spPr>
                <a:xfrm>
                  <a:off x="7260120" y="5117040"/>
                  <a:ext cx="82080" cy="9180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"/>
                <p:cNvSpPr/>
                <p:nvPr/>
              </p:nvSpPr>
              <p:spPr>
                <a:xfrm>
                  <a:off x="7331400" y="5074920"/>
                  <a:ext cx="968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ost-proces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2"/>
                <p:cNvSpPr/>
                <p:nvPr/>
              </p:nvSpPr>
              <p:spPr>
                <a:xfrm>
                  <a:off x="7260120" y="5324040"/>
                  <a:ext cx="82080" cy="936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3"/>
                <p:cNvSpPr/>
                <p:nvPr/>
              </p:nvSpPr>
              <p:spPr>
                <a:xfrm>
                  <a:off x="7372080" y="5284800"/>
                  <a:ext cx="831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Refinement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4"/>
                <p:cNvSpPr/>
                <p:nvPr/>
              </p:nvSpPr>
              <p:spPr>
                <a:xfrm>
                  <a:off x="5879160" y="406260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0" y="172"/>
                      </a:moveTo>
                      <a:lnTo>
                        <a:pt x="227" y="0"/>
                      </a:lnTo>
                      <a:lnTo>
                        <a:pt x="1547" y="0"/>
                      </a:lnTo>
                      <a:lnTo>
                        <a:pt x="1320" y="172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5"/>
                <p:cNvSpPr/>
                <p:nvPr/>
              </p:nvSpPr>
              <p:spPr>
                <a:xfrm>
                  <a:off x="5879160" y="1468800"/>
                  <a:ext cx="353160" cy="2881800"/>
                </a:xfrm>
                <a:custGeom>
                  <a:avLst/>
                  <a:gdLst/>
                  <a:ahLst/>
                  <a:rect l="l" t="t" r="r" b="b"/>
                  <a:pathLst>
                    <a:path w="227" h="1718">
                      <a:moveTo>
                        <a:pt x="0" y="1718"/>
                      </a:move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227" y="1546"/>
                      </a:lnTo>
                      <a:lnTo>
                        <a:pt x="0" y="17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6"/>
                <p:cNvSpPr/>
                <p:nvPr/>
              </p:nvSpPr>
              <p:spPr>
                <a:xfrm>
                  <a:off x="6232680" y="1468800"/>
                  <a:ext cx="2055960" cy="259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7"/>
                <p:cNvSpPr/>
                <p:nvPr/>
              </p:nvSpPr>
              <p:spPr>
                <a:xfrm>
                  <a:off x="5879160" y="355788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8"/>
                <p:cNvSpPr/>
                <p:nvPr/>
              </p:nvSpPr>
              <p:spPr>
                <a:xfrm>
                  <a:off x="5879160" y="303984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879160" y="251856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879160" y="200052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879160" y="407628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1547" y="0"/>
                      </a:moveTo>
                      <a:lnTo>
                        <a:pt x="1320" y="172"/>
                      </a:ln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1547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6703200" y="4083840"/>
                  <a:ext cx="140040" cy="196200"/>
                </a:xfrm>
                <a:custGeom>
                  <a:avLst/>
                  <a:gdLst/>
                  <a:ahLst/>
                  <a:rect l="l" t="t" r="r" b="b"/>
                  <a:pathLst>
                    <a:path w="90" h="117">
                      <a:moveTo>
                        <a:pt x="0" y="117"/>
                      </a:moveTo>
                      <a:lnTo>
                        <a:pt x="0" y="68"/>
                      </a:lnTo>
                      <a:lnTo>
                        <a:pt x="90" y="0"/>
                      </a:lnTo>
                      <a:lnTo>
                        <a:pt x="90" y="48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3"/>
                <p:cNvSpPr/>
                <p:nvPr/>
              </p:nvSpPr>
              <p:spPr>
                <a:xfrm>
                  <a:off x="6292080" y="4197240"/>
                  <a:ext cx="411120" cy="828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6703200" y="3747240"/>
                  <a:ext cx="140040" cy="450000"/>
                </a:xfrm>
                <a:custGeom>
                  <a:avLst/>
                  <a:gdLst/>
                  <a:ahLst/>
                  <a:rect l="l" t="t" r="r" b="b"/>
                  <a:pathLst>
                    <a:path w="90" h="268">
                      <a:moveTo>
                        <a:pt x="0" y="268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00"/>
                      </a:lnTo>
                      <a:lnTo>
                        <a:pt x="0" y="268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5"/>
                <p:cNvSpPr/>
                <p:nvPr/>
              </p:nvSpPr>
              <p:spPr>
                <a:xfrm>
                  <a:off x="6292080" y="3863160"/>
                  <a:ext cx="411120" cy="33372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6"/>
                <p:cNvSpPr/>
                <p:nvPr/>
              </p:nvSpPr>
              <p:spPr>
                <a:xfrm>
                  <a:off x="6703200" y="3073320"/>
                  <a:ext cx="140040" cy="789840"/>
                </a:xfrm>
                <a:custGeom>
                  <a:avLst/>
                  <a:gdLst/>
                  <a:ahLst/>
                  <a:rect l="l" t="t" r="r" b="b"/>
                  <a:pathLst>
                    <a:path w="90" h="471">
                      <a:moveTo>
                        <a:pt x="0" y="471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402"/>
                      </a:lnTo>
                      <a:lnTo>
                        <a:pt x="0" y="471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7"/>
                <p:cNvSpPr/>
                <p:nvPr/>
              </p:nvSpPr>
              <p:spPr>
                <a:xfrm>
                  <a:off x="6292080" y="3189240"/>
                  <a:ext cx="411120" cy="67356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6703200" y="2530800"/>
                  <a:ext cx="140040" cy="658440"/>
                </a:xfrm>
                <a:custGeom>
                  <a:avLst/>
                  <a:gdLst/>
                  <a:ahLst/>
                  <a:rect l="l" t="t" r="r" b="b"/>
                  <a:pathLst>
                    <a:path w="90" h="392">
                      <a:moveTo>
                        <a:pt x="0" y="392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23"/>
                      </a:lnTo>
                      <a:lnTo>
                        <a:pt x="0" y="392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49"/>
                <p:cNvSpPr/>
                <p:nvPr/>
              </p:nvSpPr>
              <p:spPr>
                <a:xfrm>
                  <a:off x="6292080" y="2647080"/>
                  <a:ext cx="411120" cy="54216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6703200" y="1961280"/>
                  <a:ext cx="140040" cy="685800"/>
                </a:xfrm>
                <a:custGeom>
                  <a:avLst/>
                  <a:gdLst/>
                  <a:ahLst/>
                  <a:rect l="l" t="t" r="r" b="b"/>
                  <a:pathLst>
                    <a:path w="90" h="409">
                      <a:moveTo>
                        <a:pt x="0" y="409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40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51"/>
                <p:cNvSpPr/>
                <p:nvPr/>
              </p:nvSpPr>
              <p:spPr>
                <a:xfrm>
                  <a:off x="6292080" y="2076120"/>
                  <a:ext cx="411120" cy="57096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6703200" y="1568520"/>
                  <a:ext cx="140040" cy="507240"/>
                </a:xfrm>
                <a:custGeom>
                  <a:avLst/>
                  <a:gdLst/>
                  <a:ahLst/>
                  <a:rect l="l" t="t" r="r" b="b"/>
                  <a:pathLst>
                    <a:path w="90" h="303">
                      <a:moveTo>
                        <a:pt x="0" y="303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34"/>
                      </a:lnTo>
                      <a:lnTo>
                        <a:pt x="0" y="303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53"/>
                <p:cNvSpPr/>
                <p:nvPr/>
              </p:nvSpPr>
              <p:spPr>
                <a:xfrm>
                  <a:off x="6292080" y="1683360"/>
                  <a:ext cx="411120" cy="39240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6292080" y="1568520"/>
                  <a:ext cx="551160" cy="114480"/>
                </a:xfrm>
                <a:custGeom>
                  <a:avLst/>
                  <a:gdLst/>
                  <a:ahLst/>
                  <a:rect l="l" t="t" r="r" b="b"/>
                  <a:pathLst>
                    <a:path w="354" h="69">
                      <a:moveTo>
                        <a:pt x="264" y="69"/>
                      </a:moveTo>
                      <a:lnTo>
                        <a:pt x="354" y="0"/>
                      </a:lnTo>
                      <a:lnTo>
                        <a:pt x="93" y="0"/>
                      </a:lnTo>
                      <a:lnTo>
                        <a:pt x="0" y="69"/>
                      </a:lnTo>
                      <a:lnTo>
                        <a:pt x="264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5"/>
                <p:cNvSpPr/>
                <p:nvPr/>
              </p:nvSpPr>
              <p:spPr>
                <a:xfrm>
                  <a:off x="7733520" y="3754440"/>
                  <a:ext cx="144000" cy="525240"/>
                </a:xfrm>
                <a:custGeom>
                  <a:avLst/>
                  <a:gdLst/>
                  <a:ahLst/>
                  <a:rect l="l" t="t" r="r" b="b"/>
                  <a:pathLst>
                    <a:path w="93" h="313">
                      <a:moveTo>
                        <a:pt x="0" y="313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244"/>
                      </a:lnTo>
                      <a:lnTo>
                        <a:pt x="0" y="313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56"/>
                <p:cNvSpPr/>
                <p:nvPr/>
              </p:nvSpPr>
              <p:spPr>
                <a:xfrm>
                  <a:off x="7324560" y="3870720"/>
                  <a:ext cx="408600" cy="40932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7"/>
                <p:cNvSpPr/>
                <p:nvPr/>
              </p:nvSpPr>
              <p:spPr>
                <a:xfrm>
                  <a:off x="7733520" y="3240720"/>
                  <a:ext cx="144000" cy="630000"/>
                </a:xfrm>
                <a:custGeom>
                  <a:avLst/>
                  <a:gdLst/>
                  <a:ahLst/>
                  <a:rect l="l" t="t" r="r" b="b"/>
                  <a:pathLst>
                    <a:path w="93" h="375">
                      <a:moveTo>
                        <a:pt x="0" y="375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306"/>
                      </a:lnTo>
                      <a:lnTo>
                        <a:pt x="0" y="375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58"/>
                <p:cNvSpPr/>
                <p:nvPr/>
              </p:nvSpPr>
              <p:spPr>
                <a:xfrm>
                  <a:off x="7324560" y="3357360"/>
                  <a:ext cx="408600" cy="51336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59"/>
                <p:cNvSpPr/>
                <p:nvPr/>
              </p:nvSpPr>
              <p:spPr>
                <a:xfrm>
                  <a:off x="7733520" y="3068640"/>
                  <a:ext cx="144000" cy="288360"/>
                </a:xfrm>
                <a:custGeom>
                  <a:avLst/>
                  <a:gdLst/>
                  <a:ahLst/>
                  <a:rect l="l" t="t" r="r" b="b"/>
                  <a:pathLst>
                    <a:path w="93" h="172">
                      <a:moveTo>
                        <a:pt x="0" y="172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03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60"/>
                <p:cNvSpPr/>
                <p:nvPr/>
              </p:nvSpPr>
              <p:spPr>
                <a:xfrm>
                  <a:off x="7324560" y="3183480"/>
                  <a:ext cx="408600" cy="17352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61"/>
                <p:cNvSpPr/>
                <p:nvPr/>
              </p:nvSpPr>
              <p:spPr>
                <a:xfrm>
                  <a:off x="7733520" y="2807280"/>
                  <a:ext cx="144000" cy="375840"/>
                </a:xfrm>
                <a:custGeom>
                  <a:avLst/>
                  <a:gdLst/>
                  <a:ahLst/>
                  <a:rect l="l" t="t" r="r" b="b"/>
                  <a:pathLst>
                    <a:path w="93" h="224">
                      <a:moveTo>
                        <a:pt x="0" y="224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5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62"/>
                <p:cNvSpPr/>
                <p:nvPr/>
              </p:nvSpPr>
              <p:spPr>
                <a:xfrm>
                  <a:off x="7324560" y="2923560"/>
                  <a:ext cx="408600" cy="25992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63"/>
                <p:cNvSpPr/>
                <p:nvPr/>
              </p:nvSpPr>
              <p:spPr>
                <a:xfrm>
                  <a:off x="7733520" y="2554920"/>
                  <a:ext cx="144000" cy="368280"/>
                </a:xfrm>
                <a:custGeom>
                  <a:avLst/>
                  <a:gdLst/>
                  <a:ahLst/>
                  <a:rect l="l" t="t" r="r" b="b"/>
                  <a:pathLst>
                    <a:path w="93" h="220">
                      <a:moveTo>
                        <a:pt x="0" y="220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1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64"/>
                <p:cNvSpPr/>
                <p:nvPr/>
              </p:nvSpPr>
              <p:spPr>
                <a:xfrm>
                  <a:off x="7324560" y="2669760"/>
                  <a:ext cx="408600" cy="2538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65"/>
                <p:cNvSpPr/>
                <p:nvPr/>
              </p:nvSpPr>
              <p:spPr>
                <a:xfrm>
                  <a:off x="7733520" y="2450880"/>
                  <a:ext cx="144000" cy="218880"/>
                </a:xfrm>
                <a:custGeom>
                  <a:avLst/>
                  <a:gdLst/>
                  <a:ahLst/>
                  <a:rect l="l" t="t" r="r" b="b"/>
                  <a:pathLst>
                    <a:path w="93" h="131">
                      <a:moveTo>
                        <a:pt x="0" y="131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62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66"/>
                <p:cNvSpPr/>
                <p:nvPr/>
              </p:nvSpPr>
              <p:spPr>
                <a:xfrm>
                  <a:off x="7324560" y="2567160"/>
                  <a:ext cx="408600" cy="102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67"/>
                <p:cNvSpPr/>
                <p:nvPr/>
              </p:nvSpPr>
              <p:spPr>
                <a:xfrm>
                  <a:off x="7324560" y="2450880"/>
                  <a:ext cx="552600" cy="11628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262" y="69"/>
                      </a:moveTo>
                      <a:lnTo>
                        <a:pt x="355" y="0"/>
                      </a:lnTo>
                      <a:lnTo>
                        <a:pt x="90" y="0"/>
                      </a:lnTo>
                      <a:lnTo>
                        <a:pt x="0" y="69"/>
                      </a:lnTo>
                      <a:lnTo>
                        <a:pt x="262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68"/>
                <p:cNvSpPr/>
                <p:nvPr/>
              </p:nvSpPr>
              <p:spPr>
                <a:xfrm>
                  <a:off x="5785920" y="43149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9"/>
                <p:cNvSpPr/>
                <p:nvPr/>
              </p:nvSpPr>
              <p:spPr>
                <a:xfrm>
                  <a:off x="5729400" y="37954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0"/>
                <p:cNvSpPr/>
                <p:nvPr/>
              </p:nvSpPr>
              <p:spPr>
                <a:xfrm>
                  <a:off x="5729400" y="327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71"/>
                <p:cNvSpPr/>
                <p:nvPr/>
              </p:nvSpPr>
              <p:spPr>
                <a:xfrm>
                  <a:off x="5729400" y="27558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6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72"/>
                <p:cNvSpPr/>
                <p:nvPr/>
              </p:nvSpPr>
              <p:spPr>
                <a:xfrm>
                  <a:off x="5729400" y="2237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8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73"/>
                <p:cNvSpPr/>
                <p:nvPr/>
              </p:nvSpPr>
              <p:spPr>
                <a:xfrm>
                  <a:off x="5666760" y="171972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74"/>
                <p:cNvSpPr/>
                <p:nvPr/>
              </p:nvSpPr>
              <p:spPr>
                <a:xfrm>
                  <a:off x="6244920" y="4423680"/>
                  <a:ext cx="45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NOW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7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75"/>
                <p:cNvSpPr/>
                <p:nvPr/>
              </p:nvSpPr>
              <p:spPr>
                <a:xfrm>
                  <a:off x="7172280" y="4423680"/>
                  <a:ext cx="791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ESIRED</a:t>
                  </a: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76"/>
                <p:cNvSpPr/>
                <p:nvPr/>
              </p:nvSpPr>
              <p:spPr>
                <a:xfrm>
                  <a:off x="7328880" y="1170000"/>
                  <a:ext cx="517680" cy="1341000"/>
                </a:xfrm>
                <a:prstGeom prst="downArrow">
                  <a:avLst>
                    <a:gd name="adj1" fmla="val 50000"/>
                    <a:gd name="adj2" fmla="val 64760"/>
                  </a:avLst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Freeform 77"/>
            <p:cNvSpPr/>
            <p:nvPr/>
          </p:nvSpPr>
          <p:spPr>
            <a:xfrm rot="9612600">
              <a:off x="6492600" y="4027320"/>
              <a:ext cx="1074960" cy="518040"/>
            </a:xfrm>
            <a:custGeom>
              <a:avLst/>
              <a:gdLst/>
              <a:ahLst/>
              <a:rect l="l" t="t" r="r" b="b"/>
              <a:pathLst>
                <a:path w="2040" h="1137">
                  <a:moveTo>
                    <a:pt x="2040" y="1137"/>
                  </a:moveTo>
                  <a:cubicBezTo>
                    <a:pt x="1868" y="957"/>
                    <a:pt x="1349" y="110"/>
                    <a:pt x="1009" y="55"/>
                  </a:cubicBezTo>
                  <a:cubicBezTo>
                    <a:pt x="669" y="0"/>
                    <a:pt x="210" y="652"/>
                    <a:pt x="0" y="8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1" name="Oval 78"/>
            <p:cNvSpPr/>
            <p:nvPr/>
          </p:nvSpPr>
          <p:spPr>
            <a:xfrm>
              <a:off x="6167880" y="3692880"/>
              <a:ext cx="636480" cy="700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2" name="Oval 79"/>
            <p:cNvSpPr/>
            <p:nvPr/>
          </p:nvSpPr>
          <p:spPr>
            <a:xfrm>
              <a:off x="7191360" y="3080880"/>
              <a:ext cx="698760" cy="1346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grpSp>
          <p:nvGrpSpPr>
            <p:cNvPr id="443" name="Group 80"/>
            <p:cNvGrpSpPr/>
            <p:nvPr/>
          </p:nvGrpSpPr>
          <p:grpSpPr>
            <a:xfrm>
              <a:off x="6142320" y="3863520"/>
              <a:ext cx="718560" cy="410760"/>
              <a:chOff x="6142320" y="3863520"/>
              <a:chExt cx="718560" cy="410760"/>
            </a:xfrm>
          </p:grpSpPr>
          <p:sp>
            <p:nvSpPr>
              <p:cNvPr id="444" name="Rectangle 81"/>
              <p:cNvSpPr/>
              <p:nvPr/>
            </p:nvSpPr>
            <p:spPr>
              <a:xfrm>
                <a:off x="6282360" y="3863520"/>
                <a:ext cx="404280" cy="41076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5" name="Text Box 82"/>
              <p:cNvSpPr/>
              <p:nvPr/>
            </p:nvSpPr>
            <p:spPr>
              <a:xfrm>
                <a:off x="6142320" y="3953880"/>
                <a:ext cx="71856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lt;2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83"/>
            <p:cNvGrpSpPr/>
            <p:nvPr/>
          </p:nvGrpSpPr>
          <p:grpSpPr>
            <a:xfrm>
              <a:off x="7209360" y="3363480"/>
              <a:ext cx="717480" cy="924480"/>
              <a:chOff x="7209360" y="3363480"/>
              <a:chExt cx="717480" cy="924480"/>
            </a:xfrm>
          </p:grpSpPr>
          <p:sp>
            <p:nvSpPr>
              <p:cNvPr id="447" name="Rectangle 84"/>
              <p:cNvSpPr/>
              <p:nvPr/>
            </p:nvSpPr>
            <p:spPr>
              <a:xfrm>
                <a:off x="7349400" y="3363480"/>
                <a:ext cx="404640" cy="92448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8" name="Text Box 85"/>
              <p:cNvSpPr/>
              <p:nvPr/>
            </p:nvSpPr>
            <p:spPr>
              <a:xfrm>
                <a:off x="7209360" y="3671280"/>
                <a:ext cx="71748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gt;5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86"/>
          <p:cNvSpPr/>
          <p:nvPr/>
        </p:nvSpPr>
        <p:spPr>
          <a:xfrm>
            <a:off x="4229280" y="5529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a0c6"/>
                </a:solidFill>
                <a:latin typeface="Arial"/>
              </a:rPr>
              <a:t>increasing “value-added engineering time”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0" name="Text Box 87"/>
          <p:cNvSpPr/>
          <p:nvPr/>
        </p:nvSpPr>
        <p:spPr>
          <a:xfrm>
            <a:off x="1244520" y="19494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dvanced material model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1" name="Text Box 88"/>
          <p:cNvSpPr/>
          <p:nvPr/>
        </p:nvSpPr>
        <p:spPr>
          <a:xfrm>
            <a:off x="1268280" y="39481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2" name="Text Box 89"/>
          <p:cNvSpPr/>
          <p:nvPr/>
        </p:nvSpPr>
        <p:spPr>
          <a:xfrm>
            <a:off x="1263600" y="38005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orphing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ference boo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28600" y="263520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.C. Zienkiewicz and R.L. Taylor: ‘Finite Element Method Set’    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470395036 - Butterworth-Heinemann - 2000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314360" y="3424320"/>
            <a:ext cx="87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1 : ‘The Basi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324080" y="369108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2 : ‘Solid Mechan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324080" y="39765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3 : ‘Fluid Dynam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228600" y="1219320"/>
            <a:ext cx="87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ul M. Kurowski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Finite Element Analysis for Design Engineers’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-7600-1140-X   - SAE International - 200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4709-66AF-4AC1-ADBC-75022B4F0F8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nodes are called GRID points in NASTRA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s are defined as points in space that have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unique number (integer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certain location X,Y,Z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locating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6 Degrees Of Freedom (DOFs) to move in spa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interpreting displacement resul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7200" y="37339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      ID           CP          X             Y            Z             C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P : reference to coordinate system that was used to position the gri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X,Y,Z : co-ordinate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D : reference to coordinate system in which the input (loads, BC) and output (displacements) are define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4182-D4C7-4B58-A750-98CD23FE466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0" name="Picture 2" descr="basic_elements_TABLE"/>
          <p:cNvPicPr/>
          <p:nvPr/>
        </p:nvPicPr>
        <p:blipFill>
          <a:blip r:embed="rId1"/>
          <a:stretch/>
        </p:blipFill>
        <p:spPr>
          <a:xfrm>
            <a:off x="1133640" y="2219400"/>
            <a:ext cx="7010280" cy="3800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1310-6C7F-443B-87FF-ACE90F6ADBB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0" y="3581280"/>
            <a:ext cx="2514600" cy="1752840"/>
          </a:xfrm>
          <a:prstGeom prst="rect">
            <a:avLst/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6224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7" name="Picture 5" descr="CBAR_step3"/>
          <p:cNvPicPr/>
          <p:nvPr/>
        </p:nvPicPr>
        <p:blipFill>
          <a:blip r:embed="rId1"/>
          <a:srcRect l="0" t="0" r="0" b="3811"/>
          <a:stretch/>
        </p:blipFill>
        <p:spPr>
          <a:xfrm>
            <a:off x="5181480" y="3351240"/>
            <a:ext cx="381024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52280" y="1523880"/>
          <a:ext cx="8229600" cy="16653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3D Solid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2D Surfac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1D Lin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&lt;none&gt;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Plate/Shell Thicknes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orientation (3th point)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cross section propertie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1"/>
          <p:cNvSpPr/>
          <p:nvPr/>
        </p:nvSpPr>
        <p:spPr>
          <a:xfrm>
            <a:off x="26575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60" name="Picture 22" descr="CTETRA_conv"/>
          <p:cNvPicPr/>
          <p:nvPr/>
        </p:nvPicPr>
        <p:blipFill>
          <a:blip r:embed="rId2"/>
          <a:stretch/>
        </p:blipFill>
        <p:spPr>
          <a:xfrm>
            <a:off x="152280" y="3581280"/>
            <a:ext cx="20574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3"/>
          <p:cNvGrpSpPr/>
          <p:nvPr/>
        </p:nvGrpSpPr>
        <p:grpSpPr>
          <a:xfrm>
            <a:off x="2438280" y="3886200"/>
            <a:ext cx="2133720" cy="1142640"/>
            <a:chOff x="2438280" y="3886200"/>
            <a:chExt cx="2133720" cy="1142640"/>
          </a:xfrm>
        </p:grpSpPr>
        <p:sp>
          <p:nvSpPr>
            <p:cNvPr id="162" name="Freeform 24"/>
            <p:cNvSpPr/>
            <p:nvPr/>
          </p:nvSpPr>
          <p:spPr>
            <a:xfrm>
              <a:off x="2438280" y="3886200"/>
              <a:ext cx="2133720" cy="9144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576"/>
                  </a:moveTo>
                  <a:lnTo>
                    <a:pt x="1152" y="432"/>
                  </a:lnTo>
                  <a:lnTo>
                    <a:pt x="1344" y="0"/>
                  </a:lnTo>
                  <a:lnTo>
                    <a:pt x="240" y="144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c2074"/>
            </a:solidFill>
            <a:ln w="255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3429000" y="4267080"/>
              <a:ext cx="0" cy="380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V="1">
              <a:off x="3429000" y="47239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</p:grpSp>
      <p:sp>
        <p:nvSpPr>
          <p:cNvPr id="165" name="Text Box 27"/>
          <p:cNvSpPr/>
          <p:nvPr/>
        </p:nvSpPr>
        <p:spPr>
          <a:xfrm>
            <a:off x="3505320" y="4724280"/>
            <a:ext cx="457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c2074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6797-527D-41A5-9CB5-71F6E016EDDD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sic Material Property Definition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deformation are directly proportional to the applied loa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elast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an elastic structure returns to its original, undeformed  shape when the load is remov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homogeneous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: properties are independent of location within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isotrop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material properties do not change with the direction of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77120" y="1676520"/>
            <a:ext cx="26668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28600" y="40384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ERIAL 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1       ID           E           G             NU            RHO             ...        …      GE    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E :   Young’s modulus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 :   Shear modulus  G = 0.5 * E / (1 + NU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NU : Poisson’s ratio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RHO : Mass density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E  : structural damping coefficient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B8AB-613E-4D29-9FC2-48302C962A54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42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st FE solvers do not have an explicit notion of physical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t is the user’s responsibility to use a consistent set of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pular unit sets : SI, English Uni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f the units are not known, try to estimate them from 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grid coordinates (if you know the dimensions of the structure, you should be able to deduce the length uni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material definition (for known materials such as steel, aluminum, ….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mmon mistakes in FE models originate from wrong material values (due to wrong unit conversions) !!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7794-C0B2-4692-B15F-F262EEF764A3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42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at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(FORCE, MOMEN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tributed loads on line elements (PLOAD1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uniform pressure loads on surface (PLOAD, P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pressure load on face of 2D or 3D element (PLOAD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gravity or acceleration loads (GRAV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forced displacement (SPC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21:16:59Z</dcterms:created>
  <dc:creator>Wim-Armand Desmet</dc:creator>
  <dc:description/>
  <dc:language>en-US</dc:language>
  <cp:lastModifiedBy>Emiliano Mucchi</cp:lastModifiedBy>
  <cp:lastPrinted>2005-02-23T16:05:49Z</cp:lastPrinted>
  <dcterms:modified xsi:type="dcterms:W3CDTF">2020-02-12T16:14:07Z</dcterms:modified>
  <cp:revision>363</cp:revision>
  <dc:subject/>
  <dc:title>PowerPoint Presentation</dc:title>
</cp:coreProperties>
</file>