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93300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8928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8796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5605560" y="-360"/>
            <a:ext cx="42876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62320" y="504360"/>
            <a:ext cx="33717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17240" y="3201840"/>
            <a:ext cx="725796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6405480"/>
            <a:ext cx="428796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5605560" y="6405480"/>
            <a:ext cx="42876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E0D728-AE1B-4D14-9E39-D8F8BC7E5D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bove methodology found its way of application on a twin shaft gas turbine (ABB GT10), installed at Rhodes island, and owned by Public Power Corporation (PPC) of Gree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hronicle of the application may be summarised as foll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ing a first phase, the problem was to identify the cause of the observed EGT incr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problem was identified, corrective action was taken and it was necessary to verify the effectiveness of the interventions done on the eng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alysis performed in each case is described in the follow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ollected from the initial operation of the engine as well as those from efficiency testing were analysed for performing a diagnosis. The analysis of the data was made at two lev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First, a "common sense" thermodynamic analysis was performed, by executing mainly heat balance calc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calculations can provide non-measured quantities from the values of measured ones, and give a comparative picture of parameters characterising engine cond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of ISO 2314 correction and calculation procedures were applied for this purp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d and calculated values of various thermodynamic quantities are reduced to operation with standard day ambient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econd, a more elaborate procedure, namely the adaptive performance modelling mentioned above, has been appli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eed the inspection confirmed the initial diagnosis for the condition of the turbines. Deposits were found in both gas generator and power turbine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were due to anticorrosive additives of the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s 5 to 8 illustrate the condition of the blades. Figures 5 and 6 show the first rotor and stator of the compressor turbine, respective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have the form of a uniform coat, which has partially cracked on the rotor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of the deposit layer has been removed in the picture of the vanes, Fig. 6, to indicate the make more apparent the presence of the lay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le stator vanes of the power turbine are also covered by a more or less uniform coat of deposits, Figure 7, deposits on the rotor blades give a rougher surface, Figure 8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photos are taken using an ordinary camera, the layer of deposits is well discri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rrective action wa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wo alternative approaches were conside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irst one consisted in cleaning the blades while the later to perform geometry modif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anufacturer considers deposition as an unavoidable process, when oil is used as a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el oil treatment with additives is essential in order to increase ash melting point and thus minimise the risk of blade corrosion (Olsson et al 196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 also alleges that this process is taking place during a small period during the beginning of the operation of the engine, when this layer is formed and thereafter no considerable changes are taking pl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fore, performance recovery was suggested to be based on component re-matching, resulting from the modification of the stagger angle of power turbine stator v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possibility was foreseen on this engine, in order to remedy situations as the presen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82C7F-9F55-4E23-A237-8D6F2FD1BA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2363A-AB86-44BC-AB3B-143366AC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99FAE-543B-417B-B032-85831894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EAF37-622B-4C43-AB5F-DEB2733B31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B6D3A-32D6-4C71-82DF-46D2B9EB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EE589-C63C-4AEE-8FAC-929B68A9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1DCE7-CD2D-4944-8596-479C3FF1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E1CB8-624C-4920-BCA0-1FE3CA7F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C27A9-A39C-4697-95F3-3164D6EA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F454D-34F9-4A64-B369-9F3808EF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6D540-1B2A-40A1-85B8-22138826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E1DB8-8FDD-448B-BAD2-598C4295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8563-2D0D-4CB9-8B88-4A6AF70A5D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83808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7960" y="622944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4800" y="1641600"/>
            <a:ext cx="441972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Times New Roman"/>
              </a:rPr>
              <a:t>Gas Turbine (ABB GT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84480" y="2157480"/>
            <a:ext cx="52466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AE654-7353-47A1-8146-8FB79548BCA2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84600" y="863640"/>
          <a:ext cx="287028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4600" y="863640"/>
                    <a:ext cx="287028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539720" y="863640"/>
          <a:ext cx="304164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9720" y="863640"/>
                    <a:ext cx="30416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8D6BA-E138-4E5A-9D53-977D0A3D1B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3A107-DAC6-4DAB-9A51-0B3E4CD21D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3B71F-DF6D-4588-BA2D-F35CF0EAFF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1680" y="2133720"/>
            <a:ext cx="4246560" cy="34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989000" y="110160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Gas Generator Turbine 1</a:t>
            </a:r>
            <a:r>
              <a:rPr b="1" lang="en-GB" sz="2400" spc="-1" strike="noStrike" u="sng" baseline="30000">
                <a:solidFill>
                  <a:srgbClr val="1717ff"/>
                </a:solidFill>
                <a:uFillTx/>
                <a:latin typeface="Times New Roman"/>
              </a:rPr>
              <a:t>st</a:t>
            </a: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 rotor bl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4680" y="2131920"/>
            <a:ext cx="4219560" cy="342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C16C6-DC0A-4C00-B34B-BDDDEE832273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153" t="1812" r="0" b="2761"/>
          <a:stretch/>
        </p:blipFill>
        <p:spPr>
          <a:xfrm>
            <a:off x="312840" y="2168640"/>
            <a:ext cx="4006800" cy="304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1360440"/>
            <a:ext cx="30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Power Turbine 2nd Stator vanes detail</a:t>
            </a: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3311640"/>
            <a:ext cx="3695760" cy="234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1120" y="5734080"/>
            <a:ext cx="62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Power Turbine 2nd Stator vanes. Leading edge pressure side 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D1686-ECD4-4F3C-B7F4-03F02CB961E5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32000" y="1089000"/>
            <a:ext cx="4678560" cy="467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2C3BE-14D9-4CFA-BD03-0D68927CA4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2000" y="833400"/>
            <a:ext cx="8820000" cy="519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AD7D5-B0F9-4C3C-9CE0-21E8BFBC1D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773F3-F7A6-4B49-B9C1-E1C72F623D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8F28E-2B59-401C-B028-0464A979D3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00280" y="998640"/>
          <a:ext cx="7543800" cy="51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98640"/>
                    <a:ext cx="754380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11D79-62DD-4E5A-A79E-79180FD554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828800" y="3298680"/>
          <a:ext cx="548640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98680"/>
                    <a:ext cx="548640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28800" y="830160"/>
          <a:ext cx="5486400" cy="278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830160"/>
                    <a:ext cx="548640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CDD77-C901-4CE5-85A9-BF58D7EE21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15:13:03Z</dcterms:created>
  <dc:creator>cristof</dc:creator>
  <dc:description/>
  <dc:language>en-US</dc:language>
  <cp:lastModifiedBy>diem039</cp:lastModifiedBy>
  <dcterms:modified xsi:type="dcterms:W3CDTF">2004-10-15T06:28:15Z</dcterms:modified>
  <cp:revision>425</cp:revision>
  <dc:subject/>
  <dc:title>PowerPoint Presentation</dc:title>
</cp:coreProperties>
</file>