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media/image13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9893300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8928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8796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5605560" y="-360"/>
            <a:ext cx="428760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62320" y="504360"/>
            <a:ext cx="3371760" cy="25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17240" y="3201840"/>
            <a:ext cx="7257960" cy="303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-360" y="6405480"/>
            <a:ext cx="428796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5605560" y="6405480"/>
            <a:ext cx="4287600" cy="33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4CDBE8-910E-4E23-A4A2-853A61E6F3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bove methodology found its way of application on a twin shaft gas turbine (ABB GT10), installed at Rhodes island, and owned by Public Power Corporation (PPC) of Gree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hronicle of the application may be summarised as follow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a first phase, the problem was to identify the cause of the observed EGT increa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problem was identified, corrective action was taken and it was necessary to verify the effectiveness of the interventions done on the engi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nalysis performed in each case is described in the follow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ollected from the initial operation of the engine as well as those from efficiency testing were analysed for performing a diagnosis. The analysis of the data was made at two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First, a "common sense" thermodynamic analysis was performed, by executing mainly heat balance calcul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calculations can provide non-measured quantities from the values of measured ones, and give a comparative picture of parameters characterising engine condi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guidelines of ISO 2314 correction and calculation procedures were applied for this purp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asured and calculated values of various thermodynamic quantities are reduced to operation with standard day ambient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econd, a more elaborate procedure, namely the adaptive performance modelling mentioned above, has been appli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eed the inspection confirmed the initial diagnosis for the condition of the turbines. Deposits were found in both gas generator and power turbine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were due to anticorrosive additives of the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gures 5 to 8 illustrate the condition of the blades. Figures 5 and 6 show the first rotor and stator of the compressor turbine, respective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deposits have the form of a uniform coat, which has partially cracked on the rotor bla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 of the deposit layer has been removed in the picture of the vanes, Fig. 6, to indicate the make more apparent the presence of the lay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2320" y="504720"/>
            <a:ext cx="3371760" cy="25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317240" y="3203280"/>
            <a:ext cx="725796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le stator vanes of the power turbine are also covered by a more or less uniform coat of deposits, Figure 7, deposits on the rotor blades give a rougher surface, Figure 8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photos are taken using an ordinary camera, the layer of deposits is well discrimin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corrective action was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wo alternative approaches were conside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first one consisted in cleaning the blades while the later to perform geometry modifica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manufacturer considers deposition as an unavoidable process, when oil is used as a fu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el oil treatment with additives is essential in order to increase ash melting point and thus minimise the risk of blade corrosion (Olsson et al 1968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 also alleges that this process is taking place during a small period during the beginning of the operation of the engine, when this layer is formed and thereafter no considerable changes are taking pla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fore, performance recovery was suggested to be based on component re-matching, resulting from the modification of the stagger angle of power turbine stator va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ch possibility was foreseen on this engine, in order to remedy situations as the present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1218-404C-4465-8ABC-C00AD46DBE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AF247-546D-4A37-8897-D85CCF967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C1F31-E4FD-49AF-B94F-A4A4F279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D92B-7E37-4679-A191-BA3FED51FD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94B0F-6435-4411-A6A1-A7D0E882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17AED-504B-4EB4-B681-7BD0F64D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4057-B4AD-4B41-8EBC-749A50BE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2C9EB-B81F-42E8-A820-7FEFF7519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4278-ECD8-4F9B-BB33-77F00B59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4FBD9-A63B-467A-9CEA-BBA3FA13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4CFE-37C1-420C-905E-8B0DCC1F4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7F4AF-6360-4CD7-ACAD-316E0337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E5E4-E96B-4291-8D46-219EF3F65B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83808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07960" y="6229440"/>
            <a:ext cx="8331120" cy="0"/>
          </a:xfrm>
          <a:prstGeom prst="line">
            <a:avLst/>
          </a:prstGeom>
          <a:ln w="69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641600"/>
            <a:ext cx="4419720" cy="44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Times New Roman"/>
              </a:rPr>
              <a:t>Gas Turbine (ABB GT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84480" y="2157480"/>
            <a:ext cx="5246640" cy="320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BAFE-45EE-41BE-879B-3B1A8C35EFB4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584600" y="863640"/>
          <a:ext cx="28702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4600" y="863640"/>
                    <a:ext cx="28702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539720" y="863640"/>
          <a:ext cx="3041640" cy="530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9720" y="863640"/>
                    <a:ext cx="304164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9823C-DF19-40D0-BCFB-D7B47967D3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0E1D1-3755-4012-8896-BEDB0B05DC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1349280"/>
          <a:ext cx="8229600" cy="438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49280"/>
                    <a:ext cx="8229600" cy="43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F0DDC-6F6D-437C-BD27-FD53344E9B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1680" y="2133720"/>
            <a:ext cx="4246560" cy="342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989000" y="1101600"/>
            <a:ext cx="535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Gas Generator Turbine 1</a:t>
            </a:r>
            <a:r>
              <a:rPr b="1" lang="en-GB" sz="2400" spc="-1" strike="noStrike" u="sng" baseline="30000">
                <a:solidFill>
                  <a:srgbClr val="1717ff"/>
                </a:solidFill>
                <a:uFillTx/>
                <a:latin typeface="Times New Roman"/>
              </a:rPr>
              <a:t>st</a:t>
            </a: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 rotor bl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84680" y="2131920"/>
            <a:ext cx="4219560" cy="3427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6DD3A-E549-404E-9E2D-77E20742C365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53" t="1812" r="0" b="2761"/>
          <a:stretch/>
        </p:blipFill>
        <p:spPr>
          <a:xfrm>
            <a:off x="312840" y="2168640"/>
            <a:ext cx="4006800" cy="3041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09480" y="1360440"/>
            <a:ext cx="304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1717ff"/>
                </a:solidFill>
                <a:uFillTx/>
                <a:latin typeface="Times New Roman"/>
              </a:rPr>
              <a:t>Power Turbine 2nd Stator vanes detail</a:t>
            </a: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8320" y="3311640"/>
            <a:ext cx="3695760" cy="2342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661120" y="5734080"/>
            <a:ext cx="629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717ff"/>
                </a:solidFill>
                <a:latin typeface="Times New Roman"/>
              </a:rPr>
              <a:t>Power Turbine 2nd Stator vanes. Leading edge pressure side vie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92411-9C51-47B4-AA89-80402C3BD596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32000" y="1089000"/>
            <a:ext cx="4678560" cy="4678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B8781-DC57-4532-9890-216244E166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2000" y="833400"/>
            <a:ext cx="8820000" cy="5191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A81E-8C55-4420-BF72-6799B9504C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B48E1-D8E9-4526-8174-2237E91217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303200" y="944640"/>
          <a:ext cx="6537600" cy="519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3200" y="944640"/>
                    <a:ext cx="6537600" cy="51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D8B79-AFED-4BEC-B8CB-ED7A7B8748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800280" y="998640"/>
          <a:ext cx="7543800" cy="514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998640"/>
                    <a:ext cx="7543800" cy="51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87887-F10A-4625-8756-8F6A8F3EC5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fd7ff"/>
            </a:gs>
            <a:gs pos="50000">
              <a:srgbClr val="ffffef"/>
            </a:gs>
            <a:gs pos="100000">
              <a:srgbClr val="afd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828800" y="3298680"/>
          <a:ext cx="548640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298680"/>
                    <a:ext cx="54864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828800" y="830160"/>
          <a:ext cx="5486400" cy="278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830160"/>
                    <a:ext cx="5486400" cy="27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C1018-08A6-49B9-8289-0BD02A9ECB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15:13:03Z</dcterms:created>
  <dc:creator>cristof</dc:creator>
  <dc:description/>
  <dc:language>en-US</dc:language>
  <cp:lastModifiedBy>diem039</cp:lastModifiedBy>
  <dcterms:modified xsi:type="dcterms:W3CDTF">2004-10-15T06:28:15Z</dcterms:modified>
  <cp:revision>425</cp:revision>
  <dc:subject/>
  <dc:title>PowerPoint Presentation</dc:title>
</cp:coreProperties>
</file>