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0288588" cy="6858000"/>
  <p:notesSz cx="68580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8340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05480" y="19810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8340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05480" y="41306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6168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1306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810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925480" y="6226200"/>
            <a:ext cx="1287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D0C9-2BD4-4471-9CF7-F26C520CDA78}" type="slidenum">
              <a:rPr b="1" lang="it-IT" sz="1800" spc="-1" strike="noStrike">
                <a:solidFill>
                  <a:srgbClr val="fafd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564680" y="176040"/>
            <a:ext cx="2746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7b00e4"/>
                </a:solidFill>
                <a:latin typeface="Arial"/>
              </a:rPr>
              <a:t>ASME Turbo EXPO‘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436760" y="874800"/>
            <a:ext cx="7493040" cy="1076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 SET-UP FOR 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20160" y="3449520"/>
            <a:ext cx="6786360" cy="21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. Bettocchi        P. R. Sp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Dipartimento di Ingegneria - Università di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Via Saragat, 1 - 44100 Ferr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86640" y="733320"/>
            <a:ext cx="4752000" cy="33807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1) pressure at the compressor inl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2) press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3) pressure 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4) temperature at the compressor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5) temperature at the turbine out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6) electrical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O7) rotational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1) IGV angular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2) fuel mass flow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3) ambient temper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(I4) ambient pres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06440" y="1752480"/>
            <a:ext cx="4711680" cy="454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612240" y="690480"/>
            <a:ext cx="316080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17720" y="1814400"/>
            <a:ext cx="84722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 models obtained starting from differential and algebraic non-linear equations of physical model, linearizing and transforming them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ctual case (27 equatio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linearization around the same oper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ransformation in the z-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 reduction of the number of equations substituting the non-measured variables with the measured 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751120" y="939960"/>
            <a:ext cx="5245200" cy="43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94480" y="385920"/>
            <a:ext cx="25711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040" y="139068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446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2424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02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51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20108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15040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9972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7040" y="236232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53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52760" y="1378080"/>
            <a:ext cx="0" cy="2958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5360" y="165420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44152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7176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210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496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8480" y="167940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27800" y="167940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26440" y="167940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7720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668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956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735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2284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7260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52328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326520" y="167940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7216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421920" y="244152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19160" y="4557600"/>
            <a:ext cx="84726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first column of the matrix is equal to the l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zero-threshold fault isolation is not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7040" y="2228760"/>
            <a:ext cx="977292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46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24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02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51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0108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15040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9972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7040" y="32004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953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52760" y="22161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5360" y="24922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796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7176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496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848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2780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771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26440" y="2517840"/>
            <a:ext cx="403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7720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668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956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242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2284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7260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2328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3265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7216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421920" y="32796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436760" y="693720"/>
            <a:ext cx="7572240" cy="8708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six models in respect to  ambient temperature 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8994600" y="1930320"/>
            <a:ext cx="115920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045720" y="1930320"/>
            <a:ext cx="1056960" cy="3454560"/>
          </a:xfrm>
          <a:prstGeom prst="line">
            <a:avLst/>
          </a:prstGeom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721920" y="6189840"/>
            <a:ext cx="235152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MODELING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17720" y="158580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 lim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quires the analytical linearization of physical law equ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mplicates some operations necessary to  generate an incidence matrix allowing the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215880" y="995400"/>
            <a:ext cx="395496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17720" y="2500200"/>
            <a:ext cx="847224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90440" indent="-1904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system identification simplifies the linearization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-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ameter calculation performed starting from time series of transient operating condition data, by means of statistical methods of system iden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58960" y="3871800"/>
            <a:ext cx="84740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rders [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a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number of parameters at denominator),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b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number of parameters at numerator) and n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k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(delay)] determined from the transformation in the z-domain of the differential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736640" y="1346040"/>
            <a:ext cx="6642360" cy="20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dadada"/>
            </a:outerShdw>
          </a:effectLst>
        </p:spPr>
      </p:pic>
      <p:sp>
        <p:nvSpPr>
          <p:cNvPr id="144" name=""/>
          <p:cNvSpPr/>
          <p:nvPr/>
        </p:nvSpPr>
        <p:spPr>
          <a:xfrm>
            <a:off x="3628440" y="436680"/>
            <a:ext cx="2874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RX linea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669000" y="137484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48560" y="4270320"/>
            <a:ext cx="2979720" cy="6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rue and computed cur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041480" y="177840"/>
            <a:ext cx="5283000" cy="29718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041480" y="3149640"/>
            <a:ext cx="5295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246720" y="6189840"/>
            <a:ext cx="28162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SYSTEM IDENTIFICA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08360" y="2305080"/>
            <a:ext cx="437364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62600" y="22924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5880" y="665280"/>
            <a:ext cx="9283680" cy="118620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ximum absolute values of residuals du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 approximation obtained by adjusting the model or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ambient temperatures: 10-40 °C, load conditions: 70-100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26040" y="2500200"/>
            <a:ext cx="123624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T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(P</a:t>
            </a:r>
            <a:r>
              <a:rPr b="1" lang="it-IT" sz="24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79840" y="2576520"/>
            <a:ext cx="144180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9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2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6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2.0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1.5 x 10</a:t>
            </a:r>
            <a:r>
              <a:rPr b="1" lang="it-IT" sz="2400" spc="-1" strike="noStrike" baseline="30000">
                <a:solidFill>
                  <a:srgbClr val="00ff00"/>
                </a:solidFill>
                <a:latin typeface="Arial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67840" y="766800"/>
            <a:ext cx="25160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33560" y="1585800"/>
            <a:ext cx="82962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ire to reduce operating costs and improve overall reliability of gas turb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ossibility of diagnostic system set-up with lower and lowe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57120" y="4695840"/>
            <a:ext cx="5350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Increasing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ff00"/>
                </a:solidFill>
                <a:latin typeface="Arial"/>
              </a:rPr>
              <a:t>gas turbine fault diagno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rot="16200000">
            <a:off x="4310640" y="3816360"/>
            <a:ext cx="825480" cy="520920"/>
          </a:xfrm>
          <a:prstGeom prst="rightArrow">
            <a:avLst>
              <a:gd name="adj1" fmla="val 50000"/>
              <a:gd name="adj2" fmla="val 79240"/>
            </a:avLst>
          </a:prstGeom>
          <a:solidFill>
            <a:srgbClr val="fafd00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427840" y="690480"/>
            <a:ext cx="5529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HIGH TRESHOLD FAULT IS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0440" y="1585800"/>
            <a:ext cx="816624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Non-zero response residuals due to model approximation and absence of measurement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 +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 x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residual vector are different from zero, even without sensor fault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, due to the model response errors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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38160" y="1738440"/>
            <a:ext cx="847260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reshold must be fixed for each residual, according to the size of  maximum response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ignature degradation phenomenon in the case of small faults (the presence of thresholds may determine that one or more residuals remain under the threshold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2.5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0240" y="2593800"/>
            <a:ext cx="29797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residual due to a step fault of -3% of reference value on 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 that occurs during a trans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6560" y="1701720"/>
            <a:ext cx="52833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2320" y="1771560"/>
            <a:ext cx="8902800" cy="29336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7413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1952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7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7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9636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568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320" y="2743200"/>
            <a:ext cx="890280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6906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48040" y="17589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2080" y="203508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0200" y="28224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704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163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448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73760" y="20606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23080" y="20606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7240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823160" y="2060640"/>
            <a:ext cx="4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772480" y="20606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0620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909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c0128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06880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19920" y="2822400"/>
            <a:ext cx="3045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86788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856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69240" y="28224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191772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7772400" y="4954680"/>
            <a:ext cx="596880" cy="301680"/>
          </a:xfrm>
          <a:prstGeom prst="rightArrow">
            <a:avLst>
              <a:gd name="adj1" fmla="val 50000"/>
              <a:gd name="adj2" fmla="val 98935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2945160" y="1220760"/>
            <a:ext cx="596880" cy="301320"/>
          </a:xfrm>
          <a:prstGeom prst="rightArrow">
            <a:avLst>
              <a:gd name="adj1" fmla="val 50000"/>
              <a:gd name="adj2" fmla="val 99053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rot="16200000">
            <a:off x="4924440" y="1219320"/>
            <a:ext cx="596880" cy="304560"/>
          </a:xfrm>
          <a:prstGeom prst="rightArrow">
            <a:avLst>
              <a:gd name="adj1" fmla="val 50000"/>
              <a:gd name="adj2" fmla="val 98000"/>
            </a:avLst>
          </a:prstGeom>
          <a:solidFill>
            <a:srgbClr val="fc0128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720480" y="6189840"/>
            <a:ext cx="22845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HIGH TRESHOLD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81600" y="2289240"/>
            <a:ext cx="38671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Desensitization of the models to make the high threshold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62120" y="1625760"/>
            <a:ext cx="43178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346440" y="6189840"/>
            <a:ext cx="256176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 DETECTION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260600" y="436680"/>
            <a:ext cx="19112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7040" y="1847880"/>
            <a:ext cx="9772920" cy="354312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344600" y="1835280"/>
            <a:ext cx="0" cy="3568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020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3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8500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75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46756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258480" y="2444760"/>
            <a:ext cx="0" cy="295920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7040" y="3429000"/>
            <a:ext cx="9772920" cy="0"/>
          </a:xfrm>
          <a:prstGeom prst="line">
            <a:avLst/>
          </a:prstGeom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953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2760" y="3054240"/>
            <a:ext cx="0" cy="2349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82840" y="1959120"/>
            <a:ext cx="165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Failed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51080" y="2438280"/>
            <a:ext cx="86914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5360" y="1959120"/>
            <a:ext cx="113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id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920" y="3508200"/>
            <a:ext cx="1193760" cy="19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res (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46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3640" y="2517840"/>
            <a:ext cx="6397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4824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0600" y="2517840"/>
            <a:ext cx="63792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31160" y="2517840"/>
            <a:ext cx="56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T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092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P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693280" y="2517840"/>
            <a:ext cx="40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080" y="2517840"/>
            <a:ext cx="480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1" lang="it-IT" sz="1800" spc="-1" strike="noStrike" baseline="-25000">
                <a:solidFill>
                  <a:srgbClr val="00ff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668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9568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24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735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3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33564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2620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91856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09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501120" y="3508200"/>
            <a:ext cx="30636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334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623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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90840" y="2938320"/>
            <a:ext cx="95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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19720" y="2938320"/>
            <a:ext cx="955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ff00"/>
                </a:solidFill>
                <a:latin typeface="Symbol"/>
                <a:ea typeface="Symbol"/>
              </a:rPr>
              <a:t>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33640" y="436680"/>
            <a:ext cx="24307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2440" y="1128600"/>
            <a:ext cx="918504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more suitable than system modeling for the model set-up in gas turbine sensor fault diagn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With system modeling it is much more difficult to calculate values of parameters and carry out operations which are necessary for making fault isol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makes all parameter calculation and desensitization operations of the models quite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 is suitable for utilization in the cases in which system physical laws are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91880" y="385920"/>
            <a:ext cx="30938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Residual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214280" y="2768760"/>
          <a:ext cx="6248520" cy="330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4280" y="2768760"/>
                    <a:ext cx="6248520" cy="330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58960" y="173844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/0 linear model in the z-doma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8960" y="3643200"/>
            <a:ext cx="847404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y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out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u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inpu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fault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: process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22440" y="36684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Parity equ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576360" y="939960"/>
          <a:ext cx="8013600" cy="3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939960"/>
                    <a:ext cx="8013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622440" y="1585800"/>
            <a:ext cx="8472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e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(z)</a:t>
            </a:r>
            <a:r>
              <a:rPr b="1" lang="it-IT" sz="20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: residual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19080" y="2089080"/>
            <a:ext cx="5074920" cy="20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input-output combined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 estim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transfer fun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physica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22440" y="4253040"/>
            <a:ext cx="847224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sensor fault vector (difference between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        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measured and computed valu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 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easurement noise 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                                  </a:t>
            </a:r>
            <a:r>
              <a:rPr b="1" lang="it-IT" sz="2000" spc="-1" strike="noStrike">
                <a:solidFill>
                  <a:srgbClr val="00ff00"/>
                </a:solidFill>
                <a:latin typeface="Arial"/>
              </a:rPr>
              <a:t>: matrix of model approxi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9800" y="2692440"/>
          <a:ext cx="2514600" cy="342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9800" y="2692440"/>
                    <a:ext cx="251460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473040" y="3454560"/>
          <a:ext cx="2666880" cy="342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3040" y="3454560"/>
                    <a:ext cx="2666880" cy="342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441360" y="2019240"/>
          <a:ext cx="3048120" cy="4572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1360" y="2019240"/>
                    <a:ext cx="304812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41360" y="1357200"/>
            <a:ext cx="743760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nalytical Redundancy: utilizes 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Use of linear models to simplifie their set-up and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Great importance of the model set-up phase  (the threshold of uncertainty in fault detection depends on model accura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00200" y="1128600"/>
            <a:ext cx="8474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only (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v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, 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w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0560" y="1841400"/>
          <a:ext cx="5130720" cy="35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0560" y="1841400"/>
                    <a:ext cx="5130720" cy="3556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700200" y="3338640"/>
            <a:ext cx="8474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1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i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 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01880" y="4470480"/>
          <a:ext cx="2082600" cy="2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1880" y="4470480"/>
                    <a:ext cx="2082600" cy="29196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dadada"/>
                    </a:outerShdw>
                  </a:effectLst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046640" y="6189840"/>
            <a:ext cx="198288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INTRODUCTION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17720" y="1890720"/>
            <a:ext cx="84722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Modeling: consists in obtaining the I/O linear models by directly linearizing the physical law equ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ystem Identification: uses statistical methods to calculate model parameters from time series data measured on th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96160" y="843120"/>
            <a:ext cx="723744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DIAGNOSIS OF GAS TURBINE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34920" y="2195640"/>
            <a:ext cx="847404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odels of the system to calculate estimates of the measured output system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Calculation of residuals (differences between computed and measured values of the same variab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detection and isolation by means of the residu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90440" y="1509840"/>
            <a:ext cx="816624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85800" indent="-685800" algn="ctr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,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sensor fault vector (difference between measured and computed valu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easurement nois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85800" indent="-685800">
              <a:lnSpc>
                <a:spcPct val="100000"/>
              </a:lnSpc>
              <a:tabLst>
                <a:tab algn="l" pos="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matrix of model approx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90440" y="1585800"/>
            <a:ext cx="8166240" cy="24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xact model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 and absence of measurement noise (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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Book Antiqua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= 0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res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 (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3600" spc="-1" strike="noStrike">
                <a:solidFill>
                  <a:srgbClr val="00ff00"/>
                </a:solidFill>
                <a:latin typeface="Book Antiqua"/>
              </a:rPr>
              <a:t>) = 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F </a:t>
            </a:r>
            <a:r>
              <a:rPr b="0" lang="it-IT" sz="36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3600" spc="-1" strike="noStrike">
                <a:solidFill>
                  <a:srgbClr val="00ff00"/>
                </a:solidFill>
                <a:latin typeface="Book Antiqu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33600" y="766800"/>
            <a:ext cx="1894320" cy="4546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8160" y="2195640"/>
            <a:ext cx="847260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The elements of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and </a:t>
            </a:r>
            <a:r>
              <a:rPr b="0" lang="it-IT" sz="2400" spc="-1" strike="noStrike">
                <a:solidFill>
                  <a:srgbClr val="00ff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x</a:t>
            </a:r>
            <a:r>
              <a:rPr b="0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fault vector are substituted for value 0 or 1 on the basis of whether they are zero or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Each column of the 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the binary fault signature of the corresponding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ff00"/>
                </a:solidFill>
                <a:latin typeface="Book Antiqua"/>
              </a:rPr>
              <a:t>F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matrix is called Fault Matrix or Incidence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73240" y="6189840"/>
            <a:ext cx="2475000" cy="30204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ff00"/>
                </a:solidFill>
                <a:latin typeface="Arial"/>
              </a:rPr>
              <a:t>FAULT DIAGNOSIS ...  co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8160" y="900000"/>
            <a:ext cx="8472600" cy="41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Zero-threshold (deterministic ) fault isol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all the incidence matrix columns must be different  from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One model for each output measured variab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0ff00"/>
                </a:solidFill>
                <a:latin typeface="Arial"/>
              </a:rPr>
              <a:t>incidence matrix with the maximum number of elements per columns (maximum number of  different fault signatu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9T14:34:52Z</dcterms:created>
  <dc:creator>Michele Laus</dc:creator>
  <dc:description/>
  <dc:language>en-US</dc:language>
  <cp:lastModifiedBy>Macchine2</cp:lastModifiedBy>
  <cp:lastPrinted>1997-05-27T15:06:15Z</cp:lastPrinted>
  <dcterms:modified xsi:type="dcterms:W3CDTF">1997-06-12T10:05:58Z</dcterms:modified>
  <cp:revision>55</cp:revision>
  <dc:subject/>
  <dc:title>Nessun titolo diapositiva</dc:title>
</cp:coreProperties>
</file>