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93300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8928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8796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5605560" y="-360"/>
            <a:ext cx="42876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62320" y="504360"/>
            <a:ext cx="33717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17240" y="3201840"/>
            <a:ext cx="725796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6405480"/>
            <a:ext cx="428796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5605560" y="6405480"/>
            <a:ext cx="42876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6E3530-4B0D-4624-87FF-130BBE9244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bove methodology found its way of application on a twin shaft gas turbine (ABB GT10), installed at Rhodes island, and owned by Public Power Corporation (PPC) of Gree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hronicle of the application may be summarised as foll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ing a first phase, the problem was to identify the cause of the observed EGT incr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problem was identified, corrective action was taken and it was necessary to verify the effectiveness of the interventions done on the eng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alysis performed in each case is described in the follow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ollected from the initial operation of the engine as well as those from efficiency testing were analysed for performing a diagnosis. The analysis of the data was made at two lev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First, a "common sense" thermodynamic analysis was performed, by executing mainly heat balance calc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calculations can provide non-measured quantities from the values of measured ones, and give a comparative picture of parameters characterising engine cond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of ISO 2314 correction and calculation procedures were applied for this purp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d and calculated values of various thermodynamic quantities are reduced to operation with standard day ambient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econd, a more elaborate procedure, namely the adaptive performance modelling mentioned above, has been appli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eed the inspection confirmed the initial diagnosis for the condition of the turbines. Deposits were found in both gas generator and power turbine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were due to anticorrosive additives of the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s 5 to 8 illustrate the condition of the blades. Figures 5 and 6 show the first rotor and stator of the compressor turbine, respective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have the form of a uniform coat, which has partially cracked on the rotor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of the deposit layer has been removed in the picture of the vanes, Fig. 6, to indicate the make more apparent the presence of the lay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le stator vanes of the power turbine are also covered by a more or less uniform coat of deposits, Figure 7, deposits on the rotor blades give a rougher surface, Figure 8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photos are taken using an ordinary camera, the layer of deposits is well discri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rrective action wa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wo alternative approaches were conside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irst one consisted in cleaning the blades while the later to perform geometry modif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anufacturer considers deposition as an unavoidable process, when oil is used as a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el oil treatment with additives is essential in order to increase ash melting point and thus minimise the risk of blade corrosion (Olsson et al 196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 also alleges that this process is taking place during a small period during the beginning of the operation of the engine, when this layer is formed and thereafter no considerable changes are taking pl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fore, performance recovery was suggested to be based on component re-matching, resulting from the modification of the stagger angle of power turbine stator v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possibility was foreseen on this engine, in order to remedy situations as the presen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BE7D3-F35F-40F4-A800-9544921CFD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BCBF7-A096-4EA0-941F-172A05B2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F1367-66E7-4F5C-84C3-0B1BCBB3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E1754-4F0D-45C4-871C-DF0BBAB9B6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A1F62-6B67-45C9-9711-19E99B04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88177-B73A-4F3E-A0CE-54CF3803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77BAE-C634-4D9C-BDBE-18996774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E87E1-230B-46B9-8002-8CEFA512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8D762-D35F-4D0B-BDD7-CA2BC0E6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8B9FF-B010-4396-BFE2-4A3F459C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AEF80-AA0F-4C83-B606-9F7D5FF1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3FD60-23E2-46BA-B4FB-A030EDA7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E42E-AB7E-4736-AB4F-3B8208FB2A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83808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7960" y="622944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4800" y="1641600"/>
            <a:ext cx="441972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Times New Roman"/>
              </a:rPr>
              <a:t>Gas Turbine (ABB GT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84480" y="2157480"/>
            <a:ext cx="52466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23BFB-BE41-4206-93A2-AAA7DB64E824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84600" y="863640"/>
          <a:ext cx="287028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4600" y="863640"/>
                    <a:ext cx="287028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539720" y="863640"/>
          <a:ext cx="304164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9720" y="863640"/>
                    <a:ext cx="30416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5F33D-9FBC-43BD-9064-E229706138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2DD88-A236-465F-901E-CAD0CB9318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8AD47-93C4-4A97-A23E-E2EB40C105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1680" y="2133720"/>
            <a:ext cx="4246560" cy="34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989000" y="110160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Gas Generator Turbine 1</a:t>
            </a:r>
            <a:r>
              <a:rPr b="1" lang="en-GB" sz="2400" spc="-1" strike="noStrike" u="sng" baseline="30000">
                <a:solidFill>
                  <a:srgbClr val="1717ff"/>
                </a:solidFill>
                <a:uFillTx/>
                <a:latin typeface="Times New Roman"/>
              </a:rPr>
              <a:t>st</a:t>
            </a: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 rotor bl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4680" y="2131920"/>
            <a:ext cx="4219560" cy="342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6D08D-C891-4A5D-AFC9-4B533C16EC73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153" t="1812" r="0" b="2761"/>
          <a:stretch/>
        </p:blipFill>
        <p:spPr>
          <a:xfrm>
            <a:off x="312840" y="2168640"/>
            <a:ext cx="4006800" cy="304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1360440"/>
            <a:ext cx="30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Power Turbine 2nd Stator vanes detail</a:t>
            </a: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3311640"/>
            <a:ext cx="3695760" cy="234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1120" y="5734080"/>
            <a:ext cx="62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Power Turbine 2nd Stator vanes. Leading edge pressure side 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14300-6486-499A-8478-1871AF09627F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32000" y="1089000"/>
            <a:ext cx="4678560" cy="467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8C564-BB2C-469A-B872-B82DB0E62C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2000" y="833400"/>
            <a:ext cx="8820000" cy="519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46610-4728-4ADB-BE13-5E6D2E5F34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CE008-33DE-4D05-B9EA-4509A4E108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AD34D-F925-4C97-A2D3-C32890A447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00280" y="998640"/>
          <a:ext cx="7543800" cy="51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98640"/>
                    <a:ext cx="754380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BE5AF-FE75-4C34-B87F-5D94AA49C7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828800" y="3298680"/>
          <a:ext cx="548640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98680"/>
                    <a:ext cx="548640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28800" y="830160"/>
          <a:ext cx="5486400" cy="278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830160"/>
                    <a:ext cx="548640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12CAE-060D-45DA-935C-0076887A2D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15:13:03Z</dcterms:created>
  <dc:creator>cristof</dc:creator>
  <dc:description/>
  <dc:language>en-US</dc:language>
  <cp:lastModifiedBy>diem039</cp:lastModifiedBy>
  <dcterms:modified xsi:type="dcterms:W3CDTF">2004-10-15T06:28:15Z</dcterms:modified>
  <cp:revision>425</cp:revision>
  <dc:subject/>
  <dc:title>PowerPoint Presentation</dc:title>
</cp:coreProperties>
</file>