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5D3-D5C5-4ABB-8599-20B90F3B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D46-F96E-40B8-8216-B66BA4C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044-B037-4449-88B4-33094EE9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19-B87F-490E-A679-55D82601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CEB-0A88-4B8F-B55C-DD282B7B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388-4A10-481E-BFBD-9D6DB6FC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D262-D670-4AC3-8389-81F2F1B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FFF8-1B7B-4E63-9172-A830888C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372-C604-4C9A-A414-A64D73A4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5898-BD5F-4528-B034-48D34EC6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15A1-57D3-4F9E-A81D-B87FBFE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48E-9599-4940-8889-5BE25A8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5D81-6D53-44DD-A8AC-2B7CC77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CE9A-83D7-4C41-A052-42A882C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2C5C-E4B3-454B-A842-E5AAE4D7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A130-A08B-44E2-97E2-84B885A5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5BEF-E2B2-488B-BADE-32953484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902-5027-458C-A38D-43C8AD3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BA0-C08B-4F33-8A3F-93B3532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8ED-A1BF-442A-8DC3-403D3823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0A8-50E1-4921-A91B-D859BFC9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D82-EED4-4781-B16A-AA7FD15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9A7-A283-49F9-B1C5-9E85A7A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B77-F38D-45F2-9BE0-A21A84B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9F5-70F3-494F-8776-94C36DA03FA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2AF-5C91-4544-9D2F-DC07F4693D3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osha.europa.eu/it/about-eu-osha" TargetMode="External"/><Relationship Id="rId2" Type="http://schemas.openxmlformats.org/officeDocument/2006/relationships/hyperlink" Target="https://osha.europa.eu/it/about-eu-osha" TargetMode="External"/><Relationship Id="rId3" Type="http://schemas.openxmlformats.org/officeDocument/2006/relationships/hyperlink" Target="https://osha.europa.eu/it/about-eu-osha" TargetMode="External"/><Relationship Id="rId4" Type="http://schemas.openxmlformats.org/officeDocument/2006/relationships/hyperlink" Target="https://osha.europa.eu/it/about-eu-osha" TargetMode="External"/><Relationship Id="rId5" Type="http://schemas.openxmlformats.org/officeDocument/2006/relationships/hyperlink" Target="https://osha.europa.eu/it/about-eu-osha" TargetMode="External"/><Relationship Id="rId6" Type="http://schemas.openxmlformats.org/officeDocument/2006/relationships/hyperlink" Target="https://osha.europa.eu/it/about-eu-osha" TargetMode="External"/><Relationship Id="rId7" Type="http://schemas.openxmlformats.org/officeDocument/2006/relationships/hyperlink" Target="https://osha.europa.eu/it/about-eu-osha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EUROP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2929"/>
                </a:solidFill>
                <a:uFillTx/>
                <a:latin typeface="Arial"/>
              </a:rPr>
              <a:t>Art. 118 A, TCEE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i stati membri si adoperano per promuovere il 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er contribuire alla realizzazione dell'obiettivo previsto al paragrafo 1, il Consiglio, deliberando a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 disposizioni adottate a norma del presente articolo non ostano a che ciascuno stato membro mantenga e stabilisca misure, compatibili con il presente trattato, per una maggiore protezione delle condizioni di lavoro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5 giugno 1991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</a:t>
            </a:r>
            <a:r>
              <a:rPr b="0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91/383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he completa le misure volte a promuovere il miglioramento della sicurezza e della salute durante il lavoro dei lavoratori aventi un rapporto di lavoro a durata determinata o un rapporto di lavoro interinale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vori atipic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19 ottobre 1992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2/85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oncernente l’ attuazione di misure volte a promuovere il miglioramento della sicurezza e della salute sul lavoro delle lavoratrici gestanti, puerpere o in periodo di allattament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aternità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3 novembre 1993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3/104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’organizzazione dell’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orario di lavoro </a:t>
            </a:r>
            <a:r>
              <a:rPr b="0" i="1" lang="it-IT" sz="2000" spc="-1" strike="noStrike">
                <a:solidFill>
                  <a:srgbClr val="292929"/>
                </a:solidFill>
                <a:latin typeface="Arial"/>
              </a:rPr>
              <a:t>(v. supra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2 giugno 1994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4/33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a protezione dei giovani sul lavor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giovani e lavor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REGOLAMENTO (CE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1112/2005 DEL CONSIG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Regolamento (CE) n. 1112/2005 del Consigli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del 24 giugno 2005, recante modifica del regolamento (CE) n. 2062/94 del Consiglio, relativo all’istituzione di un’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Agenzia europea per la sicurezza e la salute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ha.europa.eu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it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bout-eu-osh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A, ACCORDO EUROPEO SULL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VORO-CORRE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ccordo Europeo sullo 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stress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 sul lavoro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iglato, dalle parti sociali europee CES, UNICE, CEEP, UEAPME e PMI,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’8 ottobre 200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 recepito in Italia con successivo Accordo Interconfederale del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9 giugno 200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ATTO UNICO EUROPEO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. 21, AUE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rattato CE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è completato dalle disposizioni seguenti: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«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1. Gli stati membri si adoperano per promuovere il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2. Per contribuire alla realizzazione dell'obiettivo previsto al paragrafo 1, il Consiglio, deliberando a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3. Le disposizioni adottate a norma del presente articolo non ostano a che ciascuno stato membro mantenga e stabilisca misure, compatibili con il presente trattato, per una maggiore protezione delle condizioni di lavoro»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TRATTATO SUL FUNZIONAMENTO DELL’UNIONE EUROPE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153, comma 1, lett. a), TFU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 conseguire gli obiettivi previsti all'articolo 151, l'Unione sostiene e completa l'azione degli Stati membri nei seguenti settori: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glioramento, in particolare, dell'ambiente di lavoro, per proteggere la sicurezza e la salut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A 93/104/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93/104/CE del Consiglio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l 23 novembre 1993, concernente taluni aspett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ll'organizzazione dell'orario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’Unione Europea, visto il trattato che istituisce la Comunità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in cooperazione con il Parlamento europeo, visto il parere del Comitato economico e sociale, considerando che l'articolo 118 A del trattato prevede che il Consiglio adotti, mediante direttiva, prescrizioni minime per promuovere in particolare il miglioramento dell'ambiente di lavoro, per garantire un più elevato livello di protezione della sicurezza e della salute dei lavoratori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3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Il governo del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Regno Unit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fa valere, richiamando la lettera stessa dell'art. 118 A, che [..] la durata del lavoro settimanale, le ferie annuali retribuite e i periodi di pausa, presenterebbero un legame troppo tenue con la sicurezza e la salute dei lavorato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: Non vi è nulla nella formulazione dell'art. 118 A che possa indicare che le nozioni di «ambiente di lavoro», «sicurezza» e «salute», ai sensi di tale disposizione, andrebbero interpretate — in assenza di altri elementi più precisi — in senso restrittivo e non invece come riguardanti tutti i fattori, fisici e di altra natura, in grado di incidere sulla salute e sulla sicurezza del lavoratore nel suo ambiente di lavoro e, in particolare, taluni aspetti dell'organizzazione dell'orario di lavoro. Al contrario, i termini «in particolare dell'ambiente di lavoro» depongono a favore di un'interpretazione ampia della competenza attribuita al Consiglio dall'art. 118 A in materia di tutela della sicurezza e della salute dei lavoratori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6: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Il governo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ricorrente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fa ancora valere che, in forza dell'art. 118 A, n. 2, [..] tale disposizione autorizzerebbe il Consiglio ad adottare misure di armonizzazione soltanto ad un livello accettabile per tutti gli Stati membri e che costituisca un punto di riferimento minim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7: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L'espressione «prescrizioni minime» di cui all'art. 118 A significa soltanto, [..] che essa consente agli Stati membri di adottare norme più rigorose di quelle che sono oggetto dell'intervento comunitari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“MADRE” 80/1107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80/1107/CEE del Consigli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del 27 novembre 1980, sul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tezione dei lavoratori contro i rischi derivanti da un'esposizione ad agenti chimici, fisici e biologici durante il lavor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00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sulla sicurezza, l'igiene e la tutela della salute sul luogo di lavoro, visto il parere del Parlamento europeo, visto il parere del Comitato economico e sociale, considerando che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QUADRO 89/391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Direttiva 89/391/CEE del Consiglio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 del 12 giugno 1989, concernente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'attuazione di misure volte a promuovere il miglioramento della sicurezza e della salute dei lavoratori durante il lavo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</a:t>
            </a:r>
            <a:r>
              <a:rPr b="0" i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l'articolo 118 A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per la sicurezza, l'igiene e la protezione della salute sul luogo di lavoro, in cooperazione con il Parlamento europeo, visto il parere del Comitato economico e sociale, considerando che l'articolo 118 A del trattato prevede che il Consiglio adotti, mediante direttiva , le prescrizioni minime per promuovere il miglioramento in particolare dell'ambiente di lavoro, per garantire un più elevato livello di protezione della sicurezza e della salute dei lavoratori [..] ha adottato la presente direttiva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prima del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100 TCEE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l Consiglio, deliberando all’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nimità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su proposta della Commissione, stabilisc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volte al ravvicinamento delle disposizioni legislative, regolamentari ed amministrative degli Stati membri che abbiano un’incidenza diretta sull’instaurazione o sul funzionamento del mercato comun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’Assemblea e il Comitato economico e sociale sono consultati sulle direttive la cui esecuzione importerebbe, in uno o più Stati membri, una modificazione nelle disposizioni legislativ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1:18:07Z</dcterms:created>
  <dc:creator>Giulia</dc:creator>
  <dc:description/>
  <dc:language>en-US</dc:language>
  <cp:lastModifiedBy>Giulia</cp:lastModifiedBy>
  <dcterms:modified xsi:type="dcterms:W3CDTF">1980-01-04T19:39:00Z</dcterms:modified>
  <cp:revision>44</cp:revision>
  <dc:subject/>
  <dc:title>EUROPA</dc:title>
</cp:coreProperties>
</file>