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724-6AEC-4058-9D0D-3F8E531D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B0E-9E7C-48B7-B5AC-D038CC63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0C0-189D-47E4-BB45-2E681146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BCC4-5DB8-4F91-8FD9-C9A1A86E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2E68-0E7A-474A-BD14-71CFCA64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4512-47F7-4DF7-B72C-FA280703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A9F4-E6DA-44CB-A873-0659CD68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CFC7-212F-40CA-B28C-916F9571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7265-EF8B-407E-B364-F3B0AFF6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2FF2-A4EA-4749-9599-2F720406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E44B-5EC8-4115-8B61-CEE614A6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AE37-016A-4DA9-8A58-39161665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FA97-0B9A-4E38-848C-18289876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12B4-7BFC-47B0-A96D-603642CE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1977-AB2C-4F2A-BCD7-5C8AF6A5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1C13-5A24-4711-B5E7-F090A5F7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9AA9-CE06-49B6-AD6D-0AC14C94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E2E-22B1-4E4B-B17A-D8D5A979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596-9204-438B-AA28-9C2E7981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4BED-5392-4571-8C10-BF77C670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F300-D611-4B8B-9054-D34ECB80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314-FB6D-4AC6-8DF8-DE2BFFDD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355-2CCE-40C4-861B-5B50E4F7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B86-C1D3-4E41-BAB2-FBFBC409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B3BA-4DCF-458F-8500-41494E307FE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E037-8A15-4200-8C13-3D0A91C73DC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NDAMENTI NORMATI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COSTITUZIONE E     CODICE CIVI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32, comma 1, Cost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(seconda parte):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[..] e garantisce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cure gratuite agli indigenti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32, comma 1, Cost.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: La Repubblica tutela la salute come fondamentale diritto dell’individuo e interesse della collettività e garantisce cure gratuite agli indigenti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69422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GGE 23 DICEMBRE 1978, N. 83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stitutrice del Servizio Sanitario Nazion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1 «</a:t>
            </a:r>
            <a:r>
              <a:rPr b="1" i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I principi</a:t>
            </a: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», comma 1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 Repubblica tutela la salute come fondamentale diritto dell’individuo e interesse della collettività mediante il Servizio Sanitario Nazional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67262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GGE 23 DICEMBRE 1978, N. 83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(istitutrice del Servizio Sanitario Nazion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Art.1 «</a:t>
            </a:r>
            <a:r>
              <a:rPr b="1" i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I Principi</a:t>
            </a: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», comma 3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: Il Servizio Sanitario Nazionale è costituito dal complesso delle funzioni, delle strutture, dei servizi e delle attività destinati alla promozione, al mantenimento ed al recupero della salute fisica e psichica di tutta la popolazione senza distinzione di condizioni individuali o sociali e secondo modalità che assicurino l’eguaglianza dei cittadini nei confronti del servizi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Art. 117, comma 2, Cost.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: Lo Stato ha legislazione esclusiva nelle seguenti materie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[..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l)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giurisdizione e norme processuali; ordinamento civile e penale; giustizia amministrativa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m)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determinazione dei livelli essenziali delle prestazioni concernenti i diritti civili e sociali che devono essere garantiti su tutto il territorio nazionale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[..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117, comma 3, Cost.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Sono materie di legislazione concorrente quelle relative a: [..] tutela e sicurezza del lavoro; tutela della salute [..]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CE CIV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Art. 2085 «</a:t>
            </a:r>
            <a:r>
              <a:rPr b="1" i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Indirizzo della produzione</a:t>
            </a: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», c.c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: Il controllo sull’indirizzo della produzione e degli scambi in relazione all’interesse unitario dell’economia nazionale è esercitato dallo Stato, nei modi previsti dalla legge e dalle norme corporative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a legge stabilisce altresì i casi e i modi nei quali si esercita la vigilanza dello Stato sulla gestione delle impres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CE CIV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Art. 2087, «</a:t>
            </a:r>
            <a:r>
              <a:rPr b="1" i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Tutela delle condizioni di lavoro</a:t>
            </a: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», c.c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: L’imprenditore è tenuto ad adottare nell’esercizio dell’impresa le misure che, secondo la particolarità del lavoro, l’esperienza e la tecnica, sono necessarie a tutelare l’integrità fisica e la personalità morale dei prestatori di lavor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1, Cost.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: L’Italia è una Repubblica democratica, fondata sul lavoro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 sovranità appartiene al popolo, che la esercita nelle forme e nei limiti della Costituzion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Art. 35, Cost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: La Repubblica tutela il lavoro in tutte le sue forme ed applicazioni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ura la formazione e l’elevazione professionale dei lavoratori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omuove e favorisce gli accordi e le organizzazioni internazionali intesi ad affermare e regolare i diritti del lavor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iconosce la libertà di emigrazione, salvo gli obblighi stabiliti dalla legge nell’interesse generale, e tutela il lavoro italiano all’ester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42, comma 2, Cost.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: La proprietà privata è riconosciuta e garantita dalla legge, che ne determina i modi di acquisto, di godimento e i limiti allo scopo di assicurarne la funzione sociale e di renderla accessibile a tutti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3, comma 1, Cost.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: Tutti i cittadini hanno pari dignità sociale e sono eguali davanti alla legge, senza distinzione di sesso, di razza, di lingua, di religione, di opinioni politiche, di condizioni personali e sociali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Art. 3, comma 2, Cost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: E’ compito della Repubblica rimuovere gli ostacoli di ordine economico e sociale che, limitando di fatto la libertà e l’eguaglianza dei cittadini, impediscono il pieno sviluppo della persona umana e l’effettiva partecipazione di tutti i lavoratori all’organizzazione politica, economica e sociale del Paes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Art. 3 Cost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: Tutti i cittadini hanno pari dignità sociale e sono eguali davanti alla legge, senza distinzione di sesso, di razza, di lingua, di religione, di opinioni politiche, di condizioni personali e sociali. E’ compito della Repubblica rimuovere gli ostacoli di ordine economico e sociale che, limitando di fatto la libertà e l’eguaglianza dei cittadini, impediscono il pieno sviluppo della persona umana e l’effettiva partecipazione di tutti i lavoratori all’organizzazione politica, economica e sociale del Paes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2, Cost.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: La Repubblica riconosce e garantisce i diritti inviolabili dell’uomo, sia come singolo sia nelle formazioni sociali ove si svolge la sua personalità, e richiede l’adempimento dei doveri inderogabili di solidarietà politica, economica e social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32, comma 1, Cost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(prima parte):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La Repubblica tutela la salute come fondamentale diritto dell’individuo e interesse della collettività [..]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1T14:52:47Z</dcterms:created>
  <dc:creator>Giulia</dc:creator>
  <dc:description/>
  <dc:language>en-US</dc:language>
  <cp:lastModifiedBy>Giulia</cp:lastModifiedBy>
  <dcterms:modified xsi:type="dcterms:W3CDTF">2017-03-01T16:59:03Z</dcterms:modified>
  <cp:revision>17</cp:revision>
  <dc:subject/>
  <dc:title>FONDAMENTI NORMATIVI</dc:title>
</cp:coreProperties>
</file>