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82B-7ACB-4B95-80F8-1BF5A50B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4C4-6120-495D-81E8-7509B1BE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CB4-36A5-44A7-9A4F-01F2CF2B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74F-3B56-438F-9458-FBC40A4C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E398-91D1-44E0-8730-22B897FF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D8EA-51F3-4B65-8A8F-1313745C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8A0F-18D2-4BA2-85B2-150D7209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96A5-0C05-4FF7-9F0B-9F7F85EA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6219-9E2B-4D51-98D0-852237A1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46DE-67D7-4F14-B5DA-1A2A7F86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2648-946D-4B27-AF59-737DA0C4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863-1DCC-4E39-A712-F4629295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0AAC-3E28-4F0E-BBCA-1E952E8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2621-08FD-4F78-BC8B-9CF13766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8688-F75A-4BFA-9D9E-9F0B8FF5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D6E4-8623-462C-AB94-BACEF80C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49D1-FD87-4050-BA46-FF3F5E7D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963-E68D-4038-A2D4-E1289E7B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396-FFF6-46D5-A83D-63B1669B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971-F5BC-4B80-8CF5-B660152A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117-9689-4AB7-9398-F4D69C91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D43-DD8E-4A63-A001-3986319C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D71-9D4A-4A60-834B-7D21A726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375-9EEC-4079-A255-FABAF97E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9C0D-F411-495F-939D-820F09B1963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DDBF-7B44-4EF1-9593-D1A70DFB4C9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NDAMENTI NORMATI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OSTITUZIONE E     CODICE CIVI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2, comma 1, Cost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(seconda parte):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[..] e garantisc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cure gratuite agli indigent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2, comma 1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a Repubblica tutela la salute come fondamentale diritto dell’individuo e interesse della collettività e garantisce cure gratuite agli indigent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9422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GE 23 DICEMBRE 1978, N. 83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stitutrice del Servizio Sanitario Nazion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1 «</a:t>
            </a:r>
            <a:r>
              <a:rPr b="1" i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I principi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», comma 1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Repubblica tutela la salute come fondamentale diritto dell’individuo e interesse della collettività mediante il Servizio Sanitario Nazional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6726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GE 23 DICEMBRE 1978, N. 83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istitutrice del Servizio Sanitario Nazion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1 «</a:t>
            </a: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I Principi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», comma 3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Il Servizio Sanitario Nazionale è costituito dal complesso delle funzioni, delle strutture, dei servizi e delle attività destinati alla promozione, al mantenimento ed al recupero della salute fisica e psichica di tutta la popolazione senza distinzione di condizioni individuali o sociali e secondo modalità che assicurino l’eguaglianza dei cittadini nei confronti del servizi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Art. 117, comma 2, Cost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: Lo Stato ha legislazione esclusiva nelle seguenti materie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[..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l)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giurisdizione e norme processuali; ordinamento civile e penale; giustizia amministrativa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m)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determinazione dei livelli essenziali delle prestazioni concernenti i diritti civili e sociali che devono essere garantiti su tutto il territorio nazional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[..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117, comma 3, Cost.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ono materie di legislazione concorrente quelle relative a: [..] tutela e sicurezza del lavoro; tutela della salute [..]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CE CIV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2085 «</a:t>
            </a: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Indirizzo della produzione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», c.c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Il controllo sull’indirizzo della produzione e degli scambi in relazione all’interesse unitario dell’economia nazionale è esercitato dallo Stato, nei modi previsti dalla legge e dalle norme corporativ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 legge stabilisce altresì i casi e i modi nei quali si esercita la vigilanza dello Stato sulla gestione delle impres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CE CIV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2087, «</a:t>
            </a: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Tutela delle condizioni di lavoro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», c.c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L’imprenditore è tenuto ad adottare nell’esercizio dell’impresa le misure che, secondo la particolarità del lavoro, l’esperienza e la tecnica, sono necessarie a tutelare l’integrità fisica e la personalità morale dei prestatori di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1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’Italia è una Repubblica democratica, fondata sul lavor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sovranità appartiene al popolo, che la esercita nelle forme e nei limiti della Costituzion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35, Cost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La Repubblica tutela il lavoro in tutte le sue forme ed applicazioni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ura la formazione e l’elevazione professionale dei lavoratori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muove e favorisce gli accordi e le organizzazioni internazionali intesi ad affermare e regolare i diritti del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conosce la libertà di emigrazione, salvo gli obblighi stabiliti dalla legge nell’interesse generale, e tutela il lavoro italiano all’este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42, comma 2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a proprietà privata è riconosciuta e garantita dalla legge, che ne determina i modi di acquisto, di godimento e i limiti allo scopo di assicurarne la funzione sociale e di renderla accessibile a tutt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, comma 1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Tutti i cittadini hanno pari dignità sociale e sono eguali davanti alla legge, senza distinzione di sesso, di razza, di lingua, di religione, di opinioni politiche, di condizioni personali e social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3, comma 2, Cost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E’ compito della Repubblica rimuovere gli ostacoli di ordine economico e sociale che, limitando di fatto la libertà e l’eguaglianza dei cittadini, impediscono il pieno sviluppo della persona umana e l’effettiva partecipazione di tutti i lavoratori all’organizzazione politica, economica e sociale del Paes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3 Cost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: Tutti i cittadini hanno pari dignità sociale e sono eguali davanti alla legge, senza distinzione di sesso, di razza, di lingua, di religione, di opinioni politiche, di condizioni personali e sociali. E’ compito della Repubblica rimuovere gli ostacoli di ordine economico e sociale che, limitando di fatto la libertà e l’eguaglianza dei cittadini, impediscono il pieno sviluppo della persona umana e l’effettiva partecipazione di tutti i lavoratori all’organizzazione politica, economica e sociale del Paes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2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a Repubblica riconosce e garantisce i diritti inviolabili dell’uomo, sia come singolo sia nelle formazioni sociali ove si svolge la sua personalità, e richiede l’adempimento dei doveri inderogabili di solidarietà politica, economica e social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2, comma 1, Cost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(prima parte):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La Repubblica tutela la salute come fondamentale diritto dell’individuo e interesse della collettività [..]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1T14:52:47Z</dcterms:created>
  <dc:creator>Giulia</dc:creator>
  <dc:description/>
  <dc:language>en-US</dc:language>
  <cp:lastModifiedBy>Giulia</cp:lastModifiedBy>
  <dcterms:modified xsi:type="dcterms:W3CDTF">2017-03-01T16:59:03Z</dcterms:modified>
  <cp:revision>17</cp:revision>
  <dc:subject/>
  <dc:title>FONDAMENTI NORMATIVI</dc:title>
</cp:coreProperties>
</file>