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9EF-B7ED-4325-A3F5-50EAE8F9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FA6-6394-4AFC-866D-73E1CCE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3B3-0ED0-46E0-A7B5-39354561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F64-270F-40F4-A287-DA22AF2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583D-36A3-4FA4-ADD5-7562BD68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F3D7-C70E-4DA8-8410-0E51D00C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7AE0-0989-4DA1-ABD9-26568EEC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0FD7-4949-4419-99F9-098186E7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7672-3308-478F-BEDE-AB6B26EF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697C-2EA9-42AD-BE06-4EFFF059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D21C-8EAB-446E-A04A-371A875F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247-0549-4093-B0DF-A80BAB4B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357F-4736-4D5D-A307-002B70C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37A5-4A80-4587-BFA9-2AE166B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8EBC-7649-4FDB-93AD-3941C6F3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968-2450-4449-9397-2ACA90BB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D905-17F8-4E37-9E65-DD733DBC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F8A-3943-4336-9C1A-45721727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642-5D16-45A0-B3E9-17426DCB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0A3-0C2A-4ECB-A46E-EEB8E405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959-7B23-4158-B256-144514A8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2E6-7FCD-4DEA-847B-B6F57126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04E-B830-446F-9876-9AF3D68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EDC-21AD-4E7E-81CF-B8009680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2C8-D0CB-4D61-8060-8ED6F8804F20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AA23-67CC-4781-A4C0-CCB5A681DFA3}" type="slidenum">
              <a:rPr b="0" lang="it-IT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19 marzo 1956, n. 30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generali per l’igiene de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LEGGE 20 maggio 1970, n. 300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Statuto dei lavoratori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sulla tutela della libertà e dignità dei lavoratori, della libertà sindacale e dell’attività sindacale, nei luoghi di lavoro e norme sul collocament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1578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Art. 9, St. Lav.,</a:t>
            </a: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Tutela della salute e dell’integrità fisica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I lavoratori, mediante loro rappresentanze, hanno diritto di controllare l’applicazione delle norme per la prevenzione degli infortuni e delle malattie professionali e di promuovere la ricerca, l’elaborazione e l’attuazione di tutte le misure idonee a tutelare la loro salute e la loro integrità fisic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6912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Legge 3 agosto 2007, n. 123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Misure in tema di tutela della salute e della sicurezza sul lavoro e delega al Governo per il riassetto e la riforma della normativa in materia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Art. 1, Legge n. 123/2007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Delega al Governo per il riassetto e la riforma della normativa in materia di tutela della salute e della sicurezza su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9 aprile 2008, n. 81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Attuazione dell’articolo 1 della legge 3 agosto 2007, n. 123, in materia di tutela della salute e della sicurezza nei luoghi di lavor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Art. 2, comma 1, D. Lgs. 81/2008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lett. a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“lavoratore”: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persona che, indipendentemente dalla tipologia contrattuale, svolge un’attività lavorativa nell’ambito dell’organizzazione di un datore di lavoro pubblico o privato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27 aprile 1955, n. 547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per la prevenzione degli infortuni su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TITOLO II, DPR. n. 547/1955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AMBIENTI, POSTI DI LAVORO E DI PASSAGG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CAPO I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Disposizioni di carattere generale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 8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 Pavimenti e passagg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 9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Sola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0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Aperture nel suolo e nelle paret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1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Posti di lavoro e di passagg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2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Schermi parascheg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3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Uscite dai locali di lavo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4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Uscite dai locali di lavo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5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Spazio destinato al lavorato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TITOLO III, DPR. n. 547/1955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NORME GENERALI DI PROTEZIONE DELLE MACCHIN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CAPO III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Trasmissioni e ingranagg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5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Organi ed elementi per la trasmissione del mo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6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7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8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9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Ingranagg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0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oni e cilindri di friz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1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atene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2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Montaggio e smontaggio delle 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3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Ganci porta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4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Giunzione delle 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5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oppie di pulegge fissa e fo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6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Disinnesti di sezionamento nelle trasmissioni estes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7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Preavviso di avviamento di trasmission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DPR n. 547/1955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DISPOSIZIONI GENER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AMBIENTI, POSTI DI LAVORO E DI PASSAGGI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NORME GENERALI DI PROTEZIONE DELLE MACCHI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V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NORME PARTICOLARI DI PROTEZIONE PER DETERMINATE            MACCHI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MEZZI ED APPARECCHI DI SOLLEVAMENTO, DI TRASPORTO E DI                IMMAGAZZINAMENTO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IMPIANTI ED APPARECCHI VAR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IMPIANTI, MACCHINE ED APPARECCHI ELETTR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MATERIE E PRODOTTI PERICOLOSI O NOCIV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X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MANUTENZIONE E RIPARAZ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MEZZI PERSONALI DI PROTEZIONE E SOCCORSI D’ URGENZ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NORME PE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DISPOSIZIONI TRANSITORIE E F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19 marzo 1956, n. 30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orme di prevenzione degli infortuni sul lavoro integrative di quelle generali emanate con Decreto del Presidente della Repubblica 27 aprile 1955, n. 547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8:42:43Z</dcterms:created>
  <dc:creator>Giulia</dc:creator>
  <dc:description/>
  <dc:language>en-US</dc:language>
  <cp:lastModifiedBy>Giuri</cp:lastModifiedBy>
  <dcterms:modified xsi:type="dcterms:W3CDTF">2017-03-23T11:38:35Z</dcterms:modified>
  <cp:revision>26</cp:revision>
  <dc:subject/>
  <dc:title>Diapositiva 1</dc:title>
</cp:coreProperties>
</file>