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4239-040E-420C-8ECE-B6F258DEE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09A9-C487-4386-9DA2-71B6AE51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AFAD-DA28-4E7F-A5B5-85BD5091A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5120-E087-45C3-8672-CF2D8BD59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B1BE-0ACE-453A-9CDE-ADA5776F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DA4D-A18A-4854-A5B4-06EE8C83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C6F5-2607-405D-89C1-FF19A469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82B0-8767-4D8B-ACE7-7F65B00F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EE2C-8C48-403E-840D-A6EF3AE4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4785-7B67-4F62-937A-2F56E81E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A658-2F1D-443F-BCE0-C105494E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02E5-2CE2-4AEA-8CAA-112F1456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E97F-1D5B-4EA9-88A3-B9DBDD5AA52B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olympus.uniurb.it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941400" y="1224000"/>
            <a:ext cx="10190160" cy="46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lmeccanici (Commissione Nazionale Salute e Sicurezza): Intesa, 8 ottobre 201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mmissione Nazionale Salute e Sicurezza ha quindi condiviso, […] le Linee guida […] da intendersi come strumenti di indirizzo ed orientamento per favorire, […]: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a sperimentazione dei c.d. break formativi, quale metodologia innovativa di formazione dei lavoratori sulla sicurezza, […];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o sviluppo di progetti formativi congiunti RLS/RSPP […]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025640" y="711360"/>
            <a:ext cx="1076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e Parti concordano che sia istituito un sistema interno di comunicazione che consenta agli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RLS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di essere informati di tutti gli infortuni avvenuti o di quelli "quasi avvenuti", con chiamata sul luogo dell'evento perché possano constatare quanto accaduto (Motovario). Di norma mensilmente, l'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RLS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e RSPP si incontreranno per proporre ed esaminare i problemi inerenti alla sicurezza, all'igiene del lavoro e all'ambiente, oltre agli interventi preposti per la soluzione degli stessi (Goldoni). Ritengono che la prevenzione degli infortuni possa trarre i maggiori vantaggi in primo luogo dalla collaborazione fra RSPP e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RLS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(Accordo Industria Vero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1974960" y="2098800"/>
            <a:ext cx="8092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gli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RLS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potranno presentare eventuali richieste, aggiuntive rispetto a quanto previsto dalla normativa, relative a specifiche esigenze aziendali e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propost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in ordine alle soluzioni ed agli interventi concreti da assumere, che l’Azienda provvederà ad esaminare (Jungheinrich Italiana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5643720" y="2987640"/>
            <a:ext cx="129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915840" y="366840"/>
            <a:ext cx="1058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i conviene di istituire una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commissione paritetica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[…], che possa monitorare le iniziative e organizzare la “giornata della sicurezza” che sarà indetta in tutti i reparti e negli uffici (Caffitaly); Viene costituita una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Commissione tecnica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mposta da 2 componenti dell'Azienda e da sei RLS nominati dalle Organizzazioni Sindacali che, attraverso indicativamente due incontri annuali, avrà l'obiettivo di monitorare ed esaminare le dinamiche collegate ai fattori "sicurezza", i piani di intervento pianificati ed implementati, compresi quelli formativi. Avrà anche il compito di suggerire e proporre azioni correttive di miglioramento o nuove aree di intervento in funzione dei bisogni trasversali rilevati. (Barill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5573880" y="2917800"/>
            <a:ext cx="144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122480" y="424080"/>
            <a:ext cx="104076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i concerto tra le Parti, in ciascun Sito sarà celebrata la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“Giornata per la salute e la sicurezza sul lavoro”: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evento annuale rivolto a sensibilizzarle promuovere la diffusione della cultura della salute, della sicurezza e del benessere sul luogo di lavoro (Nestlè). Viste le positive esperienze maturate negli anni precedenti (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teatro d'impresa, il concorso sulla sicurezza, la giornata annuale della sicurezza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ecc.), le Parti concordano di continuare a collaborare con le costituite Commissioni Sicurezza sul Lavoro […] con l'obiettivo di proporre e sostenere le diverse iniziative di sensibilizzazione destinate a rafforzare la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cultura della prevenzion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in Azienda (Ferrero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003320" y="1459080"/>
            <a:ext cx="10315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istema di Gestione Ambiente e Sicurezza degli Stabilimenti Italiani, in accordo con le norme tecniche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ISO 14001 e BS OHSAS 18001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è stata completata […]; dal 2019, inizierà la transizione dei sistemi di gestione della sicurezza al nuovo standard internazionale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ISO 45001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(Barilla); Granarolo spa ha provveduto ad implementare il sistema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OHSAS 18001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multi sito di gestione della sicurezza (Granarolo)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07800" y="628560"/>
            <a:ext cx="11695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gli RLS saranno coinvolti per verificare la regolarità delle norme inerenti la sicurezza sull'intero ciclo produttivo; […]verrà introdotta questa clausola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nei contratti d'appalto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 (Granarolo); informazioni relative ad eventuali infortuni verificatisi con i dipendenti delle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imprese appaltatrici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all'interno dell'Azienda; stringenti prescrizioni nell'ambito dei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Capitolati di appalto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sia attraverso la verifica - presso i diversi appaltatori - della sussistenza dei necessari requisiti di sicurezza (Ferrero); consapevolezza delle imprese e dei lavoratori che svolgono attività continuativa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in appalto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all'interno dello stabilimento (Cargill); favorire il loro scambio di informazioni con gli  interlocutori per la sicurezza delle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ditte appaltatrici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(Barilla)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873000" y="1284120"/>
            <a:ext cx="108158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n un'ottica di prevenzione della salute dei lavoratori: sono state organizzate, a titolo di esempio, campagne sul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rischio tabagismo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campagne di prevenzione per rischi sulla salute a livello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cardiovascolar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e lotta a diversi tipi di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tumori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sull'importanza di una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alimentazione corretta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 delle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attività sportiv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. Dati i risultati positivi di queste iniziative e data l'importanza della diffusione della cultura della prevenzione, l'azienda conferma la propria intenzione di proseguire nel percorso intrapreso implementando le azioni sui diversi fattori di rischio (Barilla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989280" y="733320"/>
            <a:ext cx="9775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563c1"/>
                </a:solidFill>
                <a:latin typeface="Times New Roman"/>
              </a:rPr>
              <a:t>d. Lgs 81/2008    art. 2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v) </a:t>
            </a: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"buone prassi”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soluzioni organizzative o procedurali coer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on la normativa vigente e con le norme di buona tecnica, adot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volontariamente e finalizzate a promuovere la salute e sicurezza s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uoghi di lavoro attraverso la riduzione dei rischi e 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miglioramento delle condizioni di lavoro, elaborate e raccolte da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regioni, dall'Istituto superiore per la prevenzione e la sicurez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el lavoro (ISPESL), dall'Istituto nazionale per l'assicur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ontro gli infortuni sul lavoro (INAIL) e dagli organismi paritet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i cui all'articolo 51, validate dalla Commissione consul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ermanente di cui all'articolo 6, previa istruttoria te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ell'ISPESL, che provvede a assicurarne la piu' ampia diffusion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mmagine 1" descr=""/>
          <p:cNvPicPr/>
          <p:nvPr/>
        </p:nvPicPr>
        <p:blipFill>
          <a:blip r:embed="rId1"/>
          <a:stretch/>
        </p:blipFill>
        <p:spPr>
          <a:xfrm>
            <a:off x="1697040" y="119160"/>
            <a:ext cx="8983800" cy="67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ttangolo 3"/>
          <p:cNvSpPr/>
          <p:nvPr/>
        </p:nvSpPr>
        <p:spPr>
          <a:xfrm>
            <a:off x="993600" y="623880"/>
            <a:ext cx="10774440" cy="60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nti di attenz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i e modalità di segnalazione e rilevazione dei “quasi infortuni” e comportamenti insicuri ed elaborazione di Linee guida per promuoverne la diffusione quale strumento di sviluppo della </a:t>
            </a:r>
            <a:r>
              <a:rPr b="1" lang="it-IT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ultura della prevenzione</a:t>
            </a:r>
            <a:r>
              <a:rPr b="0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del miglioramento continuo della sicurezza sul lavoro;</a:t>
            </a:r>
            <a:br>
              <a:rPr sz="3000"/>
            </a:br>
            <a:r>
              <a:rPr b="0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iniziative e progetti </a:t>
            </a:r>
            <a:r>
              <a:rPr b="1" lang="it-IT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rmativi e di aggiornamento dei RLS</a:t>
            </a:r>
            <a:r>
              <a:rPr b="0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alizzati a migliorare ed accrescere la loro competenza in funzione della realtà metalmeccanica e della installazione di impianti, a sostegno di un molo sempre più qualificato di tutti gli attori della prevenzione;</a:t>
            </a:r>
            <a:br>
              <a:rPr sz="32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ttangolo 1"/>
          <p:cNvSpPr/>
          <p:nvPr/>
        </p:nvSpPr>
        <p:spPr>
          <a:xfrm>
            <a:off x="363600" y="1074600"/>
            <a:ext cx="114631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gue) Punti di attenz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it-IT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alisi dei dati degli infortuni e delle malattie professionali</a:t>
            </a:r>
            <a:r>
              <a:rPr b="0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applicazione del Protocollo di Intesa sottoscritto con l’Inail per l’individuazione delle cause e dei fattori di rischio maggiormente diffusi in relazione alle specificità delle diverse attività che compongono la categoria;</a:t>
            </a:r>
            <a:br>
              <a:rPr sz="3000"/>
            </a:br>
            <a:r>
              <a:rPr b="0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individuazione di specifiche azioni in collaborazione con l’Inail finalizzate alla diffusione della </a:t>
            </a:r>
            <a:r>
              <a:rPr b="1" lang="it-IT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ultura della sicurezza</a:t>
            </a:r>
            <a:r>
              <a:rPr b="0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i luoghi di lavoro in funzione delle specificità della categor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www.olympus.uniurb.it/images/headers/banner2.jpg"/>
          <p:cNvPicPr/>
          <p:nvPr/>
        </p:nvPicPr>
        <p:blipFill>
          <a:blip r:embed="rId1"/>
          <a:stretch/>
        </p:blipFill>
        <p:spPr>
          <a:xfrm>
            <a:off x="1206360" y="1542960"/>
            <a:ext cx="9807840" cy="3044880"/>
          </a:xfrm>
          <a:prstGeom prst="rect">
            <a:avLst/>
          </a:prstGeom>
          <a:ln w="0">
            <a:noFill/>
          </a:ln>
        </p:spPr>
      </p:pic>
      <p:sp>
        <p:nvSpPr>
          <p:cNvPr id="45" name="Rettangolo 1"/>
          <p:cNvSpPr/>
          <p:nvPr/>
        </p:nvSpPr>
        <p:spPr>
          <a:xfrm>
            <a:off x="4884480" y="32446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ttangolo 2"/>
          <p:cNvSpPr/>
          <p:nvPr/>
        </p:nvSpPr>
        <p:spPr>
          <a:xfrm>
            <a:off x="3724200" y="5073480"/>
            <a:ext cx="539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0563c1"/>
                </a:solidFill>
                <a:uFillTx/>
                <a:latin typeface="Times New Roman"/>
                <a:ea typeface="Times New Roman"/>
                <a:hlinkClick r:id="rId2"/>
              </a:rPr>
              <a:t>www.olympus.uniurb.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tangolo 1"/>
          <p:cNvSpPr/>
          <p:nvPr/>
        </p:nvSpPr>
        <p:spPr>
          <a:xfrm>
            <a:off x="1365120" y="1150920"/>
            <a:ext cx="92109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rmazion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è stata erogata con l’obiettivo di promuovere e diffondere una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ultura della sicurezza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ipa). attività di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rmazione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informazione per la prevenzione degli infortuni e delle malattie, dirette sia agli aspetti tecnico professionali che a quelli comportamentali; l'elemento della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rmazione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ulta fondamentale per gli aspetti di prevenzione e sicurezza:  (Barilla); Viene riconosciuto alla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rmazione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personale un ruolo centrale sia sotto il profilo della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rmazion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egata agli aspetti tecnici della professione e delle procedure di sicurezza, che sotto il profilo comportamentale per implementare una corretta e diffusa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ultura della sicurezza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(Bolton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ttangolo 1"/>
          <p:cNvSpPr/>
          <p:nvPr/>
        </p:nvSpPr>
        <p:spPr>
          <a:xfrm>
            <a:off x="1398600" y="1835280"/>
            <a:ext cx="9394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ranno attivati momenti di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rmazion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evisti dalle norme vigenti (Goldoni); l'RSPP con gli RLS ed i capireparto convengono di continuare e portare a termine il percorso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rmativ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iziato (Casappa); L’Azienda si impegna nella diffusione della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ultura della sicurezza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in una capillare e puntuale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rmazion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ecifica sulla sicurezza considerati strumenti di fondamentale rilievo per garantire la sicurezza sui luoghi di lavoro (Jungheinrich Italian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ttangolo 1"/>
          <p:cNvSpPr/>
          <p:nvPr/>
        </p:nvSpPr>
        <p:spPr>
          <a:xfrm>
            <a:off x="1935000" y="855720"/>
            <a:ext cx="80312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472c4"/>
                </a:solidFill>
                <a:latin typeface="Times New Roman"/>
                <a:ea typeface="Times New Roman"/>
              </a:rPr>
              <a:t>Anche negli accordi sul lavoro agile non manca un riferimento alla form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dipendenti che aderiscono al progetto ricevono adeguata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formazione/formazion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d eventuali aggiornamenti) circa il corretto utilizzo di attrezzature e della postazione di lavoro (Ducati); il lavoratore è tenuto a prendersi cura della propria sicurezza e salute […] A tal fine, il lavoratore riceve preventiva adeguata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rmazione/informazion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…] e apposita documentazione informativa (FCA)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ttangolo 1"/>
          <p:cNvSpPr/>
          <p:nvPr/>
        </p:nvSpPr>
        <p:spPr>
          <a:xfrm>
            <a:off x="1844640" y="825480"/>
            <a:ext cx="85028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ottolinea l'azione degli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LS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a nel loro ruolo di primari interlocutori nelle fasi di valutazione, monitoraggio, analisi dei fattori collegati all'area della sicurezza, sia nelle loro attività finalizzate a stimolare e suggerire all'organizzazione aziendale interventi di miglioramento delle condizioni complessive di sicurezza (Barilla); Le Parti si danno reciprocamente atto della necessità di cointeressare gli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LS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l sistema di informazione e sensibilizzazione in materia di sicurezza (Granarolo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716040" y="457200"/>
            <a:ext cx="10985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e Parti intendono altresì valorizzare il ruolo dei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Rappresentanti dei Lavoratori per la Sicurezza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quali agenti di cambiamento rivolti all’affermazione di una cultura della sicurezza e della salvaguardia ambientale (Nestlè). Con l'obiettivo di rafforzare gli strumenti fino ad oggi adottati e in un'ottica di migliore valorizzazione dei diversi attori […] ed in particolare dei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RLS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Azienda e OO.SS., […], prevedendo incontri periodici di sito […] finalizzati ad informare i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Rappresentanti del Lavoratori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ulle principali iniziative in atto in tema di sicurezza, sull'andamento infortuni, sulla evoluzione normativa e a rispondere a istanze e/o quesiti avanzati dagli stessi nell'esercizio delle proprie funzioni (Ferrero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5T10:51:58Z</dcterms:created>
  <dc:creator>Giuri</dc:creator>
  <dc:description/>
  <dc:language>en-US</dc:language>
  <cp:lastModifiedBy>Prof Balandi</cp:lastModifiedBy>
  <dcterms:modified xsi:type="dcterms:W3CDTF">2019-01-22T20:58:06Z</dcterms:modified>
  <cp:revision>41</cp:revision>
  <dc:subject/>
  <dc:title>Presentazione standard di PowerPoint</dc:title>
</cp:coreProperties>
</file>