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657-0662-4405-B388-70AA21BC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9D3-FA62-4E9E-BD9C-FBE9F05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275-7713-441C-991C-E0980E7F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CB3-4E29-4D08-8488-9A4E4E25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F921-906C-48FB-9FCC-61054704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2A3E-8BFD-4D8F-A20C-043CA955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E95-E7C7-44D0-A838-0C0AE9AF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8A61-90D5-487B-8C9E-D3BFDF0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ED1E-5BEE-482B-AA86-93B66E6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3D8-4117-488B-9EB5-0F9946D5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DCD1-7A4C-4102-B783-5ACB5CA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54B-F187-44B9-9552-D6C09C7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7F5E-CFE3-45E0-8F42-7CD3766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261D-5344-4184-A44F-7C352A2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FCBE-2D72-4BB5-B917-48FA754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82C-FAC5-466E-8A10-CF824697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B6FA-DAFB-485D-8CFE-89D4E49C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4D9-EBF5-4329-8C6E-A6B6A3B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583-D4FD-4636-9241-24EB141A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FA2-478E-44D6-944D-7066DE68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716-9FBB-471D-BF68-C36D9F8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273-CC21-4BD4-A448-A82F319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3CF-CF72-491E-9C87-838E4231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5CF-D84B-475C-97C9-BAAEF06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D3E9-F987-415C-A43F-965E834F04A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16A-633F-458F-813C-1EDF900512C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DALLO STATUTO DEI LAVORATORI AL D. LGS. N. 626/199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PROTEZIONE DA AGENTI FISICI: RUMO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-TER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ROTEZIONE DA AGENTI FISICI: CAMPI ELETTROMAGNET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I ATTREZZATURE MUNITE DI VIDEOTERM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ROTEZIONE DEI LAVORATORI CONTRO I RISCHI CONNESSI    ALL’ESPOSIZIONE AD AMIAN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    PROTEZIONE DA AGENTI CANCEROGENI MUTAGEN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SORVEGLIANZA SANITAR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PROTEZIONE DA AGENTI CHIM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   PROTEZIONE DA AGENTI BIOLOGICI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SORVEGLIANZA SANITAR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PROTEZIONE DA ATMOSFERE ESPLOS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SANZIONI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ISPOSIZIONI TRANSITORIE E F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086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LEGGE 23 dicembre 1978, n. 83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tituzione del Servizio Sanitario Naziona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0 Legge n. 833/197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ttività di preven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0, comma 1, Legge 833/197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 attività di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mprendono:   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lett.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a individuazione, l'accertamento ed il controllo dei fattori di nocività, di pericolosità e di deterioramento negli ambienti di vita e di lavoro [..]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20, comma 3, Legge 833/1978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li interventi d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all'interno degli ambienti di lavoro, concernenti 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icerc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l'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abora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 l'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ttua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isur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necessarie ed idonee a tutelare la salute e l'integrità fisica dei lavoratori, connesse alla particolarità del lavoro e non previste da specifiche norme di legge, sono effettuati sulla base di esigenze verificat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giuntamen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n le rappresentanze sindacali ed il datore di lavoro, secondo le modalità previste dai contratti o accordi collettivi applicati nell'unità produttiva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1280" y="3962880"/>
            <a:ext cx="8137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rot="10800000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31 luglio 1980, n. 61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stituzione dell’Istituto superiore per la prevenzione e la sicurezza del lavor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(art. 23 della Legge n. 833 del 1978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, DPR. n. 619/19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iti e modalità di svolgimen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3, comma 1, DPR. n. 619/1980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ettano all’Istitut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lett. a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la ricerca, lo studio, la sperimentazione e l'elaborazione dei criteri e delle metodologie per la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degli infortuni e delle malattie professionali con particolare riguardo all'evoluzione tecnologica degli impianti, dei materiali, delle attrezzature e dei processi produttivi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[..]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DECRETO LEGISLATIVO 19 settembre 1994, n. 62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tuazione delle direttiv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9/391/CE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89/654/CEE, 89/655/CEE, 89/656/CEE, 90/269/CEE, 90/270/CEE, 90/394/CEE e 90/679/CEE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guardanti il miglioramento della sicurezza e della salute dei lavoratori sul luogo di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: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ISPOSIZIONI GENER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</a:t>
            </a:r>
            <a:r>
              <a:rPr b="0" lang="it-IT" sz="800" spc="-1" strike="noStrike">
                <a:solidFill>
                  <a:srgbClr val="292929"/>
                </a:solidFill>
                <a:latin typeface="Arial"/>
              </a:rPr>
              <a:t>:               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 SERVIZIO DI PREVENZIONE E PROTEZI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PREVENZIONE INCENDI, EVACUAZIONE DEI LAVORATORI, PRONTO SOCCORS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V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SORVEGLIANZA SANITARI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CONSULTAZIONE E PARTECIPAZIONE DEI LAVORATOR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INFORMAZIONE E FORMAZIONE DEI LAVORATOR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DISPOSIZIONI CONCERNENTI LA PUBBLICA AMMINISTRAZI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STATISTICHE DEGLI INFORTUNI E DELLE MALATTIE PROFESSION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: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LUOGHI DI LAVOR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I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ELLE ATTREZZATURE DI LAVOR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V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EI DISPOSITIVI DI PROTEZIONE INDIVIDUA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MOVIMENTAZIONE MANUALE DEI CARICH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14:23:28Z</dcterms:created>
  <dc:creator>Giulia</dc:creator>
  <dc:description/>
  <dc:language>en-US</dc:language>
  <cp:lastModifiedBy>Giulia</cp:lastModifiedBy>
  <dcterms:modified xsi:type="dcterms:W3CDTF">2017-03-17T13:17:08Z</dcterms:modified>
  <cp:revision>31</cp:revision>
  <dc:subject/>
  <dc:title>SICUREZZA NEI LUOGHI DI LAVORO</dc:title>
</cp:coreProperties>
</file>