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274-2D8A-4628-A7BE-3A8DA8E7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2BA-9DD0-434E-BF28-C7CBCD93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19D-CF74-4324-99A7-7B495D30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BEA-4CB4-4E60-91D0-09629E3C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B05C-B3F6-4C1A-9F27-5CADFC86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A53B-8B7C-46EC-995E-78E2ABDC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5F93-EC56-4E4D-A68A-4DD4DA86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78E4-4438-4193-A51B-F60D21F5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5686-2654-4D04-8503-E10699BA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7EAD-20B5-420C-B507-42C4153D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D585-1ADE-463E-993E-A1F822E2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CF9-2D77-49D2-8468-07371F87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88F8-4554-418C-A528-68C80436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CA0A-D6AB-4A9B-B920-4A642B23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750F-74B3-44FB-AFBF-A76B8560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BFC3-9BC1-43AE-B1AA-1443644D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D443-E4E5-42E6-AE45-83C6550B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3A7-7581-49A0-A463-1547AB2E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0D0-C786-453A-B02B-1E413EF2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84B-FC8F-45AF-A3ED-03F6B672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281-C6E1-4ED2-8607-508B550D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DE8-5D51-46A0-ACBB-8B6A0944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FC7-61F6-498A-8FB0-217F47B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837-9C23-4766-967C-4A67DC6A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96D5-7AA6-4708-B02A-8A0E0AAA5A44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6E7E-BC41-4FEF-BA8A-395282831C72}" type="slidenum">
              <a:rPr b="0" lang="it-IT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19 marzo 1956, n. 30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Norme generali per l’igiene del lavor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292929"/>
                </a:solidFill>
                <a:uFillTx/>
                <a:latin typeface="Arial"/>
              </a:rPr>
              <a:t>LEGGE 20 maggio 1970, n. 300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Statuto dei lavoratori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Norme sulla tutela della libertà e dignità dei lavoratori, della libertà sindacale e dell’attività sindacale, nei luoghi di lavoro e norme sul collocament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1578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292929"/>
                </a:solidFill>
                <a:uFillTx/>
                <a:latin typeface="Arial"/>
              </a:rPr>
              <a:t>Art. 9, St. Lav.,</a:t>
            </a: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Tutela della salute e dell’integrità fisica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I lavoratori, mediante loro rappresentanze, hanno diritto di controllare l’applicazione delle norme per la prevenzione degli infortuni e delle malattie professionali e di promuovere la ricerca, l’elaborazione e l’attuazione di tutte le misure idonee a tutelare la loro salute e la loro integrità fisic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egnaposto contenuto 3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256360" cy="388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6912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Legge 3 agosto 2007, n. 123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Misure in tema di tutela della salute e della sicurezza sul lavoro e delega al Governo per il riassetto e la riforma della normativa in materia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Art. 1, Legge n. 123/2007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Delega al Governo per il riassetto e la riforma della normativa in materia di tutela della salute e della sicurezza sul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9 aprile 2008, n. 81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Attuazione dell’articolo 1 della legge 3 agosto 2007, n. 123, in materia di tutela della salute e della sicurezza nei luoghi di lavor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Art. 2, comma 1, D. Lgs. 81/2008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lett. a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)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“lavoratore”: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persona che, indipendentemente dalla tipologia contrattuale, svolge un’attività lavorativa nell’ambito dell’organizzazione di un datore di lavoro pubblico o privato [..]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27 aprile 1955, n. 547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Norme per la prevenzione degli infortuni sul lavor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TITOLO II, DPR. n. 547/1955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AMBIENTI, POSTI DI LAVORO E DI PASSAGGI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CAPO I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Disposizioni di carattere generale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 8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 Pavimenti e passagg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 9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Sola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0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Aperture nel suolo e nelle paret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1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Posti di lavoro e di passaggi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2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Schermi paraschegg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3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Uscite dai locali di lavo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4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Uscite dai locali di lavo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5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Spazio destinato al lavorato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TITOLO III, DPR. n. 547/1955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NORME GENERALI DI PROTEZIONE DELLE MACCHIN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CAPO III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Trasmissioni e ingranagg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5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Organi ed elementi per la trasmissione del mot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6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Alberi, cinghie e funi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7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Alberi, cinghie e funi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8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Alberi, cinghie e funi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9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Ingranagg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0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Coni e cilindri di friz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1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Catene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2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Montaggio e smontaggio delle cinghi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3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Ganci portacinghi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4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Giunzione delle cinghi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5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Coppie di pulegge fissa e fo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6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Disinnesti di sezionamento nelle trasmissioni estes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7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Preavviso di avviamento di trasmission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DPR n. 547/1955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DISPOSIZIONI GENER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AMBIENTI, POSTI DI LAVORO E DI PASSAGGI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NORME GENERALI DI PROTEZIONE DELLE MACCHI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V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NORME PARTICOLARI DI PROTEZIONE PER DETERMINATE            MACCHI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MEZZI ED APPARECCHI DI SOLLEVAMENTO, DI TRASPORTO E DI                IMMAGAZZINAMENTO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IMPIANTI ED APPARECCHI VAR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IMPIANTI, MACCHINE ED APPARECCHI ELETTRIC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MATERIE E PRODOTTI PERICOLOSI O NOCIV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X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MANUTENZIONE E RIPARAZ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MEZZI PERSONALI DI PROTEZIONE E SOCCORSI D’ URGENZ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NORME PE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DISPOSIZIONI TRANSITORIE E FI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19 marzo 1956, n. 30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Norme di prevenzione degli infortuni sul lavoro integrative di quelle generali emanate con Decreto del Presidente della Repubblica 27 aprile 1955, n. 547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18:42:43Z</dcterms:created>
  <dc:creator>Giulia</dc:creator>
  <dc:description/>
  <dc:language>en-US</dc:language>
  <cp:lastModifiedBy>Giuri</cp:lastModifiedBy>
  <dcterms:modified xsi:type="dcterms:W3CDTF">2017-03-23T11:38:35Z</dcterms:modified>
  <cp:revision>26</cp:revision>
  <dc:subject/>
  <dc:title>Diapositiva 1</dc:title>
</cp:coreProperties>
</file>