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5DC-03B9-4EFA-B214-C03D9F3B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7C7-03FD-4D1C-81A6-78138409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6B5-7402-40F5-8A46-2EE85CD6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807-8B65-457A-88D6-7386ED83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9A40-85AB-489C-8D59-22BFA3E6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73FE-C69C-4CFD-B0C3-1B40A1D2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E10D-A777-4D45-AEF1-8B0FB7B9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61F1-BA91-4829-8A83-FEA587C9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7F3E-F200-4925-9631-DCD78BF8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3EB0-28DD-4AE3-A6B1-70EE44BE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A152-7A14-43BD-BD46-C5DD7EB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197-EAA6-4F0C-81AB-C6F4F02D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8ED0-8B69-4B3A-9243-7314F7A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D8D1-A574-4B6F-8625-5C493405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97A2-E710-4534-912B-778628CA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746A-DB0D-4F20-943F-4D48A178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D91-1100-43F8-9529-07403922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066-BBAE-4F9D-8046-4812549B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BE1-042F-4E60-B009-FB6E3EB4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D75-64B0-4873-B1EA-8318FAF8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86A-D3A2-4FBA-9A99-1DBF7A5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977-BDE6-43F3-8946-3C89092B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658-41DC-4153-89B7-8153EE51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E52-B1EC-4191-A968-EBE4D0E4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D15-A741-47ED-9A66-33F7D40C4FC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690E-566A-4A4D-8A51-51F032708ED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DALLO STATUTO DEI LAVORATORI AL D. LGS. N. 626/199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PROTEZIONE DA AGENTI FISICI: RUMO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-TER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PROTEZIONE DA AGENTI FISICI: CAMPI ELETTROMAGNET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USO DI ATTREZZATURE MUNITE DI VIDEOTERMI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PROTEZIONE DEI LAVORATORI CONTRO I RISCHI CONNESSI    ALL’ESPOSIZIONE AD AMIANT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        PROTEZIONE DA AGENTI CANCEROGENI MUTAGEN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SORVEGLIANZA SANITARIA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PROTEZIONE DA AGENTI CHIM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       PROTEZIONE DA AGENTI BIOLOGICI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SORVEGLIANZA SANITARIA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I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PROTEZIONE DA ATMOSFERE ESPLOSIV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X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SANZIONI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DISPOSIZIONI TRANSITORIE E FI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086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LEGGE 23 dicembre 1978, n. 833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stituzione del Servizio Sanitario Naziona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20 Legge n. 833/197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ttività di prevenzio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20, comma 1, Legge 833/197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 attività di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evenzion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comprendono:    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lett.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a individuazione, l'accertamento ed il controllo dei fattori di nocività, di pericolosità e di deterioramento negli ambienti di vita e di lavoro [..]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20, comma 3, Legge 833/1978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li interventi d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evenzion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all'interno degli ambienti di lavoro, concernenti l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icerc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l'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laborazion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e l'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ttuazion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d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isur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necessarie ed idonee a tutelare la salute e l'integrità fisica dei lavoratori, connesse alla particolarità del lavoro e non previste da specifiche norme di legge, sono effettuati sulla base di esigenze verificate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giuntamen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con le rappresentanze sindacali ed il datore di lavoro, secondo le modalità previste dai contratti o accordi collettivi applicati nell'unità produttiva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11280" y="3962880"/>
            <a:ext cx="8137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 rot="10800000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31 luglio 1980, n. 61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stituzione dell’Istituto superiore per la prevenzione e la sicurezza del lavoro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(art. 23 della Legge n. 833 del 1978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3, DPR. n. 619/198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iti e modalità di svolgimen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3, comma 1, DPR. n. 619/1980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pettano all’Istitut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lett. a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la ricerca, lo studio, la sperimentazione e l'elaborazione dei criteri e delle metodologie per la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evenzion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degli infortuni e delle malattie professionali con particolare riguardo all'evoluzione tecnologica degli impianti, dei materiali, delle attrezzature e dei processi produttivi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[..]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DECRETO LEGISLATIVO 19 settembre 1994, n. 62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ttuazione delle direttiv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9/391/CE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89/654/CEE, 89/655/CEE, 89/656/CEE, 90/269/CEE, 90/270/CEE, 90/394/CEE e 90/679/CEE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guardanti il miglioramento della sicurezza e della salute dei lavoratori sul luogo di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N. 626/1994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: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DISPOSIZIONI GENER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</a:t>
            </a:r>
            <a:r>
              <a:rPr b="0" lang="it-IT" sz="800" spc="-1" strike="noStrike">
                <a:solidFill>
                  <a:srgbClr val="292929"/>
                </a:solidFill>
                <a:latin typeface="Arial"/>
              </a:rPr>
              <a:t>:               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  SERVIZIO DI PREVENZIONE E PROTEZIO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 PREVENZIONE INCENDI, EVACUAZIONE DEI LAVORATORI, PRONTO SOCCORS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V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SORVEGLIANZA SANITARI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 CONSULTAZIONE E PARTECIPAZIONE DEI LAVORATOR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INFORMAZIONE E FORMAZIONE DEI LAVORATOR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DISPOSIZIONI CONCERNENTI LA PUBBLICA AMMINISTRAZIO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I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STATISTICHE DEGLI INFORTUNI E DELLE MALATTIE PROFESSION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: 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LUOGHI DI LAVOR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I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USO DELLE ATTREZZATURE DI LAVOR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V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USO DEI DISPOSITIVI DI PROTEZIONE INDIVIDUA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MOVIMENTAZIONE MANUALE DEI CARICH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14:23:28Z</dcterms:created>
  <dc:creator>Giulia</dc:creator>
  <dc:description/>
  <dc:language>en-US</dc:language>
  <cp:lastModifiedBy>Giulia</cp:lastModifiedBy>
  <dcterms:modified xsi:type="dcterms:W3CDTF">2017-03-17T13:17:08Z</dcterms:modified>
  <cp:revision>31</cp:revision>
  <dc:subject/>
  <dc:title>SICUREZZA NEI LUOGHI DI LAVORO</dc:title>
</cp:coreProperties>
</file>