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83C-AB2D-4BF4-8A61-5E663585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899-7A6E-45C7-82DF-39E2845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B0B-D6CC-47BC-A31F-C7C0BE7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D2A-1A3C-4016-95C0-C5195F4B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771-C159-4231-A523-A88CA63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082-E87E-4576-8041-E3328E28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B8C-2FBB-4208-BB65-54D870E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EAC-84CD-4B52-A684-F28A6D2A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BB8-C25B-4542-B447-5E20F5F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22D-5194-4FC9-BEA1-DE3EEB7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82F-140A-4490-8AB8-004D8C0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9D2-DBFC-4B91-B6DF-178E286C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815-D8F5-4F6C-8C60-9AD3785DDC3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ympus.uniurb.it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41400" y="1224000"/>
            <a:ext cx="101901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meccanici (Commissione Nazionale Salute e Sicurezza): Intesa, 8 ottobre 20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missione Nazionale Salute e Sicurezza ha quindi condiviso, […] le Linee guida […] da intendersi come strumenti di indirizzo ed orientamento per favorire, […]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perimentazione dei c.d. break formativi, quale metodologia innovativa di formazione dei lavoratori sulla sicurezza, […];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 sviluppo di progetti formativi congiunti RLS/RSPP […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25640" y="711360"/>
            <a:ext cx="1076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concordano che sia istituito un sistema interno di comunicazione che consenta a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essere informati di tutti gli infortuni avvenuti o di quelli "quasi avvenuti", con chiamata sul luogo dell'evento perché possano constatare quanto accaduto (Motovario). Di norma mensilmente, l'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RSPP si incontreranno per proporre ed esaminare i problemi inerenti alla sicurezza, all'igiene del lavoro e all'ambiente, oltre agli interventi preposti per la soluzione degli stessi (Goldoni). Ritengono che la prevenzione degli infortuni possa trarre i maggiori vantaggi in primo luogo dalla collaborazione fra RSPP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Accordo Industria Ver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74960" y="2098800"/>
            <a:ext cx="8092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otranno presentare eventuali richieste, aggiuntive rispetto a quanto previsto dalla normativa, relative a specifiche esigenze aziendali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propos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ordine alle soluzioni ed agli interventi concreti da assumere, che l’Azienda provvederà ad esaminare (Jungheinrich Italiana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643720" y="2987640"/>
            <a:ext cx="129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15840" y="366840"/>
            <a:ext cx="1058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conviene di istituire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paritet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[…], che possa monitorare le iniziative e organizzare la “giornata della sicurezza” che sarà indetta in tutti i reparti e negli uffici (Caffitaly); Viene costituita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tecnic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osta da 2 componenti dell'Azienda e da sei RLS nominati dalle Organizzazioni Sindacali che, attraverso indicativamente due incontri annuali, avrà l'obiettivo di monitorare ed esaminare le dinamiche collegate ai fattori "sicurezza", i piani di intervento pianificati ed implementati, compresi quelli formativi. Avrà anche il compito di suggerire e proporre azioni correttive di miglioramento o nuove aree di intervento in funzione dei bisogni trasversali rilevati. (Bar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573880" y="2917800"/>
            <a:ext cx="144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22480" y="424080"/>
            <a:ext cx="10407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 concerto tra le Parti, in ciascun Sito sarà celebrata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“Giornata per la salute e la sicurezza sul lavoro”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vento annuale rivolto a sensibilizzarle promuovere la diffusione della cultura della salute, della sicurezza e del benessere sul luogo di lavoro (Nestlè). Viste le positive esperienze maturate negli anni precedenti (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eatro d'impresa, il concorso sulla sicurezza, la giornata annuale del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ecc.), le Parti concordano di continuare a collaborare con le costituite Commissioni Sicurezza sul Lavoro […] con l'obiettivo di proporre e sostenere le diverse iniziative di sensibilizzazione destinate a rafforzare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ultura della preven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Azienda (Ferr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03320" y="1459080"/>
            <a:ext cx="1031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stema di Gestione Ambiente e Sicurezza degli Stabilimenti Italiani, in accordo con le norme tecnich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14001 e BS 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è stata completata […]; dal 2019, inizierà la transizione dei sistemi di gestione della sicurezza al nuovo standard internaziona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45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; Granarolo spa ha provveduto ad implementare il sistem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ulti sito di gestione della sicurezza (Granarolo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7800" y="628560"/>
            <a:ext cx="1169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RLS saranno coinvolti per verificare la regolarità delle norme inerenti la sicurezza sull'intero ciclo produttivo; […]verrà introdotta questa clauso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nei contratti d'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(Granarolo); informazioni relative ad eventuali infortuni verificatisi con i dipendenti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mpres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'Azienda; stringenti prescrizioni nell'ambit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pitolati di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ia attraverso la verifica - presso i diversi appaltatori - della sussistenza dei necessari requisiti di sicurezza (Ferrero); consapevolezza delle imprese e dei lavoratori che svolgono attività continuativ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n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o stabilimento (Cargill); favorire il loro scambio di informazioni con gli  interlocutori per la sicurezza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ditt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73000" y="1284120"/>
            <a:ext cx="1081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un'ottica di prevenzione della salute dei lavoratori: sono state organizzate, a titolo di esempio, campagne sul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ischio tabagis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campagne di prevenzione per rischi sulla salute a livello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rdiovascola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lotta a diversi tipi d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umor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ull'importanza di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limentazione corrett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ttività sportiv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Dati i risultati positivi di queste iniziative e data l'importanza della diffusione della cultura della prevenzione, l'azienda conferma la propria intenzione di proseguire nel percorso intrapreso implementando le azioni sui diversi fattori di rischio (Baril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89280" y="733320"/>
            <a:ext cx="9775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563c1"/>
                </a:solidFill>
                <a:latin typeface="Times New Roman"/>
              </a:rPr>
              <a:t>d. Lgs 81/2008    art.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)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"buone prassi”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oluzioni organizzative o procedurali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 la normativa vigente e con le norme di buona tecnica, ado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olontariamente e finalizzate a promuovere la salute e sicurezza 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uoghi di lavoro attraverso la riduzione dei rischi e 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e condizioni di lavoro, elaborate e raccolte d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gioni, dall'Istituto superiore per la prevenzione e la sicur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 lavoro (ISPESL), dall'Istituto nazionale per l'assicu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 gli infortuni sul lavoro (INAIL) e dagli organismi parit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 cui all'articolo 51, validate dalla Commissione 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manente di cui all'articolo 6, previa istruttori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'ISPESL, che provvede a assicurarne la piu' ampia diffus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magine 1" descr=""/>
          <p:cNvPicPr/>
          <p:nvPr/>
        </p:nvPicPr>
        <p:blipFill>
          <a:blip r:embed="rId1"/>
          <a:stretch/>
        </p:blipFill>
        <p:spPr>
          <a:xfrm>
            <a:off x="1697040" y="119160"/>
            <a:ext cx="89838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tangolo 3"/>
          <p:cNvSpPr/>
          <p:nvPr/>
        </p:nvSpPr>
        <p:spPr>
          <a:xfrm>
            <a:off x="993600" y="623880"/>
            <a:ext cx="1077444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i e modalità di segnalazione e rilevazione dei “quasi infortuni” e comportamenti insicuri ed elaborazione di Linee guida per promuoverne la diffusione quale strumento di sviluppo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prevenzione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el miglioramento continuo della sicurezza sul lavoro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iziative e progetti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i e di aggiornamento dei RLS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lizzati a migliorare ed accrescere la loro competenza in funzione della realtà metalmeccanica e della installazione di impianti, a sostegno di un molo sempre più qualificato di tutti gli attori della prevenzione;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1"/>
          <p:cNvSpPr/>
          <p:nvPr/>
        </p:nvSpPr>
        <p:spPr>
          <a:xfrm>
            <a:off x="363600" y="1074600"/>
            <a:ext cx="11463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gue) 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isi dei dati degli infortuni e delle malattie professional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pplicazione del Protocollo di Intesa sottoscritto con l’Inail per l’individuazione delle cause e dei fattori di rischio maggiormente diffusi in relazione alle specificità delle diverse attività che compongono la categoria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dividuazione di specifiche azioni in collaborazione con l’Inail finalizzate alla diffusione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 luoghi di lavoro in funzione delle specificità della catego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olympus.uniurb.it/images/headers/banner2.jpg"/>
          <p:cNvPicPr/>
          <p:nvPr/>
        </p:nvPicPr>
        <p:blipFill>
          <a:blip r:embed="rId1"/>
          <a:stretch/>
        </p:blipFill>
        <p:spPr>
          <a:xfrm>
            <a:off x="1206360" y="1542960"/>
            <a:ext cx="9807840" cy="3044880"/>
          </a:xfrm>
          <a:prstGeom prst="rect">
            <a:avLst/>
          </a:prstGeom>
          <a:ln w="0">
            <a:noFill/>
          </a:ln>
        </p:spPr>
      </p:pic>
      <p:sp>
        <p:nvSpPr>
          <p:cNvPr id="45" name="Rettangolo 1"/>
          <p:cNvSpPr/>
          <p:nvPr/>
        </p:nvSpPr>
        <p:spPr>
          <a:xfrm>
            <a:off x="4884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2"/>
          <p:cNvSpPr/>
          <p:nvPr/>
        </p:nvSpPr>
        <p:spPr>
          <a:xfrm>
            <a:off x="3724200" y="507348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www.olympus.uniurb.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"/>
          <p:cNvSpPr/>
          <p:nvPr/>
        </p:nvSpPr>
        <p:spPr>
          <a:xfrm>
            <a:off x="1365120" y="1150920"/>
            <a:ext cx="9210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stata erogata con l’obiettivo di promuovere e diffondere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pa). attività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formazione per la prevenzione degli infortuni e delle malattie, dirette sia agli aspetti tecnico professionali che a quelli comportamentali; l'element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ulta fondamentale per gli aspetti di prevenzione e sicurezza:  (Barilla); Viene riconosciuto a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ersonale un ruolo centrale sia sotto il profil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ata agli aspetti tecnici della professione e delle procedure di sicurezza, che sotto il profilo comportamentale per implementare una corretta e diffus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Bolton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1"/>
          <p:cNvSpPr/>
          <p:nvPr/>
        </p:nvSpPr>
        <p:spPr>
          <a:xfrm>
            <a:off x="1398600" y="1835280"/>
            <a:ext cx="9394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nno attivati moment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isti dalle norme vigenti (Goldoni); l'RSPP con gli RLS ed i capireparto convengono di continuare e portare a termine il percors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ziato (Casappa); L’Azienda si impegna nella diffusione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n una capillare e puntua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 sulla sicurezza considerati strumenti di fondamentale rilievo per garantire la sicurezza sui luoghi di lavoro (Jungheinrich Itali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tangolo 1"/>
          <p:cNvSpPr/>
          <p:nvPr/>
        </p:nvSpPr>
        <p:spPr>
          <a:xfrm>
            <a:off x="1935000" y="855720"/>
            <a:ext cx="8031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Anche negli accordi sul lavoro agile non manca un riferimento alla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pendenti che aderiscono al progetto ricevono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zione/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 eventuali aggiornamenti) circa il corretto utilizzo di attrezzature e della postazione di lavoro (Ducati); il lavoratore è tenuto a prendersi cura della propria sicurezza e salute […] A tal fine, il lavoratore riceve preventiva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/in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…] e apposita documentazione informativa (FC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"/>
          <p:cNvSpPr/>
          <p:nvPr/>
        </p:nvSpPr>
        <p:spPr>
          <a:xfrm>
            <a:off x="1844640" y="825480"/>
            <a:ext cx="8502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ttolinea l'azione de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nel loro ruolo di primari interlocutori nelle fasi di valutazione, monitoraggio, analisi dei fattori collegati all'area della sicurezza, sia nelle loro attività finalizzate a stimolare e suggerire all'organizzazione aziendale interventi di miglioramento delle condizioni complessive di sicurezza (Barilla); Le Parti si danno reciprocamente atto della necessità di cointeressare 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sistema di informazione e sensibilizzazione in materia di sicurezza (Granarol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16040" y="457200"/>
            <a:ext cx="1098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intendono altresì valorizzare il ruol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i Lavoratori per 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quali agenti di cambiamento rivolti all’affermazione di una cultura della sicurezza e della salvaguardia ambientale (Nestlè). Con l'obiettivo di rafforzare gli strumenti fino ad oggi adottati e in un'ottica di migliore valorizzazione dei diversi attori […] ed in particolare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Azienda e OO.SS., […], prevedendo incontri periodici di sito […] finalizzati ad informare 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l Lavorator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e principali iniziative in atto in tema di sicurezza, sull'andamento infortuni, sulla evoluzione normativa e a rispondere a istanze e/o quesiti avanzati dagli stessi nell'esercizio delle proprie funzioni (Ferrero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0:51:58Z</dcterms:created>
  <dc:creator>Giuri</dc:creator>
  <dc:description/>
  <dc:language>en-US</dc:language>
  <cp:lastModifiedBy>Prof Balandi</cp:lastModifiedBy>
  <dcterms:modified xsi:type="dcterms:W3CDTF">2019-01-22T20:58:06Z</dcterms:modified>
  <cp:revision>41</cp:revision>
  <dc:subject/>
  <dc:title>Presentazione standard di PowerPoint</dc:title>
</cp:coreProperties>
</file>