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E15-FCD0-4296-ADFD-41BEBC9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C8E-6B9C-41F0-983E-3836BB8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E26-4851-45EF-805E-9DD3C5B1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92F-690D-467F-A464-F9AA86A8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DAB-CA95-451B-A821-3F1F0280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4446-2626-4006-961A-B35DF54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21D-74FD-4564-A287-78CE8993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6297-CF10-4D20-B6AA-90B6618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8016-09CF-4C93-8A11-5CCC661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DEC2-5854-46DC-8245-25DD50D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7AF2-7DF8-4E98-B21F-11F35F8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F88-3B8E-4DA2-8F49-9211666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F938-EBEE-4FBB-8016-9791045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DC1C-F63A-4591-A402-F7D0DAD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D84-D739-4D2A-A192-FD6A99D4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2F9-7E21-4DDF-9FD0-401AA55D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0D5-5AF8-4416-A3F0-B8B6C581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1B-B465-4839-B419-368450E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050-14AA-45D1-BB0E-9077A36B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046-D964-4DF6-BFEA-522A982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FA0-E837-4636-9C9E-51C09913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7C2-A26D-45AA-9777-5191868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5F4-29C1-464B-A0E8-F5DD26C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44D-2AAE-4901-B5B0-CEA4FB5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276-D4BA-4192-B726-4A4C0B15A12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521-45FF-4DD8-8162-F1DCB060CFE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osha.europa.eu/it/about-eu-osha" TargetMode="External"/><Relationship Id="rId2" Type="http://schemas.openxmlformats.org/officeDocument/2006/relationships/hyperlink" Target="https://osha.europa.eu/it/about-eu-osha" TargetMode="External"/><Relationship Id="rId3" Type="http://schemas.openxmlformats.org/officeDocument/2006/relationships/hyperlink" Target="https://osha.europa.eu/it/about-eu-osha" TargetMode="External"/><Relationship Id="rId4" Type="http://schemas.openxmlformats.org/officeDocument/2006/relationships/hyperlink" Target="https://osha.europa.eu/it/about-eu-osha" TargetMode="External"/><Relationship Id="rId5" Type="http://schemas.openxmlformats.org/officeDocument/2006/relationships/hyperlink" Target="https://osha.europa.eu/it/about-eu-osha" TargetMode="External"/><Relationship Id="rId6" Type="http://schemas.openxmlformats.org/officeDocument/2006/relationships/hyperlink" Target="https://osha.europa.eu/it/about-eu-osha" TargetMode="External"/><Relationship Id="rId7" Type="http://schemas.openxmlformats.org/officeDocument/2006/relationships/hyperlink" Target="https://osha.europa.eu/it/about-eu-osha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EUROP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2929"/>
                </a:solidFill>
                <a:uFillTx/>
                <a:latin typeface="Arial"/>
              </a:rPr>
              <a:t>Art. 118 A, TCEE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i stati membri si adoperano per promuovere il 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er contribuire alla realizzazione dell'obiettivo previsto al paragrafo 1, il Consiglio, deliberando a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 disposizioni adottate a norma del presente articolo non ostano a che ciascuno stato membro mantenga e stabilisca misure, compatibili con il presente trattato, per una maggiore protezione delle condizioni di lavoro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5 giugno 1991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</a:t>
            </a:r>
            <a:r>
              <a:rPr b="0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91/383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he completa le misure volte a promuovere il miglioramento della sicurezza e della salute durante il lavoro dei lavoratori aventi un rapporto di lavoro a durata determinata o un rapporto di lavoro interinale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vori atipic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19 ottobre 1992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2/85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oncernente l’ attuazione di misure volte a promuovere il miglioramento della sicurezza e della salute sul lavoro delle lavoratrici gestanti, puerpere o in periodo di allattament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aternità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3 novembre 1993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3/104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’organizzazione dell’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orario di lavoro </a:t>
            </a:r>
            <a:r>
              <a:rPr b="0" i="1" lang="it-IT" sz="2000" spc="-1" strike="noStrike">
                <a:solidFill>
                  <a:srgbClr val="292929"/>
                </a:solidFill>
                <a:latin typeface="Arial"/>
              </a:rPr>
              <a:t>(v. supra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2 giugno 1994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4/33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a protezione dei giovani sul lavor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giovani e lavor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REGOLAMENTO (CE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1112/2005 DEL CONSIG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Regolamento (CE) n. 1112/2005 del Consigli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del 24 giugno 2005, recante modifica del regolamento (CE) n. 2062/94 del Consiglio, relativo all’istituzione di un’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Agenzia europea per la sicurezza e la salute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ha.europa.eu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it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bout-eu-osh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A, ACCORDO EUROPEO SULL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VORO-CORRE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ccordo Europeo sullo 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stress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 sul lavoro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iglato, dalle parti sociali europee CES, UNICE, CEEP, UEAPME e PMI,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’8 ottobre 200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 recepito in Italia con successivo Accordo Interconfederale del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9 giugno 200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ATTO UNICO EUROPEO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. 21, AUE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rattato CE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è completato dalle disposizioni seguenti: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«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1. Gli stati membri si adoperano per promuovere il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2. Per contribuire alla realizzazione dell'obiettivo previsto al paragrafo 1, il Consiglio, deliberando a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3. Le disposizioni adottate a norma del presente articolo non ostano a che ciascuno stato membro mantenga e stabilisca misure, compatibili con il presente trattato, per una maggiore protezione delle condizioni di lavoro»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TRATTATO SUL FUNZIONAMENTO DELL’UNIONE EUROPE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153, comma 1, lett. a), TFU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 conseguire gli obiettivi previsti all'articolo 151, l'Unione sostiene e completa l'azione degli Stati membri nei seguenti settori: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glioramento, in particolare, dell'ambiente di lavoro, per proteggere la sicurezza e la salut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A 93/104/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93/104/CE del Consiglio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l 23 novembre 1993, concernente taluni aspett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ll'organizzazione dell'orario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’Unione Europea, visto il trattato che istituisce la Comunità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in cooperazione con il Parlamento europeo, visto il parere del Comitato economico e sociale, considerando che l'articolo 118 A del trattato prevede che il Consiglio adotti, mediante direttiva, prescrizioni minime per promuovere in particolare il miglioramento dell'ambiente di lavoro, per garantire un più elevato livello di protezione della sicurezza e della salute dei lavoratori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3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Il governo del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Regno Unit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fa valere, richiamando la lettera stessa dell'art. 118 A, che [..] la durata del lavoro settimanale, le ferie annuali retribuite e i periodi di pausa, presenterebbero un legame troppo tenue con la sicurezza e la salute dei lavorato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: Non vi è nulla nella formulazione dell'art. 118 A che possa indicare che le nozioni di «ambiente di lavoro», «sicurezza» e «salute», ai sensi di tale disposizione, andrebbero interpretate — in assenza di altri elementi più precisi — in senso restrittivo e non invece come riguardanti tutti i fattori, fisici e di altra natura, in grado di incidere sulla salute e sulla sicurezza del lavoratore nel suo ambiente di lavoro e, in particolare, taluni aspetti dell'organizzazione dell'orario di lavoro. Al contrario, i termini «in particolare dell'ambiente di lavoro» depongono a favore di un'interpretazione ampia della competenza attribuita al Consiglio dall'art. 118 A in materia di tutela della sicurezza e della salute dei lavoratori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6: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Il governo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ricorrente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fa ancora valere che, in forza dell'art. 118 A, n. 2, [..] tale disposizione autorizzerebbe il Consiglio ad adottare misure di armonizzazione soltanto ad un livello accettabile per tutti gli Stati membri e che costituisca un punto di riferimento minim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7: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L'espressione «prescrizioni minime» di cui all'art. 118 A significa soltanto, [..] che essa consente agli Stati membri di adottare norme più rigorose di quelle che sono oggetto dell'intervento comunitari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“MADRE” 80/1107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80/1107/CEE del Consigli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del 27 novembre 1980, sul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tezione dei lavoratori contro i rischi derivanti da un'esposizione ad agenti chimici, fisici e biologici durante il lavor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00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sulla sicurezza, l'igiene e la tutela della salute sul luogo di lavoro, visto il parere del Parlamento europeo, visto il parere del Comitato economico e sociale, considerando che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QUADRO 89/391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Direttiva 89/391/CEE del Consiglio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 del 12 giugno 1989, concernente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'attuazione di misure volte a promuovere il miglioramento della sicurezza e della salute dei lavoratori durante il lavo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</a:t>
            </a:r>
            <a:r>
              <a:rPr b="0" i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l'articolo 118 A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per la sicurezza, l'igiene e la protezione della salute sul luogo di lavoro, in cooperazione con il Parlamento europeo, visto il parere del Comitato economico e sociale, considerando che l'articolo 118 A del trattato prevede che il Consiglio adotti, mediante direttiva , le prescrizioni minime per promuovere il miglioramento in particolare dell'ambiente di lavoro, per garantire un più elevato livello di protezione della sicurezza e della salute dei lavoratori [..] ha adottato la presente direttiva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prima del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100 TCEE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l Consiglio, deliberando all’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nimità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su proposta della Commissione, stabilisc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volte al ravvicinamento delle disposizioni legislative, regolamentari ed amministrative degli Stati membri che abbiano un’incidenza diretta sull’instaurazione o sul funzionamento del mercato comun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’Assemblea e il Comitato economico e sociale sono consultati sulle direttive la cui esecuzione importerebbe, in uno o più Stati membri, una modificazione nelle disposizioni legislativ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1:18:07Z</dcterms:created>
  <dc:creator>Giulia</dc:creator>
  <dc:description/>
  <dc:language>en-US</dc:language>
  <cp:lastModifiedBy>Giulia</cp:lastModifiedBy>
  <dcterms:modified xsi:type="dcterms:W3CDTF">1980-01-04T19:39:00Z</dcterms:modified>
  <cp:revision>44</cp:revision>
  <dc:subject/>
  <dc:title>EUROPA</dc:title>
</cp:coreProperties>
</file>