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85C-D40C-46D7-A315-ED8CBFBB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0C3-0472-4680-AE79-23C12AD6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FFF-ECC9-4F06-A64C-DDEAE86A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DC5-F9B8-42AD-B225-1E803775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83D-A3E7-41CC-A1D0-F863332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337-FEE6-404F-8F06-0F75AF08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8AB-FC4A-42C9-B6C2-2DE8E007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14D-AC3F-47B5-91E7-F7BB997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7E6-78B3-411E-AC85-353E213A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176-98A1-48D0-B509-64FFB45A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6EE-4573-4911-A33D-CB30592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389-354B-4E94-9C73-F7BA7A3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D48B-520C-4947-B28E-6FB6B60BC9B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ympus.uniurb.it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41400" y="1224000"/>
            <a:ext cx="101901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meccanici (Commissione Nazionale Salute e Sicurezza): Intesa, 8 ottobre 20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missione Nazionale Salute e Sicurezza ha quindi condiviso, […] le Linee guida […] da intendersi come strumenti di indirizzo ed orientamento per favorire, […]: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sperimentazione dei c.d. break formativi, quale metodologia innovativa di formazione dei lavoratori sulla sicurezza, […];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o sviluppo di progetti formativi congiunti RLS/RSPP […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25640" y="711360"/>
            <a:ext cx="1076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arti concordano che sia istituito un sistema interno di comunicazione che consenta a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i essere informati di tutti gli infortuni avvenuti o di quelli "quasi avvenuti", con chiamata sul luogo dell'evento perché possano constatare quanto accaduto (Motovario). Di norma mensilmente, l'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RSPP si incontreranno per proporre ed esaminare i problemi inerenti alla sicurezza, all'igiene del lavoro e all'ambiente, oltre agli interventi preposti per la soluzione degli stessi (Goldoni). Ritengono che la prevenzione degli infortuni possa trarre i maggiori vantaggi in primo luogo dalla collaborazione fra RSPP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Accordo Industria Ver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74960" y="2098800"/>
            <a:ext cx="8092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otranno presentare eventuali richieste, aggiuntive rispetto a quanto previsto dalla normativa, relative a specifiche esigenze aziendali 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propos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ordine alle soluzioni ed agli interventi concreti da assumere, che l’Azienda provvederà ad esaminare (Jungheinrich Italiana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643720" y="2987640"/>
            <a:ext cx="129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15840" y="366840"/>
            <a:ext cx="1058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conviene di istituire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mmissione pariteti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[…], che possa monitorare le iniziative e organizzare la “giornata della sicurezza” che sarà indetta in tutti i reparti e negli uffici (Caffitaly); Viene costituita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ommissione tecnic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posta da 2 componenti dell'Azienda e da sei RLS nominati dalle Organizzazioni Sindacali che, attraverso indicativamente due incontri annuali, avrà l'obiettivo di monitorare ed esaminare le dinamiche collegate ai fattori "sicurezza", i piani di intervento pianificati ed implementati, compresi quelli formativi. Avrà anche il compito di suggerire e proporre azioni correttive di miglioramento o nuove aree di intervento in funzione dei bisogni trasversali rilevati. (Bar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573880" y="2917800"/>
            <a:ext cx="144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122480" y="424080"/>
            <a:ext cx="10407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 concerto tra le Parti, in ciascun Sito sarà celebrata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“Giornata per la salute e la sicurezza sul lavoro”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vento annuale rivolto a sensibilizzarle promuovere la diffusione della cultura della salute, della sicurezza e del benessere sul luogo di lavoro (Nestlè). Viste le positive esperienze maturate negli anni precedenti (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eatro d'impresa, il concorso sulla sicurezza, la giornata annuale della sicurez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ecc.), le Parti concordano di continuare a collaborare con le costituite Commissioni Sicurezza sul Lavoro […] con l'obiettivo di proporre e sostenere le diverse iniziative di sensibilizzazione destinate a rafforzare 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ultura della preven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Azienda (Ferr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03320" y="1459080"/>
            <a:ext cx="1031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stema di Gestione Ambiente e Sicurezza degli Stabilimenti Italiani, in accordo con le norme tecnich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SO 14001 e BS OHSAS 18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è stata completata […]; dal 2019, inizierà la transizione dei sistemi di gestione della sicurezza al nuovo standard internaziona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SO 45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Barilla); Granarolo spa ha provveduto ad implementare il sistem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OHSAS 1800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ulti sito di gestione della sicurezza (Granarolo)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07800" y="628560"/>
            <a:ext cx="1169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RLS saranno coinvolti per verificare la regolarità delle norme inerenti la sicurezza sull'intero ciclo produttivo; […]verrà introdotta questa clausol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nei contratti d'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(Granarolo); informazioni relative ad eventuali infortuni verificatisi con i dipendenti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mprese appaltatri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'interno dell'Azienda; stringenti prescrizioni nell'ambito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apitolati di 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ia attraverso la verifica - presso i diversi appaltatori - della sussistenza dei necessari requisiti di sicurezza (Ferrero); consapevolezza delle imprese e dei lavoratori che svolgono attività continuativ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n appal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'interno dello stabilimento (Cargill); favorire il loro scambio di informazioni con gli  interlocutori per la sicurezza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ditte appaltatri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Barilla)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73000" y="1284120"/>
            <a:ext cx="1081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un'ottica di prevenzione della salute dei lavoratori: sono state organizzate, a titolo di esempio, campagne sul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ischio tabagism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campagne di prevenzione per rischi sulla salute a livello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cardiovascola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lotta a diversi tipi d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tumor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sull'importanza di una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limentazione corrett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delle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ttività sportiv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Dati i risultati positivi di queste iniziative e data l'importanza della diffusione della cultura della prevenzione, l'azienda conferma la propria intenzione di proseguire nel percorso intrapreso implementando le azioni sui diversi fattori di rischio (Baril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989280" y="733320"/>
            <a:ext cx="9775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563c1"/>
                </a:solidFill>
                <a:latin typeface="Times New Roman"/>
              </a:rPr>
              <a:t>d. Lgs 81/2008    art.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)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"buone prassi”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oluzioni organizzative o procedurali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 la normativa vigente e con le norme di buona tecnica, ado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olontariamente e finalizzate a promuovere la salute e sicurezza s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uoghi di lavoro attraverso la riduzione dei rischi e 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mento delle condizioni di lavoro, elaborate e raccolte d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gioni, dall'Istituto superiore per la prevenzione e la sicur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 lavoro (ISPESL), dall'Istituto nazionale per l'assicu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o gli infortuni sul lavoro (INAIL) e dagli organismi parit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 cui all'articolo 51, validate dalla Commissione 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manente di cui all'articolo 6, previa istruttori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'ISPESL, che provvede a assicurarne la piu' ampia diffus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magine 1" descr=""/>
          <p:cNvPicPr/>
          <p:nvPr/>
        </p:nvPicPr>
        <p:blipFill>
          <a:blip r:embed="rId1"/>
          <a:stretch/>
        </p:blipFill>
        <p:spPr>
          <a:xfrm>
            <a:off x="1697040" y="119160"/>
            <a:ext cx="89838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ttangolo 3"/>
          <p:cNvSpPr/>
          <p:nvPr/>
        </p:nvSpPr>
        <p:spPr>
          <a:xfrm>
            <a:off x="993600" y="623880"/>
            <a:ext cx="1077444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ti di 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i e modalità di segnalazione e rilevazione dei “quasi infortuni” e comportamenti insicuri ed elaborazione di Linee guida per promuoverne la diffusione quale strumento di sviluppo della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prevenzione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el miglioramento continuo della sicurezza sul lavoro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iniziative e progetti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ivi e di aggiornamento dei RLS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lizzati a migliorare ed accrescere la loro competenza in funzione della realtà metalmeccanica e della installazione di impianti, a sostegno di un molo sempre più qualificato di tutti gli attori della prevenzione;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tangolo 1"/>
          <p:cNvSpPr/>
          <p:nvPr/>
        </p:nvSpPr>
        <p:spPr>
          <a:xfrm>
            <a:off x="363600" y="1074600"/>
            <a:ext cx="11463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gue) Punti di atte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isi dei dati degli infortuni e delle malattie professionali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pplicazione del Protocollo di Intesa sottoscritto con l’Inail per l’individuazione delle cause e dei fattori di rischio maggiormente diffusi in relazione alle specificità delle diverse attività che compongono la categoria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individuazione di specifiche azioni in collaborazione con l’Inail finalizzate alla diffusione della </a:t>
            </a:r>
            <a:r>
              <a:rPr b="1" lang="it-IT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 luoghi di lavoro in funzione delle specificità della catego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olympus.uniurb.it/images/headers/banner2.jpg"/>
          <p:cNvPicPr/>
          <p:nvPr/>
        </p:nvPicPr>
        <p:blipFill>
          <a:blip r:embed="rId1"/>
          <a:stretch/>
        </p:blipFill>
        <p:spPr>
          <a:xfrm>
            <a:off x="1206360" y="1542960"/>
            <a:ext cx="9807840" cy="3044880"/>
          </a:xfrm>
          <a:prstGeom prst="rect">
            <a:avLst/>
          </a:prstGeom>
          <a:ln w="0">
            <a:noFill/>
          </a:ln>
        </p:spPr>
      </p:pic>
      <p:sp>
        <p:nvSpPr>
          <p:cNvPr id="45" name="Rettangolo 1"/>
          <p:cNvSpPr/>
          <p:nvPr/>
        </p:nvSpPr>
        <p:spPr>
          <a:xfrm>
            <a:off x="4884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2"/>
          <p:cNvSpPr/>
          <p:nvPr/>
        </p:nvSpPr>
        <p:spPr>
          <a:xfrm>
            <a:off x="3724200" y="507348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www.olympus.uniurb.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"/>
          <p:cNvSpPr/>
          <p:nvPr/>
        </p:nvSpPr>
        <p:spPr>
          <a:xfrm>
            <a:off x="1365120" y="1150920"/>
            <a:ext cx="9210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stata erogata con l’obiettivo di promuovere e diffondere un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pa). attività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formazione per la prevenzione degli infortuni e delle malattie, dirette sia agli aspetti tecnico professionali che a quelli comportamentali; l'element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ulta fondamentale per gli aspetti di prevenzione e sicurezza:  (Barilla); Viene riconosciuto a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ersonale un ruolo centrale sia sotto il profilo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ata agli aspetti tecnici della professione e delle procedure di sicurezza, che sotto il profilo comportamentale per implementare una corretta e diffus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Bolton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1"/>
          <p:cNvSpPr/>
          <p:nvPr/>
        </p:nvSpPr>
        <p:spPr>
          <a:xfrm>
            <a:off x="1398600" y="1835280"/>
            <a:ext cx="9394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nno attivati momenti di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isti dalle norme vigenti (Goldoni); l'RSPP con gli RLS ed i capireparto convengono di continuare e portare a termine il percorso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tiv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ziato (Casappa); L’Azienda si impegna nella diffusione della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ura della sicurez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in una capillare e puntuale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a sulla sicurezza considerati strumenti di fondamentale rilievo per garantire la sicurezza sui luoghi di lavoro (Jungheinrich Italian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tangolo 1"/>
          <p:cNvSpPr/>
          <p:nvPr/>
        </p:nvSpPr>
        <p:spPr>
          <a:xfrm>
            <a:off x="1935000" y="855720"/>
            <a:ext cx="8031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472c4"/>
                </a:solidFill>
                <a:latin typeface="Times New Roman"/>
                <a:ea typeface="Times New Roman"/>
              </a:rPr>
              <a:t>Anche negli accordi sul lavoro agile non manca un riferimento alla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pendenti che aderiscono al progetto ricevono adeguat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zione/fo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 eventuali aggiornamenti) circa il corretto utilizzo di attrezzature e della postazione di lavoro (Ducati); il lavoratore è tenuto a prendersi cura della propria sicurezza e salute […] A tal fine, il lavoratore riceve preventiva adeguata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zione/inform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…] e apposita documentazione informativa (FCA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1"/>
          <p:cNvSpPr/>
          <p:nvPr/>
        </p:nvSpPr>
        <p:spPr>
          <a:xfrm>
            <a:off x="1844640" y="825480"/>
            <a:ext cx="8502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ttolinea l'azione degl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nel loro ruolo di primari interlocutori nelle fasi di valutazione, monitoraggio, analisi dei fattori collegati all'area della sicurezza, sia nelle loro attività finalizzate a stimolare e suggerire all'organizzazione aziendale interventi di miglioramento delle condizioni complessive di sicurezza (Barilla); Le Parti si danno reciprocamente atto della necessità di cointeressare gli 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sistema di informazione e sensibilizzazione in materia di sicurezza (Granarol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16040" y="457200"/>
            <a:ext cx="1098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arti intendono altresì valorizzare il ruolo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appresentanti dei Lavoratori per la Sicurez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quali agenti di cambiamento rivolti all’affermazione di una cultura della sicurezza e della salvaguardia ambientale (Nestlè). Con l'obiettivo di rafforzare gli strumenti fino ad oggi adottati e in un'ottica di migliore valorizzazione dei diversi attori […] ed in particolare de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L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Azienda e OO.SS., […], prevedendo incontri periodici di sito […] finalizzati ad informare i 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Rappresentanti del Lavorator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lle principali iniziative in atto in tema di sicurezza, sull'andamento infortuni, sulla evoluzione normativa e a rispondere a istanze e/o quesiti avanzati dagli stessi nell'esercizio delle proprie funzioni (Ferrero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5T10:51:58Z</dcterms:created>
  <dc:creator>Giuri</dc:creator>
  <dc:description/>
  <dc:language>en-US</dc:language>
  <cp:lastModifiedBy>Prof Balandi</cp:lastModifiedBy>
  <dcterms:modified xsi:type="dcterms:W3CDTF">2019-01-22T20:58:06Z</dcterms:modified>
  <cp:revision>41</cp:revision>
  <dc:subject/>
  <dc:title>Presentazione standard di PowerPoint</dc:title>
</cp:coreProperties>
</file>