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1173-8115-4A5E-846B-31956F26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8EC-C8F0-40E1-B7F5-CCA5C694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149B-5CC1-4DD7-9860-10FE83D9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B78-A263-4798-9AA7-7C008C98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6FB5-2A1D-429F-A77C-0322A322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B33E-D8B3-4B00-859F-6E8126F0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6806-D303-4B8F-B771-8FFCD024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23A1-64D6-4200-A314-62699381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A972-948F-4777-A0AC-54F507CE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4840-C346-4065-B776-24BE7C96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7053-0762-4A45-8AEA-6FCCD520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2E3-8529-4FEE-A250-C96815AF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3631-2F29-4B45-B498-6162A7DD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3B17-6D45-479D-A4FB-64AB6EDF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5254-054A-41C9-A669-871F8A17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D2C5-1EA1-453A-85AD-57143A67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10D8-7A53-44AF-8905-F1D1F9B9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9AE-03D5-4B78-8BEA-51FC1727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8F59-05DC-4B0F-98EE-664E177C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544-9987-4209-9EC7-1152B890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14DE-7D85-45D3-9288-1DFC0A10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8557-DDB2-48AE-A18B-929D1D66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DBB-4FBD-43EE-9937-CDAFC161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146-AB8D-44A9-83F9-8AA93A07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9096-9119-4827-86C6-28069A048DD7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8902-184A-4BA9-A5E5-E8B292F5A3A4}" type="slidenum">
              <a:rPr b="0" lang="it-IT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ICUREZZA NEI LUOGHI DI LAVO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292929"/>
                </a:solidFill>
                <a:uFillTx/>
                <a:latin typeface="Arial"/>
              </a:rPr>
              <a:t>DECRETO DEL PRESIDENTE DELLA REPUBBLICA 19 marzo 1956, n. 30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Norme generali per l’igiene del lavoro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292929"/>
                </a:solidFill>
                <a:uFillTx/>
                <a:latin typeface="Arial"/>
              </a:rPr>
              <a:t>LEGGE 20 maggio 1970, n. 300 </a:t>
            </a: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it-IT" sz="3200" spc="-1" strike="noStrike">
                <a:solidFill>
                  <a:srgbClr val="292929"/>
                </a:solidFill>
                <a:latin typeface="Arial"/>
              </a:rPr>
              <a:t>Statuto dei lavoratori</a:t>
            </a: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Norme sulla tutela della libertà e dignità dei lavoratori, della libertà sindacale e dell’attività sindacale, nei luoghi di lavoro e norme sul collocamento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71578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292929"/>
                </a:solidFill>
                <a:uFillTx/>
                <a:latin typeface="Arial"/>
              </a:rPr>
              <a:t>Art. 9, St. Lav.,</a:t>
            </a:r>
            <a:r>
              <a:rPr b="1" lang="it-IT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(Tutela della salute e dell’integrità fisica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I lavoratori, mediante loro rappresentanze, hanno diritto di controllare l’applicazione delle norme per la prevenzione degli infortuni e delle malattie professionali e di promuovere la ricerca, l’elaborazione e l’attuazione di tutte le misure idonee a tutelare la loro salute e la loro integrità fisic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egnaposto contenuto 3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256360" cy="388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69120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ICUREZZA NEI LUOGHI DI LAVO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292929"/>
                </a:solidFill>
                <a:uFillTx/>
                <a:latin typeface="Arial"/>
              </a:rPr>
              <a:t>Legge 3 agosto 2007, n. 123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Misure in tema di tutela della salute e della sicurezza sul lavoro e delega al Governo per il riassetto e la riforma della normativa in materia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292929"/>
                </a:solidFill>
                <a:uFillTx/>
                <a:latin typeface="Arial"/>
              </a:rPr>
              <a:t>Art. 1, Legge n. 123/2007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Delega al Governo per il riassetto e la riforma della normativa in materia di tutela della salute e della sicurezza sul lavor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D. Lgs. 9 aprile 2008, n. 81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 Attuazione dell’articolo 1 della legge 3 agosto 2007, n. 123, in materia di tutela della salute e della sicurezza nei luoghi di lavor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Art. 2, comma 1, D. Lgs. 81/2008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lett. a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) 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“lavoratore”: 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persona che, indipendentemente dalla tipologia contrattuale, svolge un’attività lavorativa nell’ambito dell’organizzazione di un datore di lavoro pubblico o privato [..]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292929"/>
                </a:solidFill>
                <a:uFillTx/>
                <a:latin typeface="Arial"/>
              </a:rPr>
              <a:t>DECRETO DEL PRESIDENTE DELLA REPUBBLICA 27 aprile 1955, n. 547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it-IT" sz="3200" spc="-1" strike="noStrike">
                <a:solidFill>
                  <a:srgbClr val="292929"/>
                </a:solidFill>
                <a:latin typeface="Arial"/>
              </a:rPr>
              <a:t>Norme per la prevenzione degli infortuni sul lavoro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19080">
            <a:solidFill>
              <a:srgbClr val="292929"/>
            </a:solidFill>
            <a:miter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TITOLO II, DPR. n. 547/1955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AMBIENTI, POSTI DI LAVORO E DI PASSAGGI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92929"/>
                </a:solidFill>
                <a:uFillTx/>
                <a:latin typeface="Arial"/>
              </a:rPr>
              <a:t>CAPO I</a:t>
            </a:r>
            <a:r>
              <a:rPr b="1" lang="it-IT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292929"/>
                </a:solidFill>
                <a:latin typeface="Arial"/>
              </a:rPr>
              <a:t>Disposizioni di carattere generale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 8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 Pavimenti e passagg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 9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Sola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10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Aperture nel suolo e nelle paret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11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Posti di lavoro e di passaggi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12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Schermi paraschegg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13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Uscite dai locali di lavor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14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Uscite dai locali di lavor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Art.15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292929"/>
                </a:solidFill>
                <a:latin typeface="Arial"/>
              </a:rPr>
              <a:t>Spazio destinato al lavorator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292929"/>
                </a:solidFill>
                <a:uFillTx/>
                <a:latin typeface="Arial"/>
              </a:rPr>
              <a:t>TITOLO III, DPR. n. 547/1955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NORME GENERALI DI PROTEZIONE DELLE MACCHIN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292929"/>
                </a:solidFill>
                <a:uFillTx/>
                <a:latin typeface="Arial"/>
              </a:rPr>
              <a:t>CAPO III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292929"/>
                </a:solidFill>
                <a:latin typeface="Arial"/>
              </a:rPr>
              <a:t>Trasmissioni e ingranaggi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55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Organi ed elementi per la trasmissione del mot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56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Alberi, cinghie e funi di trasmissio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57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Alberi, cinghie e funi di trasmissio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58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Alberi, cinghie e funi di trasmissio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59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Ingranagg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0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Coni e cilindri di frizio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1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Catene di trasmissio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2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Montaggio e smontaggio delle cinghi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3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Ganci portacinghi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4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Giunzione delle cinghi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5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Coppie di pulegge fissa e fol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6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Disinnesti di sezionamento nelle trasmissioni estes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Art. 67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Preavviso di avviamento di trasmission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it-IT" sz="1800" spc="-1" strike="noStrike" u="sng">
                <a:solidFill>
                  <a:srgbClr val="292929"/>
                </a:solidFill>
                <a:uFillTx/>
                <a:latin typeface="Arial"/>
              </a:rPr>
              <a:t>DPR n. 547/1955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 DISPOSIZIONI GENERAL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AMBIENTI, POSTI DI LAVORO E DI PASSAGGIO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I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NORME GENERALI DI PROTEZIONE DELLE MACCHI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V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NORME PARTICOLARI DI PROTEZIONE PER DETERMINATE            MACCHI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MEZZI ED APPARECCHI DI SOLLEVAMENTO, DI TRASPORTO E DI                IMMAGAZZINAMENTO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: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IMPIANTI ED APPARECCHI VAR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IMPIANTI, MACCHINE ED APPARECCHI ELETTRIC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VII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MATERIE E PRODOTTI PERICOLOSI O NOCIV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IX:</a:t>
            </a:r>
            <a:r>
              <a:rPr b="1" lang="it-IT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MANUTENZIONE E RIPARAZIO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X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 MEZZI PERSONALI DI PROTEZIONE E SOCCORSI D’ URGENZA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X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NORME PENAL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292929"/>
                </a:solidFill>
                <a:uFillTx/>
                <a:latin typeface="Arial"/>
              </a:rPr>
              <a:t>TITOLO XII:</a:t>
            </a:r>
            <a:r>
              <a:rPr b="0" lang="it-IT" sz="1400" spc="-1" strike="noStrike">
                <a:solidFill>
                  <a:srgbClr val="292929"/>
                </a:solidFill>
                <a:latin typeface="Arial"/>
              </a:rPr>
              <a:t>  DISPOSIZIONI TRANSITORIE E FINALI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LLA COSTITUZIONE ALLO STATUTO DEI LAVORA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292929"/>
                </a:solidFill>
                <a:uFillTx/>
                <a:latin typeface="Arial"/>
              </a:rPr>
              <a:t>DECRETO DEL PRESIDENTE DELLA REPUBBLICA 19 marzo 1956, n. 30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it-IT" sz="2800" spc="-1" strike="noStrike">
                <a:solidFill>
                  <a:srgbClr val="292929"/>
                </a:solidFill>
                <a:latin typeface="Arial"/>
              </a:rPr>
              <a:t>Norme di prevenzione degli infortuni sul lavoro integrative di quelle generali emanate con Decreto del Presidente della Repubblica 27 aprile 1955, n. 547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4T18:42:43Z</dcterms:created>
  <dc:creator>Giulia</dc:creator>
  <dc:description/>
  <dc:language>en-US</dc:language>
  <cp:lastModifiedBy>Giuri</cp:lastModifiedBy>
  <dcterms:modified xsi:type="dcterms:W3CDTF">2017-03-23T11:38:35Z</dcterms:modified>
  <cp:revision>26</cp:revision>
  <dc:subject/>
  <dc:title>Diapositiva 1</dc:title>
</cp:coreProperties>
</file>