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4E4-09DF-43C5-971F-3C438798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D4C-F81B-4286-856A-95C93931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8C4-B506-471A-9AEF-C11FF67C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82F-710C-498A-832C-7633EA3F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238A-CCFF-49F9-ACAB-10C216D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B170-566A-4E48-A2AF-814800A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572-3E79-4C62-9322-9A1AF03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94C-2ED6-4B17-84E3-B316DF5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1F61-3EA5-4374-992B-87E872F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FC34-3466-4A82-9AC0-7E6462E1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BC02-DC60-47CA-9386-8F69365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84E-4E80-4ABC-85DB-38CFEB1A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E32E-99B8-4CB1-AA70-D9A1034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25E-F6FC-41DD-B64C-01B9BD7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DB1-F671-4CEE-9C8F-AB79B46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38A-B40D-4A18-BA8B-260CEB73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3D82-953F-4962-A386-4B32516E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A1F-45A3-4832-B0C0-43753077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605-157B-41D8-8611-FC21AF4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B41-3BC0-436C-98EC-BE1F1F07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E1B-6ED0-411B-BF70-8346CC5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FFB-9862-43D2-A8B1-D3C3EF8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043-2F1B-4D6A-862E-1F2D5FF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CDE-9253-44DE-A0F9-1AEA38EC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514-6378-47B1-8E33-3EEBF9CE8A6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89F-2C1F-4489-8C42-C76A48E5E1D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ALLO STATUTO DEI LAVORATORI AL D. LGS. N. 626/199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OTEZIONE DA AGENTI FISICI: RUMO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-TER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A AGENTI FISICI: CAMPI ELETTROMAGNET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I ATTREZZATURE MUNITE DI VIDEOTERM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PROTEZIONE DEI LAVORATORI CONTRO I RISCHI CONNESSI    ALL’ESPOSIZIONE AD AMIAN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 PROTEZIONE DA AGENTI CANCEROGENI MUTAGE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PROTEZIONE DA AGENTI CHIM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       PROTEZIONE DA AGENTI BIOLOGIC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SORVEGLIANZA SANITARI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-BIS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PROTEZIONE DA ATMOSFERE ESPLOSIV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 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: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          OBBLIGHI DEL DATORE DI LAVOR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SANZIONI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086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LEGGE 23 dicembre 1978, n. 833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tituzione del Servizio Sanitario Naziona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 Legge n.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ttività di prevenzio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rt. 20, comma 1, Legge 833/197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 attività di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mprendono:    </a:t>
            </a: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lett. </a:t>
            </a:r>
            <a:r>
              <a:rPr b="1" lang="en-US" sz="32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a individuazione, l'accertamento ed il controllo dei fattori di nocività, di pericolosità e di deterioramento negli ambienti di vita e di lavoro [..]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20, comma 3, Legge 833/1978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li interventi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all'interno degli ambienti di lavoro, concernenti la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cerca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,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abor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 l'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ttuazion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di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isur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necessarie ed idonee a tutelare la salute e l'integrità fisica dei lavoratori, connesse alla particolarità del lavoro e non previste da specifiche norme di legge, sono effettuati sulla base di esigenze verificat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giuntamen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n le rappresentanze sindacali ed il datore di lavoro, secondo le modalità previste dai contratti o accordi collettivi applicati nell'unità produttiva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1280" y="3962880"/>
            <a:ext cx="8137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 rot="10800000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31 luglio 1980, n. 61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stituzione dell’Istituto superiore per la prevenzione e la sicurezza del lavoro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art. 23 della Legge n. 833 del 1978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Art. 3, DPR. n. 619/19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iti e modalità di svolgim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Art. 3, comma 1, DPR. n. 619/1980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ettano all’Istitut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lett. a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la ricerca, lo studio, la sperimentazione e l'elaborazione dei criteri e delle metodologie per la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evenzion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degli infortuni e delle malattie professionali con particolare riguardo all'evoluzione tecnologica degli impianti, dei materiali, delle attrezzature e dei processi produttivi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[..]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DECRETO LEGISLATIVO 19 settembre 1994, n. 62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tuazione delle direttiv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9/391/CE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89/654/CEE, 89/655/CEE, 89/656/CEE, 90/269/CEE, 90/270/CEE, 90/394/CEE e 90/679/CEE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guardanti il miglioramento della sicurezza e della salute dei lavoratori sul luogo di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0" lang="it-IT" sz="800" spc="-1" strike="noStrike">
                <a:solidFill>
                  <a:srgbClr val="292929"/>
                </a:solidFill>
                <a:latin typeface="Arial"/>
              </a:rPr>
              <a:t>:               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DISPOSIZIONI GENER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 SERVIZIO DI PREVENZIONE E PROTE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PREVENZIONE INCENDI, EVACUAZIONE DEI LAVORATORI, PRONTO SOCCORS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I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SORVEGLIANZA SANITARI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 CONSULTAZIONE E PARTECIP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 INFORMAZIONE E FORMAZIONE DEI LAVORATOR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 DISPOSIZIONI CONCERNENTI LA PUBBLICA AMMINISTRAZI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292929"/>
                </a:solidFill>
                <a:uFillTx/>
                <a:latin typeface="Arial"/>
              </a:rPr>
              <a:t>CAPO VIII</a:t>
            </a:r>
            <a:r>
              <a:rPr b="0" lang="it-IT" sz="1200" spc="-1" strike="noStrike">
                <a:solidFill>
                  <a:srgbClr val="292929"/>
                </a:solidFill>
                <a:latin typeface="Arial"/>
              </a:rPr>
              <a:t>:    STATISTICHE DEGLI INFORTUNI E DELLE MALATTIE PROFESSIONAL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LLO STATUTO DEI LAVORATORI AL D. LGS. N. 626/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N. 626/1994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(struttur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: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LUOGHI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LLE ATTREZZATURE DI LAVOR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USO DEI DISPOSITIVI DI PROTEZIONE INDIVIDUA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OVIMENTAZIONE MANUALE DEI CARICH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14:23:28Z</dcterms:created>
  <dc:creator>Giulia</dc:creator>
  <dc:description/>
  <dc:language>en-US</dc:language>
  <cp:lastModifiedBy>Giulia</cp:lastModifiedBy>
  <dcterms:modified xsi:type="dcterms:W3CDTF">2017-03-17T13:17:08Z</dcterms:modified>
  <cp:revision>31</cp:revision>
  <dc:subject/>
  <dc:title>SICUREZZA NEI LUOGHI DI LAVORO</dc:title>
</cp:coreProperties>
</file>