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CCD4-8266-4959-BA9F-5D878174A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4A17-F000-48E9-AAEF-FFB72892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94A8-E190-49F4-82FB-AEB686E6D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A4ED-604E-49E2-A1DC-707D4A737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58686-287F-4AD3-A646-255752B1E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7A5A-73C5-4B2E-B965-D2324051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7035-EA1F-4BA2-88FB-2EE24B7F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CCED-CFF5-4186-8AA1-272B90AF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0ECFD-489D-4F2B-B8C4-BFA1B576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3D5A-2AD9-42BC-90FA-5C3CE9F6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3079C-58B6-4CB9-B6F2-3EB750A6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7642-2C75-4187-A768-8BE0CAD0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9B39D-214F-4C91-B3FC-6FAE9EDD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0290A-41D4-4EC5-9D63-8F98E69D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5B36-7FD0-4E64-83DE-847B518B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A360-4B3E-4679-B699-1FC99B13D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1180F-9365-4FF2-8DE5-FA4106D95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C3C5-E9B2-4DD7-A04D-23E809C5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6214-B86E-4202-BBDD-1EEBA069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C280-AF1A-46B8-9BD6-25DA2E10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D567-C985-4583-895D-D51DFC62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E18F-98CD-4947-9C40-9257936C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4EB7-909B-43C5-BC18-EDEE9ADB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90C5-BC68-44DF-B1A3-114C8471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2578-83D2-4DD0-A815-B2B2F0E7A08F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66F6-617A-4458-9E91-589DA5DFFF65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osha.europa.eu/it/about-eu-osha" TargetMode="External"/><Relationship Id="rId2" Type="http://schemas.openxmlformats.org/officeDocument/2006/relationships/hyperlink" Target="https://osha.europa.eu/it/about-eu-osha" TargetMode="External"/><Relationship Id="rId3" Type="http://schemas.openxmlformats.org/officeDocument/2006/relationships/hyperlink" Target="https://osha.europa.eu/it/about-eu-osha" TargetMode="External"/><Relationship Id="rId4" Type="http://schemas.openxmlformats.org/officeDocument/2006/relationships/hyperlink" Target="https://osha.europa.eu/it/about-eu-osha" TargetMode="External"/><Relationship Id="rId5" Type="http://schemas.openxmlformats.org/officeDocument/2006/relationships/hyperlink" Target="https://osha.europa.eu/it/about-eu-osha" TargetMode="External"/><Relationship Id="rId6" Type="http://schemas.openxmlformats.org/officeDocument/2006/relationships/hyperlink" Target="https://osha.europa.eu/it/about-eu-osha" TargetMode="External"/><Relationship Id="rId7" Type="http://schemas.openxmlformats.org/officeDocument/2006/relationships/hyperlink" Target="https://osha.europa.eu/it/about-eu-osha" TargetMode="External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SICUREZZA NEI LUOGHI DI LAVO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292929"/>
                </a:solidFill>
                <a:latin typeface="Arial"/>
              </a:rPr>
              <a:t>                 </a:t>
            </a:r>
            <a:r>
              <a:rPr b="1" lang="it-IT" sz="3200" spc="-1" strike="noStrike">
                <a:solidFill>
                  <a:srgbClr val="292929"/>
                </a:solidFill>
                <a:latin typeface="Arial"/>
              </a:rPr>
              <a:t>EUROP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UROPA, DIRETTIVE E BASE GIURIDICA (DOPO L’AU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292929"/>
                </a:solidFill>
                <a:uFillTx/>
                <a:latin typeface="Arial"/>
              </a:rPr>
              <a:t>Art. 118 A, TCEE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 :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Gli stati membri si adoperano per promuovere il  miglioramento in particolare dell'ambiente di lavoro per tutelare la sicurezza e la salute dei lavoratori, e si fissano come obiettivo l'armonizzazione, in una prospettiva di progresso, delle condizioni esistenti in questo settore.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Per contribuire alla realizzazione dell'obiettivo previsto al paragrafo 1, il Consiglio, deliberando a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maggioranza qualificata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su proposta della Commissione, in cooperazione con il Parlamento europeo e previa consultazione del Comitato economico e sociale, adotta mediante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direttive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le prescrizioni minime applicabili progressivamente, tenendo conto delle condizioni e delle normative tecniche esistenti in ciascuno stato membro. Tali direttive eviteranno di imporre vincoli amministrativi, finanziari e giuridici di natura tale da ostacolare la creazione e lo sviluppo di piccole e medie imprese.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Le disposizioni adottate a norma del presente articolo non ostano a che ciascuno stato membro mantenga e stabilisca misure, compatibili con il presente trattato, per una maggiore protezione delle condizioni di lavoro.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UROPA, DIRETTIVE E BASE GIURIDICA (DOPO L’AU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Direttiva del Consiglio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, 25 giugno 1991, </a:t>
            </a:r>
            <a:r>
              <a:rPr b="1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n.</a:t>
            </a:r>
            <a:r>
              <a:rPr b="0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 </a:t>
            </a:r>
            <a:r>
              <a:rPr b="1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91/383/CEE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, che completa le misure volte a promuovere il miglioramento della sicurezza e della salute durante il lavoro dei lavoratori aventi un rapporto di lavoro a durata determinata o un rapporto di lavoro interinale (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lavori atipici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Direttiva del Consiglio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, 19 ottobre 1992, </a:t>
            </a:r>
            <a:r>
              <a:rPr b="1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n. 92/85/CEE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, concernente l’ attuazione di misure volte a promuovere il miglioramento della sicurezza e della salute sul lavoro delle lavoratrici gestanti, puerpere o in periodo di allattamento (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maternità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Direttiva del Consiglio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, 23 novembre 1993, </a:t>
            </a:r>
            <a:r>
              <a:rPr b="1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n. 93/104/CE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, relativa all’organizzazione dell’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orario di lavoro </a:t>
            </a:r>
            <a:r>
              <a:rPr b="0" i="1" lang="it-IT" sz="2000" spc="-1" strike="noStrike">
                <a:solidFill>
                  <a:srgbClr val="292929"/>
                </a:solidFill>
                <a:latin typeface="Arial"/>
              </a:rPr>
              <a:t>(v. supra)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Direttiva del Consiglio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, 22 giugno 1994, </a:t>
            </a:r>
            <a:r>
              <a:rPr b="1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n. 94/33/CE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, relativa alla protezione dei giovani sul lavoro (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giovani e lavoro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UROPA, REGOLAMENTO (CE)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. 1112/2005 DEL CONSIGL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292929"/>
                </a:solidFill>
                <a:uFillTx/>
                <a:latin typeface="Arial"/>
              </a:rPr>
              <a:t>Regolamento (CE) n. 1112/2005 del Consiglio</a:t>
            </a: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, del 24 giugno 2005, recante modifica del regolamento (CE) n. 2062/94 del Consiglio, relativo all’istituzione di un’</a:t>
            </a: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Agenzia europea per la sicurezza e la salute sul lavoro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it-IT" sz="28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s</a:t>
            </a:r>
            <a:r>
              <a:rPr b="0" lang="it-IT" sz="28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://</a:t>
            </a:r>
            <a:r>
              <a:rPr b="0" lang="it-IT" sz="28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osha.europa.eu</a:t>
            </a:r>
            <a:r>
              <a:rPr b="0" lang="it-IT" sz="28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/</a:t>
            </a:r>
            <a:r>
              <a:rPr b="0" lang="it-IT" sz="28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it</a:t>
            </a:r>
            <a:r>
              <a:rPr b="0" lang="it-IT" sz="28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/</a:t>
            </a:r>
            <a:r>
              <a:rPr b="0" lang="it-IT" sz="28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about-eu-osha</a:t>
            </a: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UROPA, ACCORDO EUROPEO SULLO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TRES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AVORO-CORREL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Accordo Europeo sullo </a:t>
            </a:r>
            <a:r>
              <a:rPr b="1" i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stress</a:t>
            </a:r>
            <a:r>
              <a:rPr b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 sul lavoro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siglato, dalle parti sociali europee CES, UNICE, CEEP, UEAPME e PMI, </a:t>
            </a:r>
            <a:r>
              <a:rPr b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l’8 ottobre 2004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e recepito in Italia con successivo Accordo Interconfederale del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9 giugno 2008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UROPA, ATTO UNICO EUROPEO (198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292929"/>
                </a:solidFill>
                <a:uFillTx/>
                <a:latin typeface="Arial"/>
              </a:rPr>
              <a:t>Art. 21, AUE</a:t>
            </a:r>
            <a:r>
              <a:rPr b="1" lang="it-IT" sz="1600" spc="-1" strike="noStrike">
                <a:solidFill>
                  <a:srgbClr val="292929"/>
                </a:solidFill>
                <a:latin typeface="Arial"/>
              </a:rPr>
              <a:t> : </a:t>
            </a:r>
            <a:r>
              <a:rPr b="0" lang="it-IT" sz="1600" spc="-1" strike="noStrike">
                <a:solidFill>
                  <a:srgbClr val="292929"/>
                </a:solidFill>
                <a:latin typeface="Arial"/>
              </a:rPr>
              <a:t>Il </a:t>
            </a:r>
            <a:r>
              <a:rPr b="1" lang="it-IT" sz="1600" spc="-1" strike="noStrike" u="sng">
                <a:solidFill>
                  <a:srgbClr val="292929"/>
                </a:solidFill>
                <a:uFillTx/>
                <a:latin typeface="Arial"/>
              </a:rPr>
              <a:t>trattato CEE</a:t>
            </a:r>
            <a:r>
              <a:rPr b="0" lang="it-IT" sz="1600" spc="-1" strike="noStrike">
                <a:solidFill>
                  <a:srgbClr val="292929"/>
                </a:solidFill>
                <a:latin typeface="Arial"/>
              </a:rPr>
              <a:t> è completato dalle disposizioni seguenti: 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it-IT" sz="1600" spc="-1" strike="noStrike">
                <a:solidFill>
                  <a:srgbClr val="292929"/>
                </a:solidFill>
                <a:latin typeface="Arial"/>
              </a:rPr>
              <a:t>«</a:t>
            </a:r>
            <a:r>
              <a:rPr b="1" lang="it-IT" sz="1600" spc="-1" strike="noStrike" u="sng">
                <a:solidFill>
                  <a:srgbClr val="292929"/>
                </a:solidFill>
                <a:uFillTx/>
                <a:latin typeface="Arial"/>
              </a:rPr>
              <a:t>Articolo 118 A</a:t>
            </a:r>
            <a:r>
              <a:rPr b="0" lang="it-IT" sz="1600" spc="-1" strike="noStrike">
                <a:solidFill>
                  <a:srgbClr val="292929"/>
                </a:solidFill>
                <a:latin typeface="Arial"/>
              </a:rPr>
              <a:t>,</a:t>
            </a:r>
            <a:r>
              <a:rPr b="0" lang="it-IT" sz="1600" spc="-1" strike="noStrike">
                <a:solidFill>
                  <a:srgbClr val="292929"/>
                </a:solidFill>
                <a:latin typeface="Arial"/>
              </a:rPr>
              <a:t> 1. Gli stati membri si adoperano per promuovere il miglioramento in particolare dell'ambiente di lavoro per tutelare la sicurezza e la salute dei lavoratori, e si fissano come obiettivo l'armonizzazione, in una prospettiva di progresso, delle condizioni esistenti in questo settore.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it-IT" sz="1600" spc="-1" strike="noStrike">
                <a:solidFill>
                  <a:srgbClr val="292929"/>
                </a:solidFill>
                <a:latin typeface="Arial"/>
              </a:rPr>
              <a:t>2. Per contribuire alla realizzazione dell'obiettivo previsto al paragrafo 1, il Consiglio, deliberando a </a:t>
            </a:r>
            <a:r>
              <a:rPr b="0" lang="it-IT" sz="1600" spc="-1" strike="noStrike">
                <a:solidFill>
                  <a:srgbClr val="292929"/>
                </a:solidFill>
                <a:latin typeface="Arial"/>
              </a:rPr>
              <a:t>maggioranza qualificata</a:t>
            </a:r>
            <a:r>
              <a:rPr b="0" lang="it-IT" sz="1600" spc="-1" strike="noStrike">
                <a:solidFill>
                  <a:srgbClr val="292929"/>
                </a:solidFill>
                <a:latin typeface="Arial"/>
              </a:rPr>
              <a:t> su proposta della Commissione, in cooperazione con il Parlamento europeo e previa consultazione del Comitato economico e sociale, adotta mediante </a:t>
            </a:r>
            <a:r>
              <a:rPr b="0" lang="it-IT" sz="1600" spc="-1" strike="noStrike">
                <a:solidFill>
                  <a:srgbClr val="292929"/>
                </a:solidFill>
                <a:latin typeface="Arial"/>
              </a:rPr>
              <a:t>direttive</a:t>
            </a:r>
            <a:r>
              <a:rPr b="0" lang="it-IT" sz="1600" spc="-1" strike="noStrike">
                <a:solidFill>
                  <a:srgbClr val="292929"/>
                </a:solidFill>
                <a:latin typeface="Arial"/>
              </a:rPr>
              <a:t> le prescrizioni minime applicabili progressivamente, tenendo conto delle condizioni e delle normative tecniche esistenti in ciascuno stato membro. Tali direttive eviteranno di imporre vincoli amministrativi, finanziari e giuridici di natura tale da ostacolare la creazione e lo sviluppo di piccole e medie imprese.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it-IT" sz="1600" spc="-1" strike="noStrike">
                <a:solidFill>
                  <a:srgbClr val="292929"/>
                </a:solidFill>
                <a:latin typeface="Arial"/>
              </a:rPr>
              <a:t>3. Le disposizioni adottate a norma del presente articolo non ostano a che ciascuno stato membro mantenga e stabilisca misure, compatibili con il presente trattato, per una maggiore protezione delle condizioni di lavoro».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A, TRATTATO SUL FUNZIONAMENTO DELL’UNIONE EUROPEA (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Art. 153, comma 1, lett. a), TFUE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 :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er conseguire gli obiettivi previsti all'articolo 151, l'Unione sostiene e completa l'azione degli Stati membri nei seguenti settori: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iglioramento, in particolare, dell'ambiente di lavoro, per proteggere la sicurezza e la salute dei lavoratori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UROPA, DIRETTIVA 93/104/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92929"/>
                </a:solidFill>
                <a:uFillTx/>
                <a:latin typeface="Arial"/>
              </a:rPr>
              <a:t>Direttiva 93/104/CE del Consiglio,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del 23 novembre 1993, concernente taluni aspetti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ell'organizzazione dell'orario di lavoro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Il Consiglio dell’Unione Europea, visto il trattato che istituisce la Comunità europea, in particolare l'</a:t>
            </a:r>
            <a:r>
              <a:rPr b="0" i="1" lang="en-US" sz="2000" spc="-1" strike="noStrike" u="sng">
                <a:solidFill>
                  <a:srgbClr val="292929"/>
                </a:solidFill>
                <a:uFillTx/>
                <a:latin typeface="Arial"/>
              </a:rPr>
              <a:t>articolo 118 A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, vista la proposta della Commissione, in cooperazione con il Parlamento europeo, visto il parere del Comitato economico e sociale, considerando che l'articolo 118 A del trattato prevede che il Consiglio adotti, mediante direttiva, prescrizioni minime per promuovere in particolare il miglioramento dell'ambiente di lavoro, per garantire un più elevato livello di protezione della sicurezza e della salute dei lavoratori [..] ha adottato la presente direttiva [..]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A, SENTENZA 12. 11. 1996 — CAUS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-84/9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REGNO UNITO V. CONSIGL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292929"/>
                </a:solidFill>
                <a:uFillTx/>
                <a:latin typeface="Arial"/>
              </a:rPr>
              <a:t>P. to 13: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Il governo del 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Regno Unito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fa valere, richiamando la lettera stessa dell'art. 118 A, che [..] la durata del lavoro settimanale, le ferie annuali retribuite e i periodi di pausa, presenterebbero un legame troppo tenue con la sicurezza e la salute dei lavoratori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292929"/>
                </a:solidFill>
                <a:uFillTx/>
                <a:latin typeface="Arial"/>
              </a:rPr>
              <a:t>P. to 15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: Non vi è nulla nella formulazione dell'art. 118 A che possa indicare che le nozioni di «ambiente di lavoro», «sicurezza» e «salute», ai sensi di tale disposizione, andrebbero interpretate — in assenza di altri elementi più precisi — in senso restrittivo e non invece come riguardanti tutti i fattori, fisici e di altra natura, in grado di incidere sulla salute e sulla sicurezza del lavoratore nel suo ambiente di lavoro e, in particolare, taluni aspetti dell'organizzazione dell'orario di lavoro. Al contrario, i termini «in particolare dell'ambiente di lavoro» depongono a favore di un'interpretazione ampia della competenza attribuita al Consiglio dall'art. 118 A in materia di tutela della sicurezza e della salute dei lavoratori [..]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A, SENTENZA 12. 11. 1996 — CAUS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-84/9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REGNO UNITO V. CONSIGL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292929"/>
                </a:solidFill>
                <a:uFillTx/>
                <a:latin typeface="Arial"/>
              </a:rPr>
              <a:t>P. to 16:</a:t>
            </a: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 Il governo </a:t>
            </a: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ricorrente</a:t>
            </a: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 fa ancora valere che, in forza dell'art. 118 A, n. 2, [..] tale disposizione autorizzerebbe il Consiglio ad adottare misure di armonizzazione soltanto ad un livello accettabile per tutti gli Stati membri e che costituisca un punto di riferimento minimo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292929"/>
                </a:solidFill>
                <a:uFillTx/>
                <a:latin typeface="Arial"/>
              </a:rPr>
              <a:t>P. to 17:</a:t>
            </a:r>
            <a:r>
              <a:rPr b="1" lang="it-IT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L'espressione «prescrizioni minime» di cui all'art. 118 A significa soltanto, [..] che essa consente agli Stati membri di adottare norme più rigorose di quelle che sono oggetto dell'intervento comunitario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UROP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TTIVA “MADRE” 80/1107/C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92929"/>
                </a:solidFill>
                <a:uFillTx/>
                <a:latin typeface="Arial"/>
              </a:rPr>
              <a:t>Direttiva 80/1107/CEE del Consiglio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, del 27 novembre 1980, sulla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rotezione dei lavoratori contro i rischi derivanti da un'esposizione ad agenti chimici, fisici e biologici durante il lavoro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Il Consiglio delle Comunità Europee, visto il trattato che istituisce la Comunità economica europea, in particolare l'</a:t>
            </a:r>
            <a:r>
              <a:rPr b="0" i="1" lang="en-US" sz="2000" spc="-1" strike="noStrike" u="sng">
                <a:solidFill>
                  <a:srgbClr val="292929"/>
                </a:solidFill>
                <a:uFillTx/>
                <a:latin typeface="Arial"/>
              </a:rPr>
              <a:t>articolo 100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, vista la proposta della Commissione, elaborata previa consultazione del comitato consultivo sulla sicurezza, l'igiene e la tutela della salute sul luogo di lavoro, visto il parere del Parlamento europeo, visto il parere del Comitato economico e sociale, considerando che [..] ha adottato la presente direttiva [..]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UROP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TTIVA QUADRO 89/391/C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292929"/>
                </a:solidFill>
                <a:uFillTx/>
                <a:latin typeface="Arial"/>
              </a:rPr>
              <a:t>Direttiva 89/391/CEE del Consiglio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, del 12 giugno 1989, concernente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l'attuazione di misure volte a promuovere il miglioramento della sicurezza e della salute dei lavoratori durante il lavoro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i="1" lang="en-US" sz="1800" spc="-1" strike="noStrike">
                <a:solidFill>
                  <a:srgbClr val="292929"/>
                </a:solidFill>
                <a:latin typeface="Arial"/>
              </a:rPr>
              <a:t>Il Consiglio delle Comunità Europee, visto il trattato che istituisce la Comunità economica europea, in particolare </a:t>
            </a:r>
            <a:r>
              <a:rPr b="0" i="1" lang="en-US" sz="1800" spc="-1" strike="noStrike" u="sng">
                <a:solidFill>
                  <a:srgbClr val="292929"/>
                </a:solidFill>
                <a:uFillTx/>
                <a:latin typeface="Arial"/>
              </a:rPr>
              <a:t>l'articolo 118 A</a:t>
            </a:r>
            <a:r>
              <a:rPr b="0" i="1" lang="en-US" sz="1800" spc="-1" strike="noStrike">
                <a:solidFill>
                  <a:srgbClr val="292929"/>
                </a:solidFill>
                <a:latin typeface="Arial"/>
              </a:rPr>
              <a:t>, vista la proposta della Commissione, elaborata previa consultazione del Comitato consultivo per la sicurezza, l'igiene e la protezione della salute sul luogo di lavoro, in cooperazione con il Parlamento europeo, visto il parere del Comitato economico e sociale, considerando che l'articolo 118 A del trattato prevede che il Consiglio adotti, mediante direttiva , le prescrizioni minime per promuovere il miglioramento in particolare dell'ambiente di lavoro, per garantire un più elevato livello di protezione della sicurezza e della salute dei lavoratori [..] ha adottato la presente direttiva [..]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UROPA, DIRETTIVE E BASE GIURIDICA (prima dell’AU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92929"/>
                </a:solidFill>
                <a:uFillTx/>
                <a:latin typeface="Arial"/>
              </a:rPr>
              <a:t>Art. 100 TCEE 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l Consiglio, deliberando all’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unanimità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su proposta della Commissione, stabilisce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irettive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volte al ravvicinamento delle disposizioni legislative, regolamentari ed amministrative degli Stati membri che abbiano un’incidenza diretta sull’instaurazione o sul funzionamento del mercato comune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L’Assemblea e il Comitato economico e sociale sono consultati sulle direttive la cui esecuzione importerebbe, in uno o più Stati membri, una modificazione nelle disposizioni legislativ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6T11:18:07Z</dcterms:created>
  <dc:creator>Giulia</dc:creator>
  <dc:description/>
  <dc:language>en-US</dc:language>
  <cp:lastModifiedBy>Giulia</cp:lastModifiedBy>
  <dcterms:modified xsi:type="dcterms:W3CDTF">1980-01-04T19:39:00Z</dcterms:modified>
  <cp:revision>44</cp:revision>
  <dc:subject/>
  <dc:title>EUROPA</dc:title>
</cp:coreProperties>
</file>