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E8D-B78B-4787-9680-3710908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13F-9779-40C8-BB72-42DCC307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887-FAB4-46AC-A7B5-E87AA37B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08C-7C53-463C-AD2B-72DF3902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056-AEF8-4A42-B536-2430244E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16DF-41D5-4311-8B84-81F71F8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F642-4961-45FB-9801-326B4435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9F71-5EAF-47F0-A32E-9E9F892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F687-1B2C-406D-87A7-9AE9C88A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A4CE-2BE6-4FBA-AB31-66665B5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7BA0-DF41-49CE-B4FC-F0D06C5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9BB-535E-4150-AEB6-91599B2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B609-1C49-4AAA-AA0A-C523AF0A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DC38-B05E-463D-9EE1-09BF9DE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4FF9-D99F-4BAA-B6FB-08C0BEE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ABA6-88FE-4809-8FB0-DF24695E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804D-853F-4A3C-937E-9A03041B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099-41C7-4675-A969-9FC0928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419-B76D-4CF3-ABE4-CC54A58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6EE-CC1F-41DB-9263-81EE4B4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A09-E82F-436C-8AB3-B0BC978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A4D-A389-481F-9A4B-3178A95C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EA3-378F-46CF-BF10-98C44F7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7EC-1F75-43EC-B120-9AC08CD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2DB9-92F8-43D4-895C-D6DEAA10209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CE5-A88D-4B68-85B6-16D7B84A7CD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DAMENTI NORMA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OSTITUZIONE E     CODICE CIVI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second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[..] e garantisc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tutela la salute come fondamentale diritto dell’individuo e interesse della collettività e garantisce cure gratuite agli indigen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9422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», comma 1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Repubblica tutela la salute come fondamentale diritto dell’individuo e interesse della collettività mediante il Servizio Sanitario Nazion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6726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GE 23 DICEMBRE 1978, N. 83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istitutrice del Servizio Sanitario Nazion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1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 Principi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omma 3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Il Servizio Sanitario Nazionale è costituito dal complesso delle funzioni, delle strutture, dei servizi e delle attività destinati alla promozione, al mantenimento ed al recupero della salute fisica e psichica di tutta la popolazione senza distinzione di condizioni individuali o sociali e secondo modalità che assicurino l’eguaglianza dei cittadini nei confronti del servizi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. 117, comma 2, Cost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: Lo Stato ha legislazione esclusiva nelle seguenti materie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l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giurisdizione e norme processuali; ordinamento civile e penale; giustizia amministrativa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m)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terminazione dei livelli essenziali delle prestazioni concernenti i diritti civili e sociali che devono essere garantiti su tutto il territorio nazional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[..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17, comma 3, Cost.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ono materie di legislazione concorrente quelle relative a: [..] tutela e sicurezza del lavoro; tutela della salute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5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Indirizzo della produzione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Il controllo sull’indirizzo della produzione e degli scambi in relazione all’interesse unitario dell’economia nazionale è esercitato dallo Stato, nei modi previsti dalla legge e dalle norme corporativ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legge stabilisce altresì i casi e i modi nei quali si esercita la vigilanza dello Stato sulla gestione delle impr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CE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2087, «</a:t>
            </a: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Tutela delle condizioni di lavoro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», c.c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’imprenditore è tenuto ad adottare nell’esercizio dell’impresa le misure che, secondo la particolarità del lavoro, l’esperienza e la tecnica, sono necessarie a tutelare l’integrità fisica e la personalità morale dei prestatori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’Italia è una Repubblica democratica, fondata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sovranità appartiene al popolo, che la esercita nelle forme e nei limiti della Costituzio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5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La Repubblica tutela il lavoro in tutte le sue forme ed applicazion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ura la formazione e l’elevazione professional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muove e favorisce gli accordi e le organizzazioni internazionali intesi ad affermare e regolare i diritti de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nosce la libertà di emigrazione, salvo gli obblighi stabiliti dalla legge nell’interesse generale, e tutela il lavoro italiano all’este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42, comma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proprietà privata è riconosciuta e garantita dalla legge, che ne determina i modi di acquisto, di godimento e i limiti allo scopo di assicurarne la funzione sociale e di renderla accessibile a tutt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, comma 1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comma 2, Cost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: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 Cost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: Tutti i cittadini hanno pari dignità sociale e sono eguali davanti alla legge, senza distinzione di sesso, di razza, di lingua, di religione, di opinioni politiche, di condizioni personali e sociali. E’ compito della Repubblica rimuovere gli ostacoli di ordine economico e sociale che, limitando di fatto la libertà e l’eguaglianza dei cittadini, impediscono il pieno sviluppo della persona umana e l’effettiva partecipazione di tutti i lavoratori all’organizzazione politica, economica e sociale del Paes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, Cost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 La Repubblica riconosce e garantisce i diritti inviolabili dell’uomo, sia come singolo sia nelle formazioni sociali ove si svolge la sua personalità, e richiede l’adempimento dei doveri inderogabili di solidarietà politica, economica e socia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32, comma 1, Cost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(prima parte):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La Repubblica tutela la salute come fondamentale diritto dell’individuo e interesse della collettività [..]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1T14:52:47Z</dcterms:created>
  <dc:creator>Giulia</dc:creator>
  <dc:description/>
  <dc:language>en-US</dc:language>
  <cp:lastModifiedBy>Giulia</cp:lastModifiedBy>
  <dcterms:modified xsi:type="dcterms:W3CDTF">2017-03-01T16:59:03Z</dcterms:modified>
  <cp:revision>17</cp:revision>
  <dc:subject/>
  <dc:title>FONDAMENTI NORMATIVI</dc:title>
</cp:coreProperties>
</file>