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42.jpeg" ContentType="image/jpeg"/>
  <Override PartName="/ppt/media/image2.png" ContentType="image/png"/>
  <Override PartName="/ppt/media/image32.png" ContentType="image/png"/>
  <Override PartName="/ppt/media/image4.jpeg" ContentType="image/jpeg"/>
  <Override PartName="/ppt/media/image6.png" ContentType="image/png"/>
  <Override PartName="/ppt/media/image36.png" ContentType="image/png"/>
  <Override PartName="/ppt/media/image30.png" ContentType="image/png"/>
  <Override PartName="/ppt/media/image10.jpeg" ContentType="image/jpeg"/>
  <Override PartName="/ppt/media/image28.png" ContentType="image/png"/>
  <Override PartName="/ppt/media/image45.png" ContentType="image/png"/>
  <Override PartName="/ppt/media/image34.png" ContentType="image/png"/>
  <Override PartName="/ppt/media/image44.png" ContentType="image/png"/>
  <Override PartName="/ppt/media/image40.jpeg" ContentType="image/jpeg"/>
  <Override PartName="/ppt/media/image9.png" ContentType="image/png"/>
  <Override PartName="/ppt/media/image46.png" ContentType="image/png"/>
  <Override PartName="/ppt/media/image47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12.png" ContentType="image/png"/>
  <Override PartName="/ppt/media/image49.png" ContentType="image/png"/>
  <Override PartName="/ppt/media/image52.png" ContentType="image/png"/>
  <Override PartName="/ppt/media/image41.png" ContentType="image/png"/>
  <Override PartName="/ppt/media/image53.png" ContentType="image/png"/>
  <Override PartName="/ppt/media/image5.png" ContentType="image/png"/>
  <Override PartName="/ppt/media/image43.jpeg" ContentType="image/jpeg"/>
  <Override PartName="/ppt/media/image35.png" ContentType="image/png"/>
  <Override PartName="/ppt/media/image39.jpeg" ContentType="image/jpeg"/>
  <Override PartName="/ppt/media/image38.png" ContentType="image/png"/>
  <Override PartName="/ppt/media/image8.png" ContentType="image/png"/>
  <Override PartName="/ppt/media/image14.jpeg" ContentType="image/jpeg"/>
  <Override PartName="/ppt/media/image54.png" ContentType="image/png"/>
  <Override PartName="/ppt/media/image37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278A-CA05-4CD3-9E87-D2DCFAE51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1FE70-6928-4BBF-AD98-64E85A71F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9DF1-ED21-47DE-A908-D2E38F49E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1766B-E1B9-4F64-BE53-BC60EE888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EBF02-DCF5-42D1-84AF-2AEA7ACBD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A51-42A7-44F4-8B36-5096C9570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55AC-1D61-45AC-AC8B-2EE2E0547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6D419-E5D6-4613-B4BF-D6AE76A34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A03-FAC8-4DBC-AE48-74920866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7376-2A25-42AE-B628-BE50F2CF7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4CDC9-50C4-4DED-A076-313CEC07F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27DBC-24CD-4D4E-BE8B-EBF2707F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A5834-8D33-446E-8758-E344BADBAE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image" Target="../media/image29.png"/><Relationship Id="rId5" Type="http://schemas.openxmlformats.org/officeDocument/2006/relationships/image" Target="../media/image30.png"/><Relationship Id="rId6" Type="http://schemas.openxmlformats.org/officeDocument/2006/relationships/image" Target="../media/image31.png"/><Relationship Id="rId7" Type="http://schemas.openxmlformats.org/officeDocument/2006/relationships/image" Target="../media/image32.png"/><Relationship Id="rId8" Type="http://schemas.openxmlformats.org/officeDocument/2006/relationships/image" Target="../media/image33.png"/><Relationship Id="rId9" Type="http://schemas.openxmlformats.org/officeDocument/2006/relationships/image" Target="../media/image34.png"/><Relationship Id="rId10" Type="http://schemas.openxmlformats.org/officeDocument/2006/relationships/image" Target="../media/image35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pn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946080" y="168120"/>
            <a:ext cx="7392960" cy="5376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519200" y="5584680"/>
            <a:ext cx="62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zioni guida ex tempore 2 - strut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68440" y="6027840"/>
            <a:ext cx="628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Ing. Luca Capell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rcRect l="22222" t="0" r="13172" b="0"/>
          <a:stretch/>
        </p:blipFill>
        <p:spPr>
          <a:xfrm>
            <a:off x="330120" y="3648240"/>
            <a:ext cx="3848040" cy="302544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900680" y="3776760"/>
            <a:ext cx="3495600" cy="290340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1065240" y="933480"/>
            <a:ext cx="4811760" cy="13795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568440" y="298440"/>
            <a:ext cx="7994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N° strati: 3 oppure 5 7 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pessori commerci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mensioni commercial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240/250/272/295)x1350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verticali (pareti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Giunti orizzontali (sola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4320" y="0"/>
            <a:ext cx="324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vola tipo Sistema a Pannel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25280" y="333360"/>
            <a:ext cx="2648160" cy="336240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784600" y="331920"/>
            <a:ext cx="2460600" cy="339552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5305320" y="0"/>
            <a:ext cx="2586240" cy="342576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4"/>
          <a:srcRect l="0" t="0" r="16535" b="0"/>
          <a:stretch/>
        </p:blipFill>
        <p:spPr>
          <a:xfrm>
            <a:off x="7821720" y="1935000"/>
            <a:ext cx="1322280" cy="15544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5"/>
          <a:stretch/>
        </p:blipFill>
        <p:spPr>
          <a:xfrm>
            <a:off x="6497640" y="5240160"/>
            <a:ext cx="2646360" cy="1602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6"/>
          <a:stretch/>
        </p:blipFill>
        <p:spPr>
          <a:xfrm>
            <a:off x="4497480" y="5411880"/>
            <a:ext cx="1903320" cy="144612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7"/>
          <a:stretch/>
        </p:blipFill>
        <p:spPr>
          <a:xfrm>
            <a:off x="4516560" y="3741840"/>
            <a:ext cx="1635120" cy="16668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8"/>
          <a:stretch/>
        </p:blipFill>
        <p:spPr>
          <a:xfrm>
            <a:off x="0" y="5184720"/>
            <a:ext cx="2527200" cy="167328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9"/>
          <a:stretch/>
        </p:blipFill>
        <p:spPr>
          <a:xfrm>
            <a:off x="2157480" y="4048200"/>
            <a:ext cx="2320920" cy="16383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814920"/>
            <a:ext cx="2016000" cy="1099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6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6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0"/>
          <a:stretch/>
        </p:blipFill>
        <p:spPr>
          <a:xfrm>
            <a:off x="6208560" y="3576600"/>
            <a:ext cx="2935440" cy="15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5840" y="1217520"/>
            <a:ext cx="8659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Fondazion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3352680" y="1257480"/>
            <a:ext cx="5727960" cy="4978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343080" y="6189840"/>
            <a:ext cx="865980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VAM s.p.a. Progetto di un fabbricato secondo i principi dell’architettura biologica – Mirandola (MO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317520" y="1712880"/>
            <a:ext cx="3111480" cy="183528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343080" y="3840120"/>
            <a:ext cx="3017520" cy="218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5972040" y="1271520"/>
            <a:ext cx="2880000" cy="2160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3"/>
          <a:stretch/>
        </p:blipFill>
        <p:spPr>
          <a:xfrm>
            <a:off x="343080" y="5075280"/>
            <a:ext cx="4760640" cy="1422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74" name="" descr=""/>
          <p:cNvPicPr/>
          <p:nvPr/>
        </p:nvPicPr>
        <p:blipFill>
          <a:blip r:embed="rId4"/>
          <a:stretch/>
        </p:blipFill>
        <p:spPr>
          <a:xfrm>
            <a:off x="5508720" y="3745080"/>
            <a:ext cx="3635280" cy="285876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343080" y="1273320"/>
            <a:ext cx="2879640" cy="216036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/>
          <p:cNvPicPr/>
          <p:nvPr/>
        </p:nvPicPr>
        <p:blipFill>
          <a:blip r:embed="rId6"/>
          <a:stretch/>
        </p:blipFill>
        <p:spPr>
          <a:xfrm>
            <a:off x="3321000" y="1428840"/>
            <a:ext cx="2554200" cy="191592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7"/>
          <a:stretch/>
        </p:blipFill>
        <p:spPr>
          <a:xfrm>
            <a:off x="339840" y="3562200"/>
            <a:ext cx="4892400" cy="14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5840" y="1284120"/>
            <a:ext cx="8601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23840" y="2778120"/>
            <a:ext cx="157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aric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151080" y="2386080"/>
            <a:ext cx="0" cy="12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147840" y="238932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208240" y="3013200"/>
            <a:ext cx="939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156120" y="3649680"/>
            <a:ext cx="95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148280" y="2185920"/>
            <a:ext cx="477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anent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Peso della struttura (sempre present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119480" y="3448080"/>
            <a:ext cx="471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identali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– (neve, peso delle persone, arredamen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419040" y="4633920"/>
            <a:ext cx="6623280" cy="155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85840" y="1284120"/>
            <a:ext cx="3368520" cy="14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Luce, Interas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(luce) = 5.30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(interasse) = 0.80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fascia rossa è l’area di influenza del travet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3716280" y="1417680"/>
            <a:ext cx="5456160" cy="51228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509760" y="3798720"/>
            <a:ext cx="2300040" cy="21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5840" y="12841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perman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3311640"/>
            <a:ext cx="15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oper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402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369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97360" y="3546360"/>
            <a:ext cx="188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9448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91508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921200" y="333072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908600" y="4537080"/>
            <a:ext cx="290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19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022800" y="14590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fald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Isolamen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1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Tegole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  6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24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730760" y="205884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3080" y="130032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a fal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534960" y="1627200"/>
            <a:ext cx="3090960" cy="1487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504720" y="3538440"/>
            <a:ext cx="4152960" cy="315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1" name=""/>
          <p:cNvSpPr/>
          <p:nvPr/>
        </p:nvSpPr>
        <p:spPr>
          <a:xfrm>
            <a:off x="343080" y="3159000"/>
            <a:ext cx="134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64040" y="47577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045120" y="4086360"/>
            <a:ext cx="268596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pian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acchetto copertura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hiaia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1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37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022800" y="1820880"/>
            <a:ext cx="2686320" cy="1312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Copertura a giardin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– travi in legn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Peso proprio travi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5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Doppio tavolato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Guaine + terreno                          1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Tot. permanenti Gk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 28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>
                <a:solidFill>
                  <a:srgbClr val="000000"/>
                </a:solidFill>
                <a:latin typeface="Arial"/>
              </a:rPr>
              <a:t>Accidental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(neve – zona 1a, m=0,8 )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Qk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	</a:t>
            </a:r>
            <a:r>
              <a:rPr b="0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it-IT" sz="1000" spc="-1" strike="noStrike" u="sng">
                <a:solidFill>
                  <a:srgbClr val="000000"/>
                </a:solidFill>
                <a:uFillTx/>
                <a:latin typeface="Arial"/>
              </a:rPr>
              <a:t>12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Totale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Gk+Qk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000" spc="-1" strike="noStrike">
                <a:solidFill>
                  <a:srgbClr val="000000"/>
                </a:solidFill>
                <a:latin typeface="Arial"/>
              </a:rPr>
              <a:t>400 kg/m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149800" y="2496960"/>
            <a:ext cx="655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43080" y="1300320"/>
            <a:ext cx="195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tto giardi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33360" y="1779480"/>
            <a:ext cx="4699080" cy="16066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si di carico accide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5840" y="16462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carichi accidentali in copertura sono riferiti alla neve è cambiano in relazione alle località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sideriamo come città Ferrara, Bari e Bolza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351000" y="2281320"/>
            <a:ext cx="6592680" cy="41972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7162920" y="2330280"/>
            <a:ext cx="198108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cidentali nev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rrara 12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lzano 43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i 80 Kg/m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233280" y="2033640"/>
            <a:ext cx="1220760" cy="9475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3"/>
          <a:stretch/>
        </p:blipFill>
        <p:spPr>
          <a:xfrm>
            <a:off x="1595520" y="2028960"/>
            <a:ext cx="1190520" cy="9475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4"/>
          <a:stretch/>
        </p:blipFill>
        <p:spPr>
          <a:xfrm>
            <a:off x="2943360" y="2048040"/>
            <a:ext cx="1171440" cy="9331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362240" y="1351080"/>
            <a:ext cx="621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chema statico di una strut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191120" y="2022480"/>
            <a:ext cx="42098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 comportamenti statici nelle struttu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glob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nel pian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rtamento del pannello fuori dal pian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5840" y="3191040"/>
            <a:ext cx="206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e evitare tutto ci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6400" y="5784840"/>
            <a:ext cx="115272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78480" y="5213160"/>
            <a:ext cx="1952640" cy="127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5213520" y="4495680"/>
            <a:ext cx="1952280" cy="1276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70840" y="4495680"/>
            <a:ext cx="1152360" cy="704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211720" y="4851360"/>
            <a:ext cx="115272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5207040" y="484164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6370560" y="55623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174080" y="357516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7169040" y="356544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8332920" y="4286160"/>
            <a:ext cx="0" cy="928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202440" y="4200480"/>
            <a:ext cx="1152360" cy="704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6197760" y="419076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361280" y="4911480"/>
            <a:ext cx="0" cy="928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85840" y="348300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 telai nella figura a destra potrebbero da soli sostenere un solaio, ma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85840" y="4038480"/>
            <a:ext cx="430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i rende necessario il loro collegamento con delle travi, per le sollecitazioni che provocherebbero il ribaltamento, ma……………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5840" y="4927680"/>
            <a:ext cx="4300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 rende necessario l’aggiunta di controventature per contrastare le azioni orizzontal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3223800">
            <a:off x="5346720" y="47894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223800">
            <a:off x="6365880" y="417024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3223800">
            <a:off x="7305480" y="3554280"/>
            <a:ext cx="144360" cy="395280"/>
          </a:xfrm>
          <a:custGeom>
            <a:avLst/>
            <a:gdLst>
              <a:gd name="textAreaLeft" fmla="*/ 19080 w 144360"/>
              <a:gd name="textAreaRight" fmla="*/ 125280 w 144360"/>
              <a:gd name="textAreaTop" fmla="*/ 69120 h 395280"/>
              <a:gd name="textAreaBottom" fmla="*/ 286560 h 3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715342"/>
                <a:lnTo>
                  <a:pt x="14521" y="21182"/>
                </a:lnTo>
                <a:lnTo>
                  <a:pt x="21600" y="17280"/>
                </a:lnTo>
                <a:lnTo>
                  <a:pt x="14521" y="12542"/>
                </a:lnTo>
                <a:lnTo>
                  <a:pt x="14521" y="14702"/>
                </a:lnTo>
                <a:arcTo wR="21600" hR="7560" stAng="8084658" swAng="2357907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39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375240" y="427968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5210280" y="3568320"/>
            <a:ext cx="1952640" cy="12762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369400">
            <a:off x="8124480" y="563040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2369400">
            <a:off x="7121160" y="628776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13010400">
            <a:off x="5008320" y="429192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3010400">
            <a:off x="5978160" y="3693240"/>
            <a:ext cx="539640" cy="65160"/>
          </a:xfrm>
          <a:prstGeom prst="leftArrow">
            <a:avLst>
              <a:gd name="adj1" fmla="val 50000"/>
              <a:gd name="adj2" fmla="val 207044"/>
            </a:avLst>
          </a:prstGeom>
          <a:solidFill>
            <a:srgbClr val="00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040" bIns="-14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6373800" y="4923000"/>
            <a:ext cx="97776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7364520" y="4284360"/>
            <a:ext cx="95544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369120" y="5559480"/>
            <a:ext cx="99360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353360" y="4911840"/>
            <a:ext cx="984240" cy="29844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5208480" y="4204800"/>
            <a:ext cx="978120" cy="15526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6199200" y="3567240"/>
            <a:ext cx="955800" cy="155232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03800" y="4842000"/>
            <a:ext cx="993960" cy="29196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188040" y="4194000"/>
            <a:ext cx="984240" cy="29880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85840" y="5657760"/>
            <a:ext cx="43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esso la nostra struttura è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16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17" dur="3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0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1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5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6" dur="3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7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8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9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0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34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35" dur="3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6" dur="3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7" dur="6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8" dur="6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" dur="6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5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3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3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3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3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3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3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7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8" dur="2000" fill="hold"/>
                                        <p:tgtEl>
                                          <p:spTgt spid="7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8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0" dur="2000" fill="hold"/>
                                        <p:tgtEl>
                                          <p:spTgt spid="7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9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7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0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5840" y="1217520"/>
            <a:ext cx="389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ico sism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1573200" y="1744560"/>
            <a:ext cx="631368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353880" y="2352600"/>
            <a:ext cx="8634600" cy="32241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85840" y="1690560"/>
            <a:ext cx="865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Tabella di predimension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09/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85840" y="1690560"/>
            <a:ext cx="86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diamo come in base ai riferimenti delle città considerate, si ottiene il predimensionamento di una copertura a due fal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63520" y="2109960"/>
            <a:ext cx="851076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85840" y="128412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struzioni in leg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790560" y="3311640"/>
            <a:ext cx="267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pologia costru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330800" y="2509920"/>
            <a:ext cx="0" cy="220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27560" y="2500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87600" y="3546360"/>
            <a:ext cx="1887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35480" y="4705200"/>
            <a:ext cx="95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05320" y="228600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latform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11800" y="3378240"/>
            <a:ext cx="21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vi e pilast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9200" y="4537080"/>
            <a:ext cx="2904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nnelli port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5840" y="128268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ff3300"/>
                </a:solidFill>
                <a:uFillTx/>
                <a:latin typeface="Arial"/>
              </a:rPr>
              <a:t>Platform fra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47560" y="2484360"/>
            <a:ext cx="3934080" cy="1219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285840" y="17128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montanti di dimensioni 60mmx120mm, posizionati ad interasse di 60cm assemblati da pannelli OSB spessore 25m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spazi con luci inferiori a 6 m, schema tipologico vincolato a piante squadr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63480" y="3622680"/>
            <a:ext cx="3111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colare dello schema struttur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 rot="60000">
            <a:off x="576360" y="4057560"/>
            <a:ext cx="7547040" cy="2556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27040" y="6356520"/>
            <a:ext cx="311148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ie tipologie di pian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947880" y="1538280"/>
            <a:ext cx="3228840" cy="29908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708120" y="47149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ertura (ingressi, finest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867200" y="6210360"/>
            <a:ext cx="389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cato assonometrico di una strut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4952880" y="1257480"/>
            <a:ext cx="3753000" cy="49338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5840" y="1330200"/>
            <a:ext cx="151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Travi e pilas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5840" y="1779480"/>
            <a:ext cx="8658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mposta da pilastri di dimensione 20cmx20cm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334120" y="2540160"/>
            <a:ext cx="3438360" cy="22939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343080" y="2300400"/>
            <a:ext cx="4873320" cy="4290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233280" y="1206360"/>
            <a:ext cx="4469040" cy="52372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780080" y="3535200"/>
            <a:ext cx="4128840" cy="2619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129280" y="1265400"/>
            <a:ext cx="3551040" cy="22381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800" spc="-1" strike="noStrike" u="sng">
                <a:solidFill>
                  <a:srgbClr val="000000"/>
                </a:solidFill>
                <a:uFillTx/>
                <a:latin typeface="Arial"/>
              </a:rPr>
              <a:t>Cognento (MO): Sala condomini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6219720" y="260280"/>
            <a:ext cx="2635200" cy="6318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4848120" y="6068880"/>
            <a:ext cx="42958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San Giovanni In Persiceto (PO): Ampliamento civile abitaz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000000"/>
                </a:solidFill>
                <a:latin typeface="Arial"/>
              </a:rPr>
              <a:t>Progetto struttura  - Studio Capellar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4648320" y="760320"/>
            <a:ext cx="3987720" cy="378000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552920" cy="28116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0" y="2760840"/>
            <a:ext cx="4560840" cy="25160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5243400"/>
            <a:ext cx="1995480" cy="16146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2006640" y="5162400"/>
            <a:ext cx="2511360" cy="169560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7"/>
          <a:stretch/>
        </p:blipFill>
        <p:spPr>
          <a:xfrm>
            <a:off x="6675480" y="4057560"/>
            <a:ext cx="2311200" cy="20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3960720" cy="94932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0000" y="1197000"/>
            <a:ext cx="863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5840" y="1330200"/>
            <a:ext cx="575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3300"/>
                </a:solidFill>
                <a:uFillTx/>
                <a:latin typeface="Arial"/>
              </a:rPr>
              <a:t>Pannelli portanti XLAM Legno lamellare incroc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85840" y="1779480"/>
            <a:ext cx="865800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ruttur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Pannelli composti  da  vari strati di tavole in legno massiccio messi insieme con colle sintetiche, da posizionare in base alle esigenze progettuali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atteristica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ealizzazione di ampi spazi senza vincoli di luci, libertà progettuale nella forma tipolog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361800" y="2655720"/>
            <a:ext cx="4903920" cy="39052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5365800" y="2847960"/>
            <a:ext cx="3638520" cy="30114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140360" y="836640"/>
            <a:ext cx="151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3300"/>
                </a:solidFill>
                <a:latin typeface="Arial"/>
              </a:rPr>
              <a:t>2010/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4T09:26:41Z</dcterms:created>
  <dc:creator>OEM</dc:creator>
  <dc:description/>
  <dc:language>en-US</dc:language>
  <cp:lastModifiedBy>Capellari Luca</cp:lastModifiedBy>
  <dcterms:modified xsi:type="dcterms:W3CDTF">2010-10-26T16:01:57Z</dcterms:modified>
  <cp:revision>23</cp:revision>
  <dc:subject/>
  <dc:title>Diapositiva 1</dc:title>
</cp:coreProperties>
</file>