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5.png" ContentType="image/png"/>
  <Override PartName="/ppt/media/image42.jpeg" ContentType="image/jpeg"/>
  <Override PartName="/ppt/media/image2.png" ContentType="image/png"/>
  <Override PartName="/ppt/media/image32.png" ContentType="image/png"/>
  <Override PartName="/ppt/media/image4.jpeg" ContentType="image/jpeg"/>
  <Override PartName="/ppt/media/image6.png" ContentType="image/png"/>
  <Override PartName="/ppt/media/image36.png" ContentType="image/png"/>
  <Override PartName="/ppt/media/image30.png" ContentType="image/png"/>
  <Override PartName="/ppt/media/image10.jpeg" ContentType="image/jpeg"/>
  <Override PartName="/ppt/media/image28.png" ContentType="image/png"/>
  <Override PartName="/ppt/media/image45.png" ContentType="image/png"/>
  <Override PartName="/ppt/media/image34.png" ContentType="image/png"/>
  <Override PartName="/ppt/media/image44.png" ContentType="image/png"/>
  <Override PartName="/ppt/media/image40.jpeg" ContentType="image/jpeg"/>
  <Override PartName="/ppt/media/image9.png" ContentType="image/png"/>
  <Override PartName="/ppt/media/image46.png" ContentType="image/png"/>
  <Override PartName="/ppt/media/image47.png" ContentType="image/png"/>
  <Override PartName="/ppt/media/image50.png" ContentType="image/png"/>
  <Override PartName="/ppt/media/image13.png" ContentType="image/png"/>
  <Override PartName="/ppt/media/image11.png" ContentType="image/png"/>
  <Override PartName="/ppt/media/image48.png" ContentType="image/png"/>
  <Override PartName="/ppt/media/image51.png" ContentType="image/png"/>
  <Override PartName="/ppt/media/image12.png" ContentType="image/png"/>
  <Override PartName="/ppt/media/image49.png" ContentType="image/png"/>
  <Override PartName="/ppt/media/image52.png" ContentType="image/png"/>
  <Override PartName="/ppt/media/image41.png" ContentType="image/png"/>
  <Override PartName="/ppt/media/image53.png" ContentType="image/png"/>
  <Override PartName="/ppt/media/image5.png" ContentType="image/png"/>
  <Override PartName="/ppt/media/image43.jpeg" ContentType="image/jpeg"/>
  <Override PartName="/ppt/media/image35.png" ContentType="image/png"/>
  <Override PartName="/ppt/media/image39.jpeg" ContentType="image/jpeg"/>
  <Override PartName="/ppt/media/image38.png" ContentType="image/png"/>
  <Override PartName="/ppt/media/image8.png" ContentType="image/png"/>
  <Override PartName="/ppt/media/image14.jpeg" ContentType="image/jpeg"/>
  <Override PartName="/ppt/media/image54.png" ContentType="image/png"/>
  <Override PartName="/ppt/media/image37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B9C63-CAFF-406B-B5F5-949FD2395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25DF4-6D0C-4429-AF94-276B20ED4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7CF78-75DC-4CF6-92AA-FE17FCF84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2D892-EE6B-4A7D-88DA-524C428D7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3901A-40F6-4D64-AB58-B6F0C4F72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F5F3C-07AE-47E9-B1C4-B512F7707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56D5F-0D7A-4B06-B406-9221A9A28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54F3A-09AE-4243-BD5F-2B3C811B9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35C94-F63F-4106-80F3-FEF1F7913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38E29-24DB-4B27-8F77-E748B3327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E670D-E1C9-4028-9F30-55645F2F7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4B10B-0434-4201-AF4C-814FE2871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3884C-2E79-485C-BEDC-4902B076FC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image" Target="../media/image30.png"/><Relationship Id="rId6" Type="http://schemas.openxmlformats.org/officeDocument/2006/relationships/image" Target="../media/image31.png"/><Relationship Id="rId7" Type="http://schemas.openxmlformats.org/officeDocument/2006/relationships/image" Target="../media/image32.png"/><Relationship Id="rId8" Type="http://schemas.openxmlformats.org/officeDocument/2006/relationships/image" Target="../media/image33.png"/><Relationship Id="rId9" Type="http://schemas.openxmlformats.org/officeDocument/2006/relationships/image" Target="../media/image34.png"/><Relationship Id="rId10" Type="http://schemas.openxmlformats.org/officeDocument/2006/relationships/image" Target="../media/image35.png"/><Relationship Id="rId1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image" Target="../media/image38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image" Target="../media/image41.png"/><Relationship Id="rId5" Type="http://schemas.openxmlformats.org/officeDocument/2006/relationships/image" Target="../media/image42.jpeg"/><Relationship Id="rId6" Type="http://schemas.openxmlformats.org/officeDocument/2006/relationships/image" Target="../media/image43.jpeg"/><Relationship Id="rId7" Type="http://schemas.openxmlformats.org/officeDocument/2006/relationships/image" Target="../media/image44.png"/><Relationship Id="rId8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6.png"/><Relationship Id="rId3" Type="http://schemas.openxmlformats.org/officeDocument/2006/relationships/image" Target="../media/image47.pn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0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1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2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3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4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20.png"/><Relationship Id="rId8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1.jpe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946080" y="168120"/>
            <a:ext cx="7392960" cy="53769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519200" y="5584680"/>
            <a:ext cx="62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rmazioni guida ex tempore 2 - strut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68440" y="6027840"/>
            <a:ext cx="628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Ing. Luca Capellar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rcRect l="22222" t="0" r="13172" b="0"/>
          <a:stretch/>
        </p:blipFill>
        <p:spPr>
          <a:xfrm>
            <a:off x="330120" y="3648240"/>
            <a:ext cx="3848040" cy="302544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4900680" y="3776760"/>
            <a:ext cx="3495600" cy="290340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3"/>
          <a:stretch/>
        </p:blipFill>
        <p:spPr>
          <a:xfrm>
            <a:off x="1065240" y="933480"/>
            <a:ext cx="4811760" cy="137952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568440" y="298440"/>
            <a:ext cx="79945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N° strati: 3 oppure 5 7 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Spessori commercia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Dimensioni commercial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(240/250/272/295)x1350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000000"/>
                </a:solidFill>
                <a:latin typeface="Arial"/>
              </a:rPr>
              <a:t>Giunti verticali (pareti)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it-IT" sz="1600" spc="-1" strike="noStrike">
                <a:solidFill>
                  <a:srgbClr val="000000"/>
                </a:solidFill>
                <a:latin typeface="Arial"/>
              </a:rPr>
              <a:t>Giunti orizzontali (sola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4320" y="0"/>
            <a:ext cx="324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vola tipo Sistema a Pannel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25280" y="333360"/>
            <a:ext cx="2648160" cy="336240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2784600" y="331920"/>
            <a:ext cx="2460600" cy="339552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3"/>
          <a:stretch/>
        </p:blipFill>
        <p:spPr>
          <a:xfrm>
            <a:off x="5305320" y="0"/>
            <a:ext cx="2586240" cy="342576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4"/>
          <a:srcRect l="0" t="0" r="16535" b="0"/>
          <a:stretch/>
        </p:blipFill>
        <p:spPr>
          <a:xfrm>
            <a:off x="7821720" y="1935000"/>
            <a:ext cx="1322280" cy="155448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5"/>
          <a:stretch/>
        </p:blipFill>
        <p:spPr>
          <a:xfrm>
            <a:off x="6497640" y="5240160"/>
            <a:ext cx="2646360" cy="160200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6"/>
          <a:stretch/>
        </p:blipFill>
        <p:spPr>
          <a:xfrm>
            <a:off x="4497480" y="5411880"/>
            <a:ext cx="1903320" cy="144612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7"/>
          <a:stretch/>
        </p:blipFill>
        <p:spPr>
          <a:xfrm>
            <a:off x="4516560" y="3741840"/>
            <a:ext cx="1635120" cy="166680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8"/>
          <a:stretch/>
        </p:blipFill>
        <p:spPr>
          <a:xfrm>
            <a:off x="0" y="5184720"/>
            <a:ext cx="2527200" cy="167328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9"/>
          <a:stretch/>
        </p:blipFill>
        <p:spPr>
          <a:xfrm>
            <a:off x="2157480" y="4048200"/>
            <a:ext cx="2320920" cy="163836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0" y="3814920"/>
            <a:ext cx="2016000" cy="1099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600" spc="-1" strike="noStrike">
                <a:solidFill>
                  <a:srgbClr val="000000"/>
                </a:solidFill>
                <a:latin typeface="Arial"/>
              </a:rPr>
              <a:t>Copertura a giardino</a:t>
            </a:r>
            <a:r>
              <a:rPr b="0" lang="it-IT" sz="600" spc="-1" strike="noStrike">
                <a:solidFill>
                  <a:srgbClr val="000000"/>
                </a:solidFill>
                <a:latin typeface="Arial"/>
              </a:rPr>
              <a:t> – travi in legno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600" spc="-1" strike="noStrike">
                <a:solidFill>
                  <a:srgbClr val="000000"/>
                </a:solidFill>
                <a:latin typeface="Arial"/>
              </a:rPr>
              <a:t>Peso proprio travi </a:t>
            </a:r>
            <a:r>
              <a:rPr b="0" lang="it-IT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600" spc="-1" strike="noStrike">
                <a:solidFill>
                  <a:srgbClr val="000000"/>
                </a:solidFill>
                <a:latin typeface="Arial"/>
              </a:rPr>
              <a:t>   50 kg/m2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600" spc="-1" strike="noStrike">
                <a:solidFill>
                  <a:srgbClr val="000000"/>
                </a:solidFill>
                <a:latin typeface="Arial"/>
              </a:rPr>
              <a:t>Doppio tavolato</a:t>
            </a:r>
            <a:r>
              <a:rPr b="0" lang="it-IT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600" spc="-1" strike="noStrike">
                <a:solidFill>
                  <a:srgbClr val="000000"/>
                </a:solidFill>
                <a:latin typeface="Arial"/>
              </a:rPr>
              <a:t>   20 kg/m2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600" spc="-1" strike="noStrike" u="sng">
                <a:solidFill>
                  <a:srgbClr val="000000"/>
                </a:solidFill>
                <a:uFillTx/>
                <a:latin typeface="Arial"/>
              </a:rPr>
              <a:t>Guaine + terreno                          180 kg/m2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600" spc="-1" strike="noStrike">
                <a:solidFill>
                  <a:srgbClr val="000000"/>
                </a:solidFill>
                <a:latin typeface="Arial"/>
              </a:rPr>
              <a:t>Tot. permanenti Gk</a:t>
            </a:r>
            <a:r>
              <a:rPr b="1" lang="it-IT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600" spc="-1" strike="noStrike">
                <a:solidFill>
                  <a:srgbClr val="000000"/>
                </a:solidFill>
                <a:latin typeface="Arial"/>
              </a:rPr>
              <a:t> 280 kg/m2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600" spc="-1" strike="noStrike">
                <a:solidFill>
                  <a:srgbClr val="000000"/>
                </a:solidFill>
                <a:latin typeface="Arial"/>
              </a:rPr>
              <a:t>Accidentali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600" spc="-1" strike="noStrike" u="sng">
                <a:solidFill>
                  <a:srgbClr val="000000"/>
                </a:solidFill>
                <a:uFillTx/>
                <a:latin typeface="Arial"/>
              </a:rPr>
              <a:t>(neve – zona 1a, m=0,8 ) </a:t>
            </a:r>
            <a:r>
              <a:rPr b="1" i="1" lang="it-IT" sz="600" spc="-1" strike="noStrike" u="sng">
                <a:solidFill>
                  <a:srgbClr val="000000"/>
                </a:solidFill>
                <a:uFillTx/>
                <a:latin typeface="Arial"/>
              </a:rPr>
              <a:t>Qk</a:t>
            </a:r>
            <a:r>
              <a:rPr b="0" i="1" lang="it-IT" sz="6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i="1" lang="it-IT" sz="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i="1" lang="it-IT" sz="600" spc="-1" strike="noStrike" u="sng">
                <a:solidFill>
                  <a:srgbClr val="000000"/>
                </a:solidFill>
                <a:uFillTx/>
                <a:latin typeface="Arial"/>
              </a:rPr>
              <a:t>120 kg/m2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600" spc="-1" strike="noStrike">
                <a:solidFill>
                  <a:srgbClr val="000000"/>
                </a:solidFill>
                <a:latin typeface="Arial"/>
              </a:rPr>
              <a:t>Totale</a:t>
            </a:r>
            <a:r>
              <a:rPr b="0" lang="it-IT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it-IT" sz="600" spc="-1" strike="noStrike">
                <a:solidFill>
                  <a:srgbClr val="000000"/>
                </a:solidFill>
                <a:latin typeface="Arial"/>
              </a:rPr>
              <a:t>Gk+Qk</a:t>
            </a:r>
            <a:r>
              <a:rPr b="0" lang="it-IT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600" spc="-1" strike="noStrike">
                <a:solidFill>
                  <a:srgbClr val="000000"/>
                </a:solidFill>
                <a:latin typeface="Arial"/>
              </a:rPr>
              <a:t>400 kg/m2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0"/>
          <a:stretch/>
        </p:blipFill>
        <p:spPr>
          <a:xfrm>
            <a:off x="6208560" y="3576600"/>
            <a:ext cx="2935440" cy="15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4140360" y="836640"/>
            <a:ext cx="151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3300"/>
                </a:solidFill>
                <a:latin typeface="Arial"/>
              </a:rPr>
              <a:t>2009/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5840" y="1217520"/>
            <a:ext cx="865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Fondazion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3352680" y="1257480"/>
            <a:ext cx="5727960" cy="497808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343080" y="6189840"/>
            <a:ext cx="865980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VAM s.p.a. Progetto di un fabbricato secondo i principi dell’architettura biologica – Mirandola (MO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Progetto struttura  - Studio Capellar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3"/>
          <a:stretch/>
        </p:blipFill>
        <p:spPr>
          <a:xfrm>
            <a:off x="317520" y="1712880"/>
            <a:ext cx="3111480" cy="183528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4"/>
          <a:stretch/>
        </p:blipFill>
        <p:spPr>
          <a:xfrm>
            <a:off x="343080" y="3840120"/>
            <a:ext cx="3017520" cy="218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4140360" y="836640"/>
            <a:ext cx="151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3300"/>
                </a:solidFill>
                <a:latin typeface="Arial"/>
              </a:rPr>
              <a:t>2009/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5972040" y="1271520"/>
            <a:ext cx="2880000" cy="216072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3"/>
          <a:stretch/>
        </p:blipFill>
        <p:spPr>
          <a:xfrm>
            <a:off x="343080" y="5075280"/>
            <a:ext cx="4760640" cy="1422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74" name="" descr=""/>
          <p:cNvPicPr/>
          <p:nvPr/>
        </p:nvPicPr>
        <p:blipFill>
          <a:blip r:embed="rId4"/>
          <a:stretch/>
        </p:blipFill>
        <p:spPr>
          <a:xfrm>
            <a:off x="5508720" y="3745080"/>
            <a:ext cx="3635280" cy="285876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5"/>
          <a:stretch/>
        </p:blipFill>
        <p:spPr>
          <a:xfrm>
            <a:off x="343080" y="1273320"/>
            <a:ext cx="2879640" cy="216036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6"/>
          <a:stretch/>
        </p:blipFill>
        <p:spPr>
          <a:xfrm>
            <a:off x="3321000" y="1428840"/>
            <a:ext cx="2554200" cy="19159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7"/>
          <a:stretch/>
        </p:blipFill>
        <p:spPr>
          <a:xfrm>
            <a:off x="339840" y="3562200"/>
            <a:ext cx="4892400" cy="14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4140360" y="836640"/>
            <a:ext cx="151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3300"/>
                </a:solidFill>
                <a:latin typeface="Arial"/>
              </a:rPr>
              <a:t>2009/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85840" y="1284120"/>
            <a:ext cx="8601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arich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023840" y="2778120"/>
            <a:ext cx="157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arich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151080" y="2386080"/>
            <a:ext cx="0" cy="12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147840" y="2389320"/>
            <a:ext cx="95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208240" y="3013200"/>
            <a:ext cx="939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156120" y="3649680"/>
            <a:ext cx="952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148280" y="2185920"/>
            <a:ext cx="477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manenti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– Peso della struttura (sempre present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119480" y="3448080"/>
            <a:ext cx="471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cidentali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– (neve, peso delle persone, arredament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419040" y="4633920"/>
            <a:ext cx="6623280" cy="155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4140360" y="836640"/>
            <a:ext cx="151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3300"/>
                </a:solidFill>
                <a:latin typeface="Arial"/>
              </a:rPr>
              <a:t>2009/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85840" y="1284120"/>
            <a:ext cx="3368520" cy="14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Luce, Interass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(luce) = 5.30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(interasse) = 0.80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 fascia rossa è l’area di influenza del travett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3716280" y="1417680"/>
            <a:ext cx="5456160" cy="512280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3"/>
          <a:stretch/>
        </p:blipFill>
        <p:spPr>
          <a:xfrm>
            <a:off x="509760" y="3798720"/>
            <a:ext cx="2300040" cy="21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4140360" y="836640"/>
            <a:ext cx="151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3300"/>
                </a:solidFill>
                <a:latin typeface="Arial"/>
              </a:rPr>
              <a:t>2009/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5840" y="1284120"/>
            <a:ext cx="389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asi di carico perman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990720" y="3311640"/>
            <a:ext cx="157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opertu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940200" y="2509920"/>
            <a:ext cx="0" cy="220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936960" y="2500200"/>
            <a:ext cx="95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997360" y="3546360"/>
            <a:ext cx="188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944880" y="4705200"/>
            <a:ext cx="95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915080" y="2286000"/>
            <a:ext cx="216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tto a fal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921200" y="3330720"/>
            <a:ext cx="21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tto pia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908600" y="4537080"/>
            <a:ext cx="290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tto giardi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4140360" y="836640"/>
            <a:ext cx="151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3300"/>
                </a:solidFill>
                <a:latin typeface="Arial"/>
              </a:rPr>
              <a:t>2009/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0" y="219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022800" y="1459080"/>
            <a:ext cx="2686320" cy="131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Copertura a falde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– travi in legn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Peso proprio travi 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  5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Isolamento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  1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Tegole</a:t>
            </a:r>
            <a:r>
              <a:rPr b="0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   6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Tot. permanenti Gk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 12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000" spc="-1" strike="noStrike">
                <a:solidFill>
                  <a:srgbClr val="000000"/>
                </a:solidFill>
                <a:latin typeface="Arial"/>
              </a:rPr>
              <a:t>Accidental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(neve – zona 1a, m=0,8 ) </a:t>
            </a:r>
            <a:r>
              <a:rPr b="1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Qk</a:t>
            </a:r>
            <a:r>
              <a:rPr b="0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12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Totale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Gk+Qk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24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730760" y="2058840"/>
            <a:ext cx="655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43080" y="1300320"/>
            <a:ext cx="134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tto a fal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>
            <a:off x="534960" y="1627200"/>
            <a:ext cx="3090960" cy="1487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504720" y="3538440"/>
            <a:ext cx="4152960" cy="3151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21" name=""/>
          <p:cNvSpPr/>
          <p:nvPr/>
        </p:nvSpPr>
        <p:spPr>
          <a:xfrm>
            <a:off x="343080" y="3159000"/>
            <a:ext cx="134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tto pia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64040" y="4757760"/>
            <a:ext cx="655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045120" y="4086360"/>
            <a:ext cx="2685960" cy="131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Copertura piana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– travi in legn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Peso proprio travi 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  5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Pacchetto copertura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  5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Ghiaia</a:t>
            </a:r>
            <a:r>
              <a:rPr b="0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 15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Tot. permanenti Gk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 25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000" spc="-1" strike="noStrike">
                <a:solidFill>
                  <a:srgbClr val="000000"/>
                </a:solidFill>
                <a:latin typeface="Arial"/>
              </a:rPr>
              <a:t>Accidental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(neve – zona 1a, m=0,8 ) </a:t>
            </a:r>
            <a:r>
              <a:rPr b="1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Qk</a:t>
            </a:r>
            <a:r>
              <a:rPr b="0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12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Totale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Gk+Qk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37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140360" y="836640"/>
            <a:ext cx="151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3300"/>
                </a:solidFill>
                <a:latin typeface="Arial"/>
              </a:rPr>
              <a:t>2009/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022800" y="1820880"/>
            <a:ext cx="2686320" cy="131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Copertura a giardino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– travi in legn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Peso proprio travi 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  5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Doppio tavolato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  2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Guaine + terreno                          18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Tot. permanenti Gk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 28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000" spc="-1" strike="noStrike">
                <a:solidFill>
                  <a:srgbClr val="000000"/>
                </a:solidFill>
                <a:latin typeface="Arial"/>
              </a:rPr>
              <a:t>Accidental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(neve – zona 1a, m=0,8 ) </a:t>
            </a:r>
            <a:r>
              <a:rPr b="1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Qk</a:t>
            </a:r>
            <a:r>
              <a:rPr b="0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12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Totale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Gk+Qk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40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149800" y="2496960"/>
            <a:ext cx="655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43080" y="1300320"/>
            <a:ext cx="195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tto giardi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333360" y="1779480"/>
            <a:ext cx="4699080" cy="1606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4140360" y="836640"/>
            <a:ext cx="151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3300"/>
                </a:solidFill>
                <a:latin typeface="Arial"/>
              </a:rPr>
              <a:t>2009/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85840" y="1217520"/>
            <a:ext cx="389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asi di carico accident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85840" y="1646280"/>
            <a:ext cx="86580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carichi accidentali in copertura sono riferiti alla neve è cambiano in relazione alle località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ideriamo come città Ferrara, Bari e Bolzan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2"/>
          <a:stretch/>
        </p:blipFill>
        <p:spPr>
          <a:xfrm>
            <a:off x="351000" y="2281320"/>
            <a:ext cx="6592680" cy="419724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/>
          <p:nvPr/>
        </p:nvSpPr>
        <p:spPr>
          <a:xfrm>
            <a:off x="7162920" y="2330280"/>
            <a:ext cx="1981080" cy="11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cidentali nev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rrara 120 Kg/m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lzano 430 Kg/m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i 80 Kg/m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4140360" y="836640"/>
            <a:ext cx="151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3300"/>
                </a:solidFill>
                <a:latin typeface="Arial"/>
              </a:rPr>
              <a:t>2010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233280" y="2033640"/>
            <a:ext cx="1220760" cy="9475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1595520" y="2028960"/>
            <a:ext cx="1190520" cy="9475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2943360" y="2048040"/>
            <a:ext cx="1171440" cy="9331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362240" y="1351080"/>
            <a:ext cx="621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Schema statico di una struttu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191120" y="2022480"/>
            <a:ext cx="42098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e comportamenti statici nelle struttur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rtamento globa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rtamento del pannello nel pia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rtamento del pannello fuori dal pian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5840" y="3191040"/>
            <a:ext cx="206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e evitare tutto ciò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216400" y="5784840"/>
            <a:ext cx="1152720" cy="704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6378480" y="5213160"/>
            <a:ext cx="1952640" cy="1276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5213520" y="4495680"/>
            <a:ext cx="1952280" cy="1276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170840" y="4495680"/>
            <a:ext cx="1152360" cy="704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211720" y="4851360"/>
            <a:ext cx="1152720" cy="704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5207040" y="4841640"/>
            <a:ext cx="0" cy="9284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6370560" y="5562360"/>
            <a:ext cx="0" cy="9284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174080" y="3575160"/>
            <a:ext cx="1152360" cy="704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7169040" y="3565440"/>
            <a:ext cx="0" cy="9288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8332920" y="4286160"/>
            <a:ext cx="0" cy="9288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202440" y="4200480"/>
            <a:ext cx="1152360" cy="704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6197760" y="4190760"/>
            <a:ext cx="0" cy="9284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361280" y="4911480"/>
            <a:ext cx="0" cy="9284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85840" y="3483000"/>
            <a:ext cx="4300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I telai nella figura a destra potrebbero da soli sostenere un solaio, ma…………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85840" y="4038480"/>
            <a:ext cx="43005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Si rende necessario il loro collegamento con delle travi, per le sollecitazioni che provocherebbero il ribaltamento, ma……………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85840" y="4927680"/>
            <a:ext cx="4300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 rende necessario l’aggiunta di controventature per contrastare le azioni orizzontali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rot="3223800">
            <a:off x="5346720" y="4789440"/>
            <a:ext cx="144360" cy="395280"/>
          </a:xfrm>
          <a:custGeom>
            <a:avLst/>
            <a:gdLst>
              <a:gd name="textAreaLeft" fmla="*/ 19080 w 144360"/>
              <a:gd name="textAreaRight" fmla="*/ 125280 w 144360"/>
              <a:gd name="textAreaTop" fmla="*/ 69120 h 395280"/>
              <a:gd name="textAreaBottom" fmla="*/ 286560 h 3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715342"/>
                <a:lnTo>
                  <a:pt x="14521" y="21182"/>
                </a:lnTo>
                <a:lnTo>
                  <a:pt x="21600" y="17280"/>
                </a:lnTo>
                <a:lnTo>
                  <a:pt x="14521" y="12542"/>
                </a:lnTo>
                <a:lnTo>
                  <a:pt x="14521" y="14702"/>
                </a:lnTo>
                <a:arcTo wR="21600" hR="7560" stAng="8084658" swAng="2357907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3300"/>
          </a:solidFill>
          <a:ln w="3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rot="3223800">
            <a:off x="6365880" y="4170240"/>
            <a:ext cx="144360" cy="395280"/>
          </a:xfrm>
          <a:custGeom>
            <a:avLst/>
            <a:gdLst>
              <a:gd name="textAreaLeft" fmla="*/ 19080 w 144360"/>
              <a:gd name="textAreaRight" fmla="*/ 125280 w 144360"/>
              <a:gd name="textAreaTop" fmla="*/ 69120 h 395280"/>
              <a:gd name="textAreaBottom" fmla="*/ 286560 h 3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715342"/>
                <a:lnTo>
                  <a:pt x="14521" y="21182"/>
                </a:lnTo>
                <a:lnTo>
                  <a:pt x="21600" y="17280"/>
                </a:lnTo>
                <a:lnTo>
                  <a:pt x="14521" y="12542"/>
                </a:lnTo>
                <a:lnTo>
                  <a:pt x="14521" y="14702"/>
                </a:lnTo>
                <a:arcTo wR="21600" hR="7560" stAng="8084658" swAng="2357907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3300"/>
          </a:solidFill>
          <a:ln w="3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rot="3223800">
            <a:off x="7305480" y="3554280"/>
            <a:ext cx="144360" cy="395280"/>
          </a:xfrm>
          <a:custGeom>
            <a:avLst/>
            <a:gdLst>
              <a:gd name="textAreaLeft" fmla="*/ 19080 w 144360"/>
              <a:gd name="textAreaRight" fmla="*/ 125280 w 144360"/>
              <a:gd name="textAreaTop" fmla="*/ 69120 h 395280"/>
              <a:gd name="textAreaBottom" fmla="*/ 286560 h 3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715342"/>
                <a:lnTo>
                  <a:pt x="14521" y="21182"/>
                </a:lnTo>
                <a:lnTo>
                  <a:pt x="21600" y="17280"/>
                </a:lnTo>
                <a:lnTo>
                  <a:pt x="14521" y="12542"/>
                </a:lnTo>
                <a:lnTo>
                  <a:pt x="14521" y="14702"/>
                </a:lnTo>
                <a:arcTo wR="21600" hR="7560" stAng="8084658" swAng="2357907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3300"/>
          </a:solidFill>
          <a:ln w="3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6375240" y="4279680"/>
            <a:ext cx="1952640" cy="127620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5210280" y="3568320"/>
            <a:ext cx="1952640" cy="127620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rot="2369400">
            <a:off x="8124480" y="5630400"/>
            <a:ext cx="539640" cy="65160"/>
          </a:xfrm>
          <a:prstGeom prst="leftArrow">
            <a:avLst>
              <a:gd name="adj1" fmla="val 50000"/>
              <a:gd name="adj2" fmla="val 207044"/>
            </a:avLst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040" bIns="-14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rot="2369400">
            <a:off x="7121160" y="6287760"/>
            <a:ext cx="539640" cy="65160"/>
          </a:xfrm>
          <a:prstGeom prst="leftArrow">
            <a:avLst>
              <a:gd name="adj1" fmla="val 50000"/>
              <a:gd name="adj2" fmla="val 207044"/>
            </a:avLst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040" bIns="-14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rot="13010400">
            <a:off x="5008320" y="4291920"/>
            <a:ext cx="539640" cy="65160"/>
          </a:xfrm>
          <a:prstGeom prst="leftArrow">
            <a:avLst>
              <a:gd name="adj1" fmla="val 50000"/>
              <a:gd name="adj2" fmla="val 207044"/>
            </a:avLst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040" bIns="-14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rot="13010400">
            <a:off x="5978160" y="3693240"/>
            <a:ext cx="539640" cy="65160"/>
          </a:xfrm>
          <a:prstGeom prst="leftArrow">
            <a:avLst>
              <a:gd name="adj1" fmla="val 50000"/>
              <a:gd name="adj2" fmla="val 207044"/>
            </a:avLst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040" bIns="-14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6373800" y="4923000"/>
            <a:ext cx="977760" cy="155232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7364520" y="4284360"/>
            <a:ext cx="955440" cy="155268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369120" y="5559480"/>
            <a:ext cx="993600" cy="29196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353360" y="4911840"/>
            <a:ext cx="984240" cy="29844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5208480" y="4204800"/>
            <a:ext cx="978120" cy="155268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6199200" y="3567240"/>
            <a:ext cx="955800" cy="155232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203800" y="4842000"/>
            <a:ext cx="993960" cy="29196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188040" y="4194000"/>
            <a:ext cx="984240" cy="29880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85840" y="5657760"/>
            <a:ext cx="43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esso la nostra struttura è 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" dur="3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6" dur="3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7" dur="3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8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" dur="6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0" dur="6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1" dur="6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2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" dur="3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5" dur="3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6" dur="3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7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8" dur="6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9" dur="6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0" dur="6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1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2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" dur="3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34" dur="3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35" dur="3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6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7" dur="6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8" dur="6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9" dur="6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0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5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8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3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3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3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3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3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3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3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3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3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3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3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3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6" dur="2000" fill="hold"/>
                                        <p:tgtEl>
                                          <p:spTgt spid="7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8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8" dur="2000" fill="hold"/>
                                        <p:tgtEl>
                                          <p:spTgt spid="7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89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0" dur="2000" fill="hold"/>
                                        <p:tgtEl>
                                          <p:spTgt spid="7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9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2" dur="2000" fill="hold"/>
                                        <p:tgtEl>
                                          <p:spTgt spid="7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7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0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3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6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9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2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5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1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3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6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2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8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/>
          <p:nvPr/>
        </p:nvSpPr>
        <p:spPr>
          <a:xfrm>
            <a:off x="4140360" y="836640"/>
            <a:ext cx="151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3300"/>
                </a:solidFill>
                <a:latin typeface="Arial"/>
              </a:rPr>
              <a:t>2009/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85840" y="1217520"/>
            <a:ext cx="389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arico sism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1573200" y="1744560"/>
            <a:ext cx="631368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4140360" y="836640"/>
            <a:ext cx="151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3300"/>
                </a:solidFill>
                <a:latin typeface="Arial"/>
              </a:rPr>
              <a:t>2009/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353880" y="2352600"/>
            <a:ext cx="8634600" cy="322416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285840" y="1690560"/>
            <a:ext cx="865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 u="sng">
                <a:solidFill>
                  <a:srgbClr val="000000"/>
                </a:solidFill>
                <a:uFillTx/>
                <a:latin typeface="Arial"/>
              </a:rPr>
              <a:t>Tabella di predimensionamen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4140360" y="836640"/>
            <a:ext cx="151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3300"/>
                </a:solidFill>
                <a:latin typeface="Arial"/>
              </a:rPr>
              <a:t>2009/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85840" y="1690560"/>
            <a:ext cx="865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Vediamo come in base ai riferimenti delle città considerate, si ottiene il predimensionamento di una copertura a due fal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263520" y="2109960"/>
            <a:ext cx="8510760" cy="40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85840" y="1284120"/>
            <a:ext cx="280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ostruzioni in leg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90560" y="3311640"/>
            <a:ext cx="267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ipologia costrutti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330800" y="2509920"/>
            <a:ext cx="0" cy="220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327560" y="2500200"/>
            <a:ext cx="95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387600" y="3546360"/>
            <a:ext cx="1887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35480" y="4705200"/>
            <a:ext cx="95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305320" y="2286000"/>
            <a:ext cx="216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Platform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311800" y="3378240"/>
            <a:ext cx="21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vi e pilast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299200" y="4537080"/>
            <a:ext cx="290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nnelli portan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140360" y="836640"/>
            <a:ext cx="151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3300"/>
                </a:solidFill>
                <a:latin typeface="Arial"/>
              </a:rPr>
              <a:t>2010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85840" y="1282680"/>
            <a:ext cx="151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 u="sng">
                <a:solidFill>
                  <a:srgbClr val="ff3300"/>
                </a:solidFill>
                <a:uFillTx/>
                <a:latin typeface="Arial"/>
              </a:rPr>
              <a:t>Platform fra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547560" y="2484360"/>
            <a:ext cx="3934080" cy="121932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285840" y="1712880"/>
            <a:ext cx="865800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ruttura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mposta da montanti di dimensioni 60mmx120mm, posizionati ad interasse di 60cm assemblati da pannelli OSB spessore 25m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aratteristica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Realizzazione di spazi con luci inferiori a 6 m, schema tipologico vincolato a piante squadra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63480" y="3622680"/>
            <a:ext cx="3111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ticolare dello schema struttura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 rot="60000">
            <a:off x="576360" y="4057560"/>
            <a:ext cx="7547040" cy="25560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527040" y="6356520"/>
            <a:ext cx="31114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rie tipologie di pian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140360" y="836640"/>
            <a:ext cx="151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3300"/>
                </a:solidFill>
                <a:latin typeface="Arial"/>
              </a:rPr>
              <a:t>2010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947880" y="1538280"/>
            <a:ext cx="3228840" cy="299088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708120" y="47149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ertura (ingressi, finest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867200" y="6210360"/>
            <a:ext cx="3895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ccato assonometrico di una struttu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4952880" y="1257480"/>
            <a:ext cx="3753000" cy="49338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4140360" y="836640"/>
            <a:ext cx="151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3300"/>
                </a:solidFill>
                <a:latin typeface="Arial"/>
              </a:rPr>
              <a:t>2010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85840" y="1330200"/>
            <a:ext cx="151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3300"/>
                </a:solidFill>
                <a:uFillTx/>
                <a:latin typeface="Arial"/>
              </a:rPr>
              <a:t>Travi e pilastr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85840" y="1779480"/>
            <a:ext cx="86580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ruttura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mposta da pilastri di dimensione 20cmx20cm, da posizionare in base alle esigenze progettuali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aratteristica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Realizzazione di ampi spazi senza vincoli di luci, libertà progettuale nella forma tipologic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5334120" y="2540160"/>
            <a:ext cx="3438360" cy="22939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343080" y="2300400"/>
            <a:ext cx="4873320" cy="429084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4140360" y="836640"/>
            <a:ext cx="151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3300"/>
                </a:solidFill>
                <a:latin typeface="Arial"/>
              </a:rPr>
              <a:t>2010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233280" y="1206360"/>
            <a:ext cx="4469040" cy="523728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4780080" y="3535200"/>
            <a:ext cx="4128840" cy="261936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5129280" y="1265400"/>
            <a:ext cx="3551040" cy="223812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4848120" y="6068880"/>
            <a:ext cx="429588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 u="sng">
                <a:solidFill>
                  <a:srgbClr val="000000"/>
                </a:solidFill>
                <a:uFillTx/>
                <a:latin typeface="Arial"/>
              </a:rPr>
              <a:t>Cognento (MO): Sala condominia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800" spc="-1" strike="noStrike">
                <a:solidFill>
                  <a:srgbClr val="000000"/>
                </a:solidFill>
                <a:latin typeface="Arial"/>
              </a:rPr>
              <a:t>Progetto struttura  - Studio Capellar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140360" y="836640"/>
            <a:ext cx="151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3300"/>
                </a:solidFill>
                <a:latin typeface="Arial"/>
              </a:rPr>
              <a:t>2010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6219720" y="260280"/>
            <a:ext cx="2635200" cy="63180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4848120" y="6068880"/>
            <a:ext cx="429588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San Giovanni In Persiceto (PO): Ampliamento civile abitazio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Progetto struttura  - Studio Capellar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4648320" y="760320"/>
            <a:ext cx="3987720" cy="378000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4552920" cy="28116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4"/>
          <a:stretch/>
        </p:blipFill>
        <p:spPr>
          <a:xfrm>
            <a:off x="0" y="2760840"/>
            <a:ext cx="4560840" cy="251604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5"/>
          <a:stretch/>
        </p:blipFill>
        <p:spPr>
          <a:xfrm>
            <a:off x="0" y="5243400"/>
            <a:ext cx="1995480" cy="161460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6"/>
          <a:stretch/>
        </p:blipFill>
        <p:spPr>
          <a:xfrm>
            <a:off x="2006640" y="5162400"/>
            <a:ext cx="2511360" cy="16956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7"/>
          <a:stretch/>
        </p:blipFill>
        <p:spPr>
          <a:xfrm>
            <a:off x="6675480" y="4057560"/>
            <a:ext cx="2311200" cy="20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85840" y="1330200"/>
            <a:ext cx="575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3300"/>
                </a:solidFill>
                <a:uFillTx/>
                <a:latin typeface="Arial"/>
              </a:rPr>
              <a:t>Pannelli portanti XLAM Legno lamellare incrocia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85840" y="1779480"/>
            <a:ext cx="865800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ruttura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Pannelli composti  da  vari strati di tavole in legno massiccio messi insieme con colle sintetiche, da posizionare in base alle esigenze progettuali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aratteristica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Realizzazione di ampi spazi senza vincoli di luci, libertà progettuale nella forma tipologic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361800" y="2655720"/>
            <a:ext cx="4903920" cy="390528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3"/>
          <a:stretch/>
        </p:blipFill>
        <p:spPr>
          <a:xfrm>
            <a:off x="5365800" y="2847960"/>
            <a:ext cx="3638520" cy="301140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4140360" y="836640"/>
            <a:ext cx="151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3300"/>
                </a:solidFill>
                <a:latin typeface="Arial"/>
              </a:rPr>
              <a:t>2010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4T09:26:41Z</dcterms:created>
  <dc:creator>OEM</dc:creator>
  <dc:description/>
  <dc:language>en-US</dc:language>
  <cp:lastModifiedBy>Capellari Luca</cp:lastModifiedBy>
  <dcterms:modified xsi:type="dcterms:W3CDTF">2010-10-26T16:01:57Z</dcterms:modified>
  <cp:revision>23</cp:revision>
  <dc:subject/>
  <dc:title>Diapositiva 1</dc:title>
</cp:coreProperties>
</file>