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391F-CEB2-4C80-9448-8F216594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F758-91D8-4801-95ED-367F27BF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4209-E195-4500-8A78-479177D60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6EFA-6030-4719-B89D-8F8D12D5B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0C36-BB9B-45B7-A627-F2256A13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B6F9-8B56-4C59-9D3E-3B6D4FDC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2006-86D3-4282-959A-BA2C58DF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2100-9E48-4BE9-B141-51806CCA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1B3D-D545-4B42-BBAA-7C0C40DC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0A97-2BA7-48EA-A9BD-0C71C1AF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5805-5E95-4D6C-8EEE-37DCF551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7104-239F-446B-974C-DD070C5D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4C63-79E3-4877-BCA1-24CB1A42017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2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3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4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5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6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5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                       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5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2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1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1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7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8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5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0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1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2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3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5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6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7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8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9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0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1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2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3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4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5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6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7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8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9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0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2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3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4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6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8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9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0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2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3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4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5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6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1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9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Line 11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travetto-in-legno-lamellare-159268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3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5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4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3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4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6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3" name="Picture 39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Text Box 40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2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3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Utente</cp:lastModifiedBy>
  <dcterms:modified xsi:type="dcterms:W3CDTF">2016-10-05T16:33:48Z</dcterms:modified>
  <cp:revision>27</cp:revision>
  <dc:subject/>
  <dc:title>Diapositiva 1</dc:title>
</cp:coreProperties>
</file>