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CEE-76E5-4214-A611-909731A8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015-3B70-4749-B034-D022AEC8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20A-6373-4A8B-A8D8-ADFCD843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7BC-7937-424D-8A96-6B227382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C7CB-44ED-42DC-99FB-98F80E57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08E-4BBB-4906-8D9F-0AEDCAA5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21D-EA63-4DEE-A7CE-F8DA9F4C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A81-C2FC-4877-B61D-6F45014A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FB7-BEBD-49F6-9275-D9393A09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C2A-ED60-4571-91D1-9AC9D2A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557-3DA3-466B-A110-D37F7FAF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C59-3B74-4AE7-AFE2-0ECC81B4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2DC6-EABF-4672-AE6F-8BE33319E53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5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6-10-05T16:33:48Z</dcterms:modified>
  <cp:revision>27</cp:revision>
  <dc:subject/>
  <dc:title>Diapositiva 1</dc:title>
</cp:coreProperties>
</file>