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F512-36C6-44E2-B4DE-3911F40F5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E15-72D7-4A73-A54A-F6F7CC04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5D6B-6D3F-4489-9C81-7B2E8884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3E22-B484-41E7-9052-3689944D6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528C-73F7-481E-B9E1-58C9B5D2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57D-8138-469C-801E-A115CFE2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3FB1-604A-4138-945F-D0146D456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FC9-3F00-44CA-885D-00670558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6A09-5181-4574-910A-78E226C9A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C353-C771-46E6-A914-93F0F6333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15B-1887-4129-9672-110C7BD9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BE4-1AA7-423F-8C34-412E0837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C5B9-D075-42D5-9043-A09CBD9CC8F8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13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9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20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21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22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23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5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6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7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8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9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31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32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3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4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6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7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8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2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3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4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6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8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9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0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2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3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4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5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6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1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it-IT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5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3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4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6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59" name="Picture 39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0" name="Text Box 40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                        1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3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5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1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2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1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9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10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88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3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4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5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95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3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7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24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3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4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7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Line 11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6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travetto-in-legno-lamellare-159268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2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4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4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9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8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9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40" name="Line 7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3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4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5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Utente</cp:lastModifiedBy>
  <dcterms:modified xsi:type="dcterms:W3CDTF">2014-10-08T18:05:42Z</dcterms:modified>
  <cp:revision>26</cp:revision>
  <dc:subject/>
  <dc:title>Diapositiva 1</dc:title>
</cp:coreProperties>
</file>